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058-D7D3-454C-AF75-21F347E6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083-91E3-401A-BE7A-4AA00293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D61-6C96-4446-8569-A0CFC99C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6EF-FE80-44DD-84F3-FC9358C6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1BC-66FB-4C4A-92C5-4A4F85A5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602B-81FF-4E69-A0D9-84A4627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2E12-B123-4EFE-BBE4-D98165E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2FE7-1ADE-4D61-926A-1B76379A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11D-B7E5-442A-BEFD-A758F08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CFAF-6BA4-4105-915D-AD045A8E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50DE-4296-4399-A6CA-CCB8690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087-F9A8-4547-9D5A-5367C0F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778A-E2DD-453B-A7F8-74394D4B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A532-813E-4258-BF31-FDA8623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E6BB-BA15-46A1-BF14-8DD2A97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947-EBBA-4CB2-BF3A-2A57609F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F8FC-6DFC-4CEE-A8B5-7007829F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971-509E-4D7D-ADC9-CB5B2A07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8B8-7BE0-4774-9AF9-0ED98C31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533-B376-4499-B08C-A5404727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95D-F0B9-4B3B-8132-126ED156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D8D-9578-4B05-B2CA-8277E6E8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3CD-09D8-45BA-8E98-6E5EE77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060-ED8E-4775-8EDE-64CD211B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86B-62CA-43DE-A90E-1F41D61B86A5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655D-C2D0-4AE0-AF21-409BCB210FED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zpieczeństwo platformy 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160" y="2923920"/>
            <a:ext cx="3786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ian Ciur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otr Jakóbczyk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2087280" cy="1020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99"/>
                </a:solidFill>
                <a:latin typeface="Courier New"/>
              </a:rPr>
              <a:t>Zawansowane techniki programowania .N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Uniwersytet Wrocławski 2005/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11 października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krakowanie” nie zabezpieczonego podzespoł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bezpieczenie podzespołu za pomocą silnej nazw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generowanie kluczy RSA: sn –k &lt;filena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dpisanie podzespołu za pomocą atrybutów i ponowna kompilacj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óba „skrakowania” zabezpieczonego podzespołu (nieudana </a:t>
            </a:r>
            <a:r>
              <a:rPr b="0" lang="pl-P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Podpisywanie opóźnione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6666"/>
                </a:solidFill>
                <a:latin typeface="Arial"/>
              </a:rPr>
              <a:t>delay signing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zwala zabezpieczyć klucz prywat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musza CLR do traktowania „częściowo” podpisanego podzespołu tak jak podzespół w pełni podpis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ekstrahowanie klucza publicz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tawienie atrybut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ejestracja komponentu w syste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860640"/>
            <a:ext cx="7561080" cy="5050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p klucz.snk klucz_publiczny.s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94172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assembly: AssemblyDelaySign(true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02136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Vr assembly.dll, bc195845c354634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Global Assembly Cach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C – Globalne repozytorium podzespołó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żna tam umieszczać tylko podzespoły posiadające silną nazw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ktowane jest jako repozytorium zaufane – teoretycznie haker z uprawnieniami administratora może podmienić znajdujący się tam podzespó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= cyfrowa sygnatur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stawowa opcja jeśli chodzi o kontrolę wersji komponen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warantuje tożsamość podzespoł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ymaga udziału firm trzeci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spiera infrastruktury klucza publicznego (PK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ruchamianie aplikacji w środowisku .NE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Środowisko uruchomieniowe CL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ogramy są kompilowane do MSIL-a oraz metadanych opisujących typ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oły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 są ładowane do pamięci w momencie uruchomienia apl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mpilacja do kodu natywnego na poziomie metod przez kompilator JIT (just-in-tim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869000"/>
            <a:ext cx="1656000" cy="100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5229360"/>
            <a:ext cx="172728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C#  V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emerle  J#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5229360"/>
            <a:ext cx="17269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S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+ metad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229360"/>
            <a:ext cx="17287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atyw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5300640"/>
            <a:ext cx="71892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5300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 jeszcze dzieje się podczas uruchamiania aplikacji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zęścią kompilacji JIT jest weryf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eryfikacja MSIL oraz metadany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prawność wygenerowanego ko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ostęp do pamięci i metod tylko poprzez poprawnie zdefiniowane typ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Zgodność typów (typy referencyjne wskazują na obiekty odpowiednich typó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konywanie tylko zdefiniowanych operacji na obiektach danego typ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Implementacja interfejsó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Kontrola dostępu do pól i metod (prywatne, publicz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ylko kod zarządzany podleg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ryfikacja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dział kodu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In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nie da się wygenerować kodu natyw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istnieje kod natywn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Type-safe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 spełnia wszystkie wymagania typow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erifiabl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– dodatkowe restrykcj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o jeśli podczas kompilacji JIT metoda nie przejdzie pomyślnie weryfikacji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c się nie dzieje jeśli podzespół ma uprawnienia do pominięci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 przeciwnym wypadku generowany jest kod rzucający wyjąt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eryfikacja metadanych podzespołów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 (C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Bezpieczeństwo oparte na uprawnieniach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echanizm C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wala na ustalenie uprawnień dla określonych podzespołów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Uprawnienia te mogą być bardzo precyzyjnie dobrane w zależności m.in. o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chodzenia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ilnego podpi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artości funkcji haszujące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świadec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Świadect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Evidence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nformacje o podzespole przedstawiane środowisku uruchomieniowemu CLR podczas jego ład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rzykłady dowodów przedstawianych przez aplikacj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URL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Hash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trong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i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Applicatio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Directory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ublisher Certifica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estawy uprawni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estawy uprawni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Set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efiniują dostęp do różnych zasobów syste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Rodzaje zdefiniowanych zestawów uprawnień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alIntr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ry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łasne zestawy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grupy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Grupy kodu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Code Group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ąże świadectwo z zestawem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m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grup kodu, do których należy dana apl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16000" y="4076640"/>
            <a:ext cx="7487640" cy="2448360"/>
            <a:chOff x="1116000" y="4076640"/>
            <a:chExt cx="7487640" cy="2448360"/>
          </a:xfrm>
        </p:grpSpPr>
        <p:cxnSp>
          <p:nvCxnSpPr>
            <p:cNvPr id="161" name="_s18461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294880" y="5084280"/>
              <a:ext cx="350640" cy="122220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4" name="_s18459"/>
            <p:cNvCxnSpPr>
              <a:stCxn id="165" idx="0"/>
              <a:endCxn id="163" idx="2"/>
            </p:cNvCxnSpPr>
            <p:nvPr/>
          </p:nvCxnSpPr>
          <p:spPr>
            <a:xfrm flipH="1" flipV="1" rot="5400000">
              <a:off x="4093560" y="5104800"/>
              <a:ext cx="350640" cy="118116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6" name="_s1844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979240" y="3507840"/>
              <a:ext cx="345240" cy="258552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9" name="_s18443"/>
            <p:cNvCxnSpPr>
              <a:stCxn id="163" idx="0"/>
              <a:endCxn id="168" idx="2"/>
            </p:cNvCxnSpPr>
            <p:nvPr/>
          </p:nvCxnSpPr>
          <p:spPr>
            <a:xfrm flipV="1">
              <a:off x="4859640" y="4628160"/>
              <a:ext cx="3600" cy="345240"/>
            </a:xfrm>
            <a:prstGeom prst="bentConnector2">
              <a:avLst/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70" name="_s18442"/>
            <p:cNvCxnSpPr>
              <a:stCxn id="171" idx="0"/>
              <a:endCxn id="168" idx="2"/>
            </p:cNvCxnSpPr>
            <p:nvPr/>
          </p:nvCxnSpPr>
          <p:spPr>
            <a:xfrm flipH="1" flipV="1" rot="5400000">
              <a:off x="3394800" y="3508560"/>
              <a:ext cx="345240" cy="258480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sp>
          <p:nvSpPr>
            <p:cNvPr id="168" name="_s18438"/>
            <p:cNvSpPr/>
            <p:nvPr/>
          </p:nvSpPr>
          <p:spPr>
            <a:xfrm>
              <a:off x="3700080" y="407664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85e1e1"/>
            </a:solidFill>
            <a:ln w="3816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All Cod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Nothing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18439"/>
            <p:cNvSpPr/>
            <p:nvPr/>
          </p:nvSpPr>
          <p:spPr>
            <a:xfrm>
              <a:off x="111600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My Computer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FullTrus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8440"/>
            <p:cNvSpPr/>
            <p:nvPr/>
          </p:nvSpPr>
          <p:spPr>
            <a:xfrm>
              <a:off x="37000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8441"/>
            <p:cNvSpPr/>
            <p:nvPr/>
          </p:nvSpPr>
          <p:spPr>
            <a:xfrm>
              <a:off x="62848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Local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8458"/>
            <p:cNvSpPr/>
            <p:nvPr/>
          </p:nvSpPr>
          <p:spPr>
            <a:xfrm>
              <a:off x="2626560" y="5870520"/>
              <a:ext cx="210132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microsoft.com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MS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8460"/>
            <p:cNvSpPr/>
            <p:nvPr/>
          </p:nvSpPr>
          <p:spPr>
            <a:xfrm>
              <a:off x="4993920" y="5870520"/>
              <a:ext cx="217080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ii.uni.wroc.pl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IUniWroc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poziomy zabezpiecz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iomy zabezpiecz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ecurity Policy Level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Application Dom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częścią wspóln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wynikających z poszczególnych poziomó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arządzanie polis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sola MM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stęp także z poziomu narzędzi administracyjnych panelu ster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ładowanie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 się dzieje po załadowaniu podzespołu przez CL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dzespoł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ieranie świadectw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lis bezpieczeństw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zyznawanie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yfikacja kodu (podczas kompilacji JI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ykonanie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– operacja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Stack W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05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prawdzanie poziomu uprawnień każdej metody na stosie wywoła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pobiega atakom typu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„luring attack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peracja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2421000"/>
            <a:ext cx="3816360" cy="4248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248000"/>
              <a:gd name="textAreaBottom" fmla="*/ 4061880 h 424800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The Call Sta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2997360"/>
            <a:ext cx="3024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on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294080"/>
            <a:ext cx="2448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5589720"/>
            <a:ext cx="338436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NET Framework Assemb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443640" y="3718080"/>
            <a:ext cx="1655640" cy="576000"/>
            <a:chOff x="6443640" y="3718080"/>
            <a:chExt cx="1655640" cy="576000"/>
          </a:xfrm>
        </p:grpSpPr>
        <p:sp>
          <p:nvSpPr>
            <p:cNvPr id="186" name=""/>
            <p:cNvSpPr/>
            <p:nvPr/>
          </p:nvSpPr>
          <p:spPr>
            <a:xfrm>
              <a:off x="7236000" y="3718080"/>
              <a:ext cx="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3640" y="3862080"/>
              <a:ext cx="1655640" cy="286920"/>
            </a:xfrm>
            <a:prstGeom prst="flowChartTerminator">
              <a:avLst/>
            </a:prstGeom>
            <a:solidFill>
              <a:srgbClr val="99c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43640" y="5013360"/>
            <a:ext cx="1655640" cy="576360"/>
            <a:chOff x="6443640" y="5013360"/>
            <a:chExt cx="1655640" cy="576360"/>
          </a:xfrm>
        </p:grpSpPr>
        <p:sp>
          <p:nvSpPr>
            <p:cNvPr id="189" name=""/>
            <p:cNvSpPr/>
            <p:nvPr/>
          </p:nvSpPr>
          <p:spPr>
            <a:xfrm>
              <a:off x="7236000" y="5013360"/>
              <a:ext cx="0" cy="57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3640" y="5158080"/>
              <a:ext cx="1655640" cy="287280"/>
            </a:xfrm>
            <a:prstGeom prst="flowChartTerminator">
              <a:avLst/>
            </a:prstGeom>
            <a:solidFill>
              <a:srgbClr val="99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3717720"/>
            <a:ext cx="1366920" cy="1871640"/>
            <a:chOff x="4643280" y="3717720"/>
            <a:chExt cx="1366920" cy="1871640"/>
          </a:xfrm>
        </p:grpSpPr>
        <p:sp>
          <p:nvSpPr>
            <p:cNvPr id="192" name=""/>
            <p:cNvSpPr/>
            <p:nvPr/>
          </p:nvSpPr>
          <p:spPr>
            <a:xfrm flipV="1">
              <a:off x="5724360" y="3717720"/>
              <a:ext cx="0" cy="18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3280" y="4365720"/>
              <a:ext cx="1366920" cy="574560"/>
            </a:xfrm>
            <a:prstGeom prst="flowChartTerminator">
              <a:avLst/>
            </a:prstGeom>
            <a:solidFill>
              <a:srgbClr val="33cc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ermiss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43280" y="5157720"/>
            <a:ext cx="2449800" cy="1557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ustalanie uprawnien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Framework umożliwia programiście sterowanie uprawnieniami kodu na dwa sposo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mpe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wywoływanie odpowiednich met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umieszczanie odpowiednich atrybutów przed metodami oraz klasa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nterfejs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Per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peracje na zestawach uprawnień: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Union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ntersect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sSubse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y dziedziczące z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CodeAccessPermission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Przykłady: </a:t>
            </a:r>
            <a:br>
              <a:rPr sz="1600"/>
            </a:b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FileIO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Security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flectionPermis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strzeń nazw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System.Security.Per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ażniejsze operacj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mand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PermitOnl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PermitOnl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2421000"/>
            <a:ext cx="7344000" cy="4103640"/>
          </a:xfrm>
          <a:prstGeom prst="roundRect">
            <a:avLst>
              <a:gd name="adj" fmla="val 32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atic void Main(string[] arg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 p = new FileIOPermission(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Access.Write, "D:\\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p.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reamWriter sw =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new StreamWriter("D:\\test.tx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WriteLine("TES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.Revert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naczenie bezpieczeńs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ezpieczeństwo w systemie Wind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ażdy proces otrzymuję własną tożsamość i uprawnienia oparte o kontekst danego użytkow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odel ten nie jest efektywny z wielu względó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łośliwy” kod może łatwo obejść ograniczenia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 mamy możliwości kontroli całego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óżne kawałki kodu pochodzą ze środowisk o różnych poziomach uprzywilejowa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Atrybuty (klasy) dziedziczące z </a:t>
            </a:r>
            <a:r>
              <a:rPr b="1" lang="pl-PL" sz="2400" spc="-1" strike="noStrike">
                <a:solidFill>
                  <a:srgbClr val="003366"/>
                </a:solidFill>
                <a:latin typeface="Courier New"/>
              </a:rPr>
              <a:t>CodeAccessSecurityAttribu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rzykłady: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FileIO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Reflection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PermissionSetAttribu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cje na różnych poziom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ół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class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etod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method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 zależności od działania inny moment sprawdzenia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42920" y="2637000"/>
          <a:ext cx="7693200" cy="3456000"/>
        </p:xfrm>
        <a:graphic>
          <a:graphicData uri="http://schemas.openxmlformats.org/drawingml/2006/table">
            <a:tbl>
              <a:tblPr/>
              <a:tblGrid>
                <a:gridCol w="3097440"/>
                <a:gridCol w="2376360"/>
                <a:gridCol w="22194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claration of security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me of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rgets support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Link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ust-in-time compil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Inheritance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ad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ssert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n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PermitOnl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Minimu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Option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Refuse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2421000"/>
            <a:ext cx="7344000" cy="4176720"/>
          </a:xfrm>
          <a:prstGeom prst="roundRect">
            <a:avLst>
              <a:gd name="adj" fmla="val 304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Assert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lass Class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1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1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ny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2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2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mand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WriteFile(string f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// zapis na dysk D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CAS – atrybuty 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Permission Reques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Minimum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Jeżeli podzespół nie ma wyspecyfikowanych uprawnień nie ładuj go i wyrzuć wyjątek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Optiona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Załaduj podzespół mimo, że nie posiada on wyspecyfikowanych tutaj uprawnień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Refus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Nie przyznawaj podzespołowi tych uprawnień mimo, że wynikają one z ustawień bezpieczeństw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508640"/>
            <a:ext cx="7344000" cy="2087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UIPermissionAttribut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Minimum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Window=UIPermissionWindow.SafeSubWindows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FileIOPermissionAttribu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Optional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All="C:\\"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DEMO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-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AllowPartiallyTrustedCal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myślnie podzespoły podpisane silną nazwą mogą być wywoływane wyłącznie przez podzespoły z upr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do podzespołu atrybutu APTC umożliwia użycie podzespołu przez częściowo zaufane podzespoł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atrybutu APTC powoduje nie dodawanie domyślnie sprawdzenia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w kontekście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Link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5589720"/>
            <a:ext cx="7561440" cy="86184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[assembly: AllowPartiallyTrustedCaller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 Trust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ększość kodu zarządzanego uruchamiana jest w trybie „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mplikacje tego faktu mogą być bardzo </a:t>
            </a:r>
            <a:r>
              <a:rPr b="1" lang="pl-PL" sz="2000" spc="-1" strike="noStrike">
                <a:solidFill>
                  <a:srgbClr val="ff3300"/>
                </a:solidFill>
                <a:latin typeface="Arial"/>
              </a:rPr>
              <a:t>niebezpiecz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laczego uruchamiamy kod z up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du niezarządza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mponentów 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możność użycia ODBC lub Ole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pora ilość bibliotek .NET nie posiada atrybutu APTC 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(AllowPartiallyTrustedCall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ompilacja kodu z przełącznikiem /unsafe powoduję dodanie flagi pozwalającej środowisku uruchomieniowemu CLR na ominięcie weryfikacji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4149720"/>
            <a:ext cx="7561080" cy="244800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using System.Security.Permissions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[assembly: SecurityPermission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SecurityAction.RequestMinimum,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Flags=SecurityPermissionFlag.SkipVerification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unsafe{ ...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ożliwość wykorzystania kodu „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unsaf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” daje wiele możliwości, ale powoduje wiele zagroże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kaźniki umożliwiaj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ostęp do prywatnych pól i metod obiektó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zanie” po pamię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czytanie pamięci całego proce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pełnienie bufor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buffer overflow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iblioteki .NET Framework wykorzystują wskaźn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zy prywatne pola i metody są naprawdę prywat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Środowisko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+ refleks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równanie bezpieczeństwa platform Java i .N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2941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ziury znalezione w systemie zabezpieczeń wirtualnej maszyny Javy (od roku 1996) oraz .NET-u (od roku 2002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600360" y="2565360"/>
            <a:ext cx="5543640" cy="330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Architektura systemu zabezpieczeń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2403360"/>
            <a:ext cx="7129440" cy="445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JVML vs MSI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 bezpieczeństwo kodu na niskim poziomie w obu platformach odpowiada weryfik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iększa złożoność instrukcji bytecodu JAVY utrudnia utworzenie bezbłędnego weryfika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zykłady kłopotliwych instrukcj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woływanie funkcji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worzenie obiektów: new, dup, 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bsługa wyjątków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js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Pozwolen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ie platformy korzystają z polis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posiada więcej, bardziej szczegółowych pozwoleń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permission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4365720"/>
          <a:ext cx="7343640" cy="225108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zytanie, pisanie, wykonanie, usuwanie plikó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pisanie (</a:t>
                      </a:r>
                      <a:r>
                        <a:rPr b="0" i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end</a:t>
                      </a: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stęp do informacji na ścież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rak oddzielnych pozwoleń (append=writ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Append, PathDiscovery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2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Zasady zabezpieczeń w czasie wykonywania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policies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a środowiska umożliwiają modyfikację zasad poprzez tworzenie nowych pol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258920" y="3573360"/>
          <a:ext cx="6985080" cy="207972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sumę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część wspólną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Ładowanie początkowe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Bootstrapping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żywa zaufanego katalogu CLASSP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ufa silnie podpisanym podzespołom z GAC-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ymuszenie uprawnień 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6666"/>
                </a:solidFill>
                <a:latin typeface="Arial"/>
              </a:rPr>
              <a:t>Policy enforcement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Java pozwala na zmianę obiektu kontrolującego bezpieczeństwo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(można zrobić tak: securityManager = null;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nie pozwala na używanie własnych menadżerów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a środowiska używają operacji StackWalk aby sprawdzić uprawnienia wszystkich wywołań na sto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i .NET mają podobne cele bezpieczeństwa oraz mechanizmy zabezpieczają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skorzystał z doświadczeń J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trzymuje kompatybilność z wcześniejszymi źle zaprojektowanymi wersjam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sum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technologii COM używane są identyfikatory GUID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Globally Unique IDentifier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 do nazywania  klas, interfejsów, bibliotek typów, it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zystkie identyfikatory GUID były zapamiętywane w rejestrze co powodowało różne problem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ZIĘKUJEMY ZA UWAG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Arial"/>
              </a:rPr>
              <a:t>Pytania ??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praszamy na spotk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rupy.NET UW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Arial"/>
              </a:rPr>
              <a:t>www.codeguru.p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808000" cy="137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platformie .NET do zapewnienia globalnie unikalnej nazwy podzespołu używana jest silna naz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ong nam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miast losowego numeru GUID o długości 128 bit (16 bajtów) wykorzystano algorytm RSA o sile 1024 bitów (128 bajtów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.NET Framework 2.0 możliwość generacji kluczy o długości do 16384 bi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Kryptografia asymetryczna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e RSA generowane są w parach – klucz prywatny i klucz publiczn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rywatny powinien być najbardziej strzeżoną tajemnic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ubliczny może być dystrybuowany bez oba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e jest możliwe „odgadnięcie” klucza prywatnego na podstawie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ublicznym mogą być odszyfrowane tylko za pomocą klucza prywat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rywatnym mogą być odszyfrowane tylko za pomocą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lety podpisania podzespołu silną nazw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warancja unikalnej nazw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wers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integralnoś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 podpisywania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0" y="2852640"/>
            <a:ext cx="388764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Obliczanie wartości funkcji haszującej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Użycie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rywat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 do zaszyfrowania wartości funkcji haszujące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zaszyfrowanej wartości do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do podzespołu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ublicz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71640" y="2421000"/>
            <a:ext cx="2303280" cy="1079280"/>
            <a:chOff x="971640" y="2421000"/>
            <a:chExt cx="2303280" cy="1079280"/>
          </a:xfrm>
        </p:grpSpPr>
        <p:sp>
          <p:nvSpPr>
            <p:cNvPr id="116" name=""/>
            <p:cNvSpPr/>
            <p:nvPr/>
          </p:nvSpPr>
          <p:spPr>
            <a:xfrm>
              <a:off x="971640" y="2421000"/>
              <a:ext cx="230328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7280" y="2924280"/>
              <a:ext cx="187128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71640" y="4221000"/>
            <a:ext cx="2303280" cy="2017800"/>
            <a:chOff x="971640" y="4221000"/>
            <a:chExt cx="2303280" cy="2017800"/>
          </a:xfrm>
        </p:grpSpPr>
        <p:sp>
          <p:nvSpPr>
            <p:cNvPr id="119" name=""/>
            <p:cNvSpPr/>
            <p:nvPr/>
          </p:nvSpPr>
          <p:spPr>
            <a:xfrm>
              <a:off x="971640" y="4221000"/>
              <a:ext cx="2303280" cy="20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4724280"/>
              <a:ext cx="187308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87280" y="5805360"/>
              <a:ext cx="187308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Hash val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5229360"/>
              <a:ext cx="1439640" cy="28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434400">
            <a:off x="3348000" y="2924280"/>
            <a:ext cx="1511280" cy="576000"/>
          </a:xfrm>
          <a:prstGeom prst="rightArrow">
            <a:avLst>
              <a:gd name="adj1" fmla="val 50000"/>
              <a:gd name="adj2" fmla="val 6559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9750600">
            <a:off x="3347640" y="508392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2:14:24Z</dcterms:created>
  <dc:creator>qbens0</dc:creator>
  <dc:description/>
  <dc:language>en-US</dc:language>
  <cp:lastModifiedBy>Piotr Jakóbczyk</cp:lastModifiedBy>
  <dcterms:modified xsi:type="dcterms:W3CDTF">2005-10-19T10:06:44Z</dcterms:modified>
  <cp:revision>22</cp:revision>
  <dc:subject/>
  <dc:title>Slide 1</dc:title>
</cp:coreProperties>
</file>