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F673-CA76-4C5C-8971-56037915A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390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7427-E06C-4359-AD85-6B138D73B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E5ED-C218-4A9D-8BBC-9151A43CD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1456-17BE-4532-9224-F199FFCBD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90FF-0E88-454E-B1DE-74A7E2243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9B02-9D20-4722-A92E-60F9012C9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4896-FCF3-4E9E-8AC4-FB880A0AA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7D6D-5BF0-44E5-A5D2-F6AF9DA6D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899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4118-6E9C-4B1F-B452-26FE711EE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B6BC-C439-49B8-B317-024FAECE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FD97-5EA6-47FC-9D58-4B34109A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B11F-CB29-4DB1-B12B-B26C01E6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E6787-EEB5-4630-9406-AE67FDE5E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33920" y="15235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Part 2</a:t>
            </a:r>
            <a:br>
              <a:rPr sz="4400"/>
            </a:b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hapter 7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57240" y="3200400"/>
            <a:ext cx="5181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52280" y="624852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Points organized by Dr. Michael R. Gustafson II, Duk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2118240" y="6629400"/>
            <a:ext cx="552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 images copyright © The McGraw-Hill Companies, Inc. Permission required for reproduction or displa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33847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Parabolic Interpolation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algorithm uses parabolic interpolation of three points to estimate optimum lo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ocation of the maximum/minimum of a parabola defined as the interpolation of three points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is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w poi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he tw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rounding it (eith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re used for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teration of the algorith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4"/>
              <p:cNvSpPr txBox="1"/>
              <p:nvPr/>
            </p:nvSpPr>
            <p:spPr>
              <a:xfrm>
                <a:off x="685800" y="3046320"/>
                <a:ext cx="780588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1" name="Picture 5" descr="fig0708"/>
          <p:cNvPicPr/>
          <p:nvPr/>
        </p:nvPicPr>
        <p:blipFill>
          <a:blip r:embed="rId1"/>
          <a:stretch/>
        </p:blipFill>
        <p:spPr>
          <a:xfrm>
            <a:off x="4952880" y="4038480"/>
            <a:ext cx="396252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Courier New"/>
              </a:rPr>
              <a:t>fminbnd</a:t>
            </a: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 Function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has a built-in function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minb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ich combines the golden-section search and the parabolic interpo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xmi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fva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] = fminbnd(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x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x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 may be passed through a fourth argument using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optims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similar to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fze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Multidimensional Visualization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s of two-dimensions may be visualized using contour or surface/mesh plo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fig0709"/>
          <p:cNvPicPr/>
          <p:nvPr/>
        </p:nvPicPr>
        <p:blipFill>
          <a:blip r:embed="rId1"/>
          <a:stretch/>
        </p:blipFill>
        <p:spPr>
          <a:xfrm>
            <a:off x="1752480" y="2568600"/>
            <a:ext cx="564192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Courier New"/>
              </a:rPr>
              <a:t>fminsearch</a:t>
            </a: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 Function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LAB has a built-in function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minsear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at can be used to determine the minimum of a multidimensional fun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xmi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fv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] = fminsearch(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funct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x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xm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is case will be a row vector containing the location of the minimum, while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x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n initial guess.  Note that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x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ust contain as many entries as the function expects of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un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ust be written in terms of a single variable, where different dimensions are represented by different indices of that vari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Courier New"/>
              </a:rPr>
              <a:t>fminsearch</a:t>
            </a: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 Function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inimize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,y)=2+x-y+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2xy+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write as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=2+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2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=@(x) 2+x(1)-x(2)+2*x(1)^2+2*x(1)*x(2)+x(2)^2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x, fval] = fminsearch(f, [-0.5, 0.5]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that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x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two entries -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expecting it to contain two val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reports the minimum value is 0.7500 at a location of [-1.000 1.5000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hapter Objective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ing why and where optimization occurs in engineering and scientific problem solv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the difference between one-dimensional and multi-dimensional optimiz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inguishing between global and local opti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ing how to recast a maximization problem so that it can be solved with a minimizing algorith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ing able to define the golden ratio and understand why it makes one-dimensional optimization effici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Objectives (cont)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ing the optimum of a single-variable function with the golden-section sea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ing the optimum of a single-variable function with parabolic interpo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ing how to apply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minb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unction to determine the minimum of a one-dimensional fun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ing able to develop MATLAB contours and surface plots to visualize two-dimensional fun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ing how to apply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minsear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unction to determine the minimum of a multidimensional func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Optimization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ization is the process of creating something that is as effective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a mathematical perspective, optimization deals with finding the maxima and minima of a function that depends on one or more variab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fig0701"/>
          <p:cNvPicPr/>
          <p:nvPr/>
        </p:nvPicPr>
        <p:blipFill>
          <a:blip r:embed="rId1"/>
          <a:stretch/>
        </p:blipFill>
        <p:spPr>
          <a:xfrm>
            <a:off x="0" y="4419720"/>
            <a:ext cx="4876920" cy="2044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fig0702"/>
          <p:cNvPicPr/>
          <p:nvPr/>
        </p:nvPicPr>
        <p:blipFill>
          <a:blip r:embed="rId2"/>
          <a:stretch/>
        </p:blipFill>
        <p:spPr>
          <a:xfrm>
            <a:off x="4800600" y="4278240"/>
            <a:ext cx="4251240" cy="25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Multidimensional Optimization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 problems involve functions that depend on a single dependent variable -for example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dimensional problems involve functions that depend on two or more dependent variables - for example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fig0703"/>
          <p:cNvPicPr/>
          <p:nvPr/>
        </p:nvPicPr>
        <p:blipFill>
          <a:blip r:embed="rId1"/>
          <a:stretch/>
        </p:blipFill>
        <p:spPr>
          <a:xfrm>
            <a:off x="1082520" y="3052800"/>
            <a:ext cx="691848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Global vs. Local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lobal optim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presents the very best solution while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ocal optim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better than its immediate neighbors.  Cases that include local optima are call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ultimod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ly desire to find the global optim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fig0704"/>
          <p:cNvPicPr/>
          <p:nvPr/>
        </p:nvPicPr>
        <p:blipFill>
          <a:blip r:embed="rId1"/>
          <a:stretch/>
        </p:blipFill>
        <p:spPr>
          <a:xfrm>
            <a:off x="1752480" y="4141800"/>
            <a:ext cx="594360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Golden-Section Search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rch algorithm for finding a minimum on an interval [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 with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ng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inimum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nimod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terv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olden rati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1.6180… to determine location of two interior point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 by using the golden ratio, one of the interior points can be re-used in the next ite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Golden-Section Search (cont)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5791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&lt;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comes the new lower limit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comes the new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s in figur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&lt;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comes the new upper limit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comes the new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either case, only one new interior point is needed and the function is only evaluated one more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fig0706"/>
          <p:cNvPicPr/>
          <p:nvPr/>
        </p:nvPicPr>
        <p:blipFill>
          <a:blip r:embed="rId1"/>
          <a:stretch/>
        </p:blipFill>
        <p:spPr>
          <a:xfrm>
            <a:off x="5894280" y="1143000"/>
            <a:ext cx="3249720" cy="5715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5" name="Object 5"/>
              <p:cNvSpPr txBox="1"/>
              <p:nvPr/>
            </p:nvSpPr>
            <p:spPr>
              <a:xfrm>
                <a:off x="2133720" y="1219320"/>
                <a:ext cx="2322360" cy="12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d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ode for Golden-Section Search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2162160" y="977760"/>
            <a:ext cx="4238640" cy="56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7:37:24Z</dcterms:created>
  <dc:creator>Duke University</dc:creator>
  <dc:description/>
  <dc:language>en-US</dc:language>
  <cp:lastModifiedBy>Steven Chapra</cp:lastModifiedBy>
  <dcterms:modified xsi:type="dcterms:W3CDTF">2011-02-11T21:07:34Z</dcterms:modified>
  <cp:revision>33</cp:revision>
  <dc:subject/>
  <dc:title>Chapter 1</dc:title>
</cp:coreProperties>
</file>