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842-CC1C-4AE2-A492-C527FAE7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A26-9DD1-40B3-A3B3-833C98A6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82B-89B5-45AC-98E9-E38C9386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D24-7CA9-4F74-B268-AAA5EF2D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11E-AB6D-4CF2-9C25-F360F833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94F-4B8F-47BF-93B6-8011208B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92E-2CB6-4970-83FA-4EFA4F32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1D8-EC01-4488-9CFD-BC6B77F1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1AA-5212-4657-920C-AD5F0272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3CC-18DC-47B7-BB53-24D3C17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97E-3B74-49DB-8782-2298B74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DB0-AA42-47C0-8185-61FA42C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FE27-CAA9-42F0-9205-D628A1174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2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6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s: Ope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ecant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tential problem in implementing the Newton-Raphson method is the evaluation of the derivative - there are certain functions whose derivatives may be difficult or inconvenient to evalu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se cases, the derivative can be approximated by a backward finite divided dif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3179880" y="5354640"/>
                <a:ext cx="2916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@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ecant Method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of this approximation for the derivative to the Newton-Raphson method equation giv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- this method requir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itial estimat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 an analytical expression of the deriv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2787480" y="2952720"/>
                <a:ext cx="3156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’s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zero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the best qualities of both bracketing methods and ope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n initial guess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fzero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fzero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function handle to the function being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itial gu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location of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function evaluated at that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n initial bracket: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fzero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 x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fzero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 x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bove, excep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guesses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acket a sign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zero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Op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may be passed to fzero as a third input argument - the options are a data structure creat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optimset(‘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‘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ourier New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name of the parameter to b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alue to which to set that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meters commonly us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hen set to ‘iter’ displays a detailed record of all the it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l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ositive scalar that sets a termination tolerance on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zero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tions = optimset(‘display’, ‘iter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options to display each iteration of root fin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x, fx] = fzero(@(x) x^10-1, 0.5, o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fzero to find root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 starting with an initial gues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repor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=1, fx=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35 function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a built in program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all the roots of a polynomial - including imaginary and complex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roots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umn vector containing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ow vector containing the polynomial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oots of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.7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.12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.87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roots([1 -3.5 2.75 2.125 -3.875 1.25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can be used to determine polynomial coefficients if roots are gi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poly([0.5 -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0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repor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[1.000 0.5000 -0.500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rrespond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.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y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can evaluate a polynomial at one or mor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[1 -3.5 2.75 2.125 -3.875 1.2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as coefficients of a polynomial, this correspond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.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.7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.12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.87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val(a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lcul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, which MATLAB reports as -0.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e difference between bracketing and open methods for root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fixed-point iteration method and how you can evaluate its convergence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solve a roots problem with the Newton-Raphson method and appreciating the concept of quadratic conver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implement both the secant and the modified secant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use MATLAB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o estimat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how to manipulate and determine the roots of polynomials with MATLA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pen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n meth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 from bracketing methods, in that open methods require only a single starting value or two starting values that do not necessarily bracket a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ethods may diverge as the computation progresses, but when they do converge, they usually do so much faster than bracketing metho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raphical Comparison of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49528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ing ope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ing open method - note spe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0601"/>
          <p:cNvPicPr/>
          <p:nvPr/>
        </p:nvPicPr>
        <p:blipFill>
          <a:blip r:embed="rId1"/>
          <a:stretch/>
        </p:blipFill>
        <p:spPr>
          <a:xfrm>
            <a:off x="2362320" y="1095480"/>
            <a:ext cx="4114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mple Fixed-Point Ite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=0 so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left-hand side of the equa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new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edict a new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at i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roximate error is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3352680" y="4189320"/>
                <a:ext cx="24685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write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y isola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n initial guess (here, 0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until some toler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3276720"/>
          <a:ext cx="5410440" cy="2193840"/>
        </p:xfrm>
        <a:graphic>
          <a:graphicData uri="http://schemas.openxmlformats.org/drawingml/2006/table">
            <a:tbl>
              <a:tblPr/>
              <a:tblGrid>
                <a:gridCol w="609840"/>
                <a:gridCol w="1143000"/>
                <a:gridCol w="1218960"/>
                <a:gridCol w="1295640"/>
                <a:gridCol w="11430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6.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7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3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1.8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5.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6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6.8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2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5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8.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.7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76" descr="fig0602"/>
          <p:cNvPicPr/>
          <p:nvPr/>
        </p:nvPicPr>
        <p:blipFill>
          <a:blip r:embed="rId1"/>
          <a:stretch/>
        </p:blipFill>
        <p:spPr>
          <a:xfrm>
            <a:off x="6022800" y="1523880"/>
            <a:ext cx="3121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nverg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of the simple fixed-point iteration method requires that the derivative of g(x) near the root has a magnitude less th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t, 0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t, -1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≤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0603"/>
          <p:cNvPicPr/>
          <p:nvPr/>
        </p:nvPicPr>
        <p:blipFill>
          <a:blip r:embed="rId1"/>
          <a:stretch/>
        </p:blipFill>
        <p:spPr>
          <a:xfrm>
            <a:off x="4660920" y="1447920"/>
            <a:ext cx="44830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-Raphson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forming the tangent line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urve at some gu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n following the tangent line to where it crosse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360440" y="3897360"/>
                <a:ext cx="2220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Picture 5" descr="fig0604"/>
          <p:cNvPicPr/>
          <p:nvPr/>
        </p:nvPicPr>
        <p:blipFill>
          <a:blip r:embed="rId1"/>
          <a:stretch/>
        </p:blipFill>
        <p:spPr>
          <a:xfrm>
            <a:off x="4038480" y="2960640"/>
            <a:ext cx="440208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: The error of the i+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ration is roughly proportional to the square of the error of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ration - 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dratic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: Some functions show slow or poor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ig0606"/>
          <p:cNvPicPr/>
          <p:nvPr/>
        </p:nvPicPr>
        <p:blipFill>
          <a:blip r:embed="rId1"/>
          <a:stretch/>
        </p:blipFill>
        <p:spPr>
          <a:xfrm>
            <a:off x="5824440" y="1295280"/>
            <a:ext cx="3106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7:22Z</dcterms:modified>
  <cp:revision>35</cp:revision>
  <dc:subject/>
  <dc:title>Chapter 1</dc:title>
</cp:coreProperties>
</file>