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8C6-B57B-4E19-B707-7EBC4D6F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9E6-5906-4A4B-917D-FDBD8DB6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31C-E33D-4345-8A21-8E49D006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7D4-1DCD-46A1-9D95-0FCB699B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224-52AB-4FD8-B9BA-3B979DA3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382-61F8-4FBE-8D5E-2F8C27F4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A2D-A10A-4F8B-9200-0CFBCF65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709-AEB1-433A-89BC-8D1D68F7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6D6-443E-4906-AAF4-5191527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5EC-A27C-451A-B198-CA24B29D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BB4-C350-4B9C-854E-B0307D1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838-F562-4809-9E5D-75A56A3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D6A7-7CFF-4AB5-9127-11EAC7A43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1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4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off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nca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5911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 and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loating Point Rang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3 and +1024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eserved for special meanings, so the exponent rang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2 to 10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possible number MATLAB can stor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1’s, giving a significand of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approximatel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11111111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iving an exponent of 204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3 = 1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yields approximate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2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799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possible number MATLAB can store with full precision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0’s, giving a significand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000000000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iving an exponent of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3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yield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2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.225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loating Point Preci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52 bits for the mantiss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 to about 15 to 16 base-10 digits.  The machine epsilon - the maximum relative error between a number and MATLAB’s representation of that number, is th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.220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oundoff Errors with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ithmetic Manipu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off error can happen in several circumstances other than just storing numbers -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rge comp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f a process performs a large number of computations, roundoff errors may build up to becom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ing a Large and a Small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Since the small number’s mantissa is shifted to the right to be the same scale as the large number, digits are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me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mearing occurs whenever the individual terms in a summation are larger than the summation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+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hematically, b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x = 1; (x +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gives a 0 in MATLAB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runcation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ncation err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ose that result from using an approximation in place of an exact mathematical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: approximation to a derivative using a finite-difference equ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: The Taylo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29080" y="4114800"/>
                <a:ext cx="38862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@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Taylor Theorem and Seri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ylor theor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at any smooth function can be approximated as a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ylor s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s a means to express this idea mathe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Taylor Seri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8600" y="1219320"/>
                <a:ext cx="86868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2062080"/>
            <a:ext cx="65530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runcation Erro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 order Taylor series expansion will be exact for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 order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cases, the remainder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f the orde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terms are used, the smaller the error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r the spacing, the smaller the error for a given number of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Differenti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rder Taylor series can be used to calculate approximations to deriv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rmed a “forward” difference because it utilizes data 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 to estimate the deriv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286000" y="2438280"/>
                <a:ext cx="4597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3200400"/>
                <a:ext cx="4281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fferentiation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also backward and centered difference approximations, depending on the points u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r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2666880"/>
                <a:ext cx="4281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38080" y="4267080"/>
                <a:ext cx="4281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791320"/>
                <a:ext cx="4626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07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otal Numerical Erro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 numerical 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ummation of the truncation and roundoff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ncation error gener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step size increases, while the roundoff err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step size increases - this leads to a point of diminishing returns for step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3530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distinction between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quantify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error estimates can be used to decide when to terminate an iterative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roundoff errors occur because digital computers have a limited ability to represent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y floating-point numbers have limits on their range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ther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nders - errors caused by malfunctions of the computer or human imper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errors - errors resulting from incomplete mathema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ncertainty - errors resulting from the accuracy and/or precision of the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at truncation errors occur when exact mathematical formulations are represented by approxim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the Taylor series to estimate truncation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o write forward, backward, and centered finite-difference approximations of the first and second deriv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at efforts to minimize truncation errors can sometimes increase roundoff err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how closely a computed or measured value agrees with the true value, wh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how closely individual computed or measured values agree with each o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 and im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nd im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 and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59480" y="2590920"/>
            <a:ext cx="395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Defini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erro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the difference between the true value and the approx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error (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: the absolute difference between the true value and the approx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fractional relative error: the true error divided by the tru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error 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the true fractional relative error expressed as a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Definition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vious definitions of error relied on knowing a true value.  If that is not the case, approximations can be made to th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roximate percent relative error can be given as the approximate error divided by the approximation, expressed as a percentage - though this presents the challenge of finding the approximate err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terative processes, the error can be approximated as the difference in values between sucessive it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ing Error Estimat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, when performing calculations, we may not be concerned with the sign of the error but are interested in whether the absolute value of the percent relative error is lower than a prespecified tolerance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For such cases, the computation is repeated until |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&lt;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lationship is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pping criter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oundoff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off err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ise because digital computers cannot represent some quantities exactly.  There are two major facets of roundoff errors involved in numerical calcu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computers have size and precision limits on their ability to represent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numerical manipulations are highly sensitive to roundoff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uter Number Repres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ault, MATLAB has adopted the IEEE double-precision format in which eight bytes (64 bits) are used to represent floating-point numbers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±(1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 is determined by a sign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tiss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termined by a 52-bit binary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on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termined by an 11-bit binary number, from which 1023 is subtracted to g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3-28T14:33:09Z</dcterms:modified>
  <cp:revision>36</cp:revision>
  <dc:subject/>
  <dc:title>Chapter 1</dc:title>
</cp:coreProperties>
</file>