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ED0-FFF1-4F0A-A652-4D7F55F5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3D65-829F-4279-88CE-0ADF8CAF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D2D-31B1-49D9-8427-27FCCF3B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8F2-BCD5-4615-9DE3-889C8D3B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2EB6-66B2-48CF-8675-A1AE287F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4EA3-E74D-4ABB-AA8C-CFDF70E7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03D-F4FA-44FB-ABD2-7E9AA353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9E38-C76D-47A7-ADBB-EE0F1B72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631B-038B-4958-BBE9-BBBD72B4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75B-4990-4D8F-8AE6-4C0C47F0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A6E-32FB-45EF-B14E-55B3D86E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8B3-C880-4EED-B4B5-0EFB019C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FD50-526C-4754-9953-66187EF76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1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2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Fundamen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80880" y="5867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 and Prof. Steve Chapra, Tufts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Chapra2e08BAR"/>
          <p:cNvPicPr/>
          <p:nvPr/>
        </p:nvPicPr>
        <p:blipFill>
          <a:blip r:embed="rId1"/>
          <a:stretch/>
        </p:blipFill>
        <p:spPr>
          <a:xfrm>
            <a:off x="457200" y="1219320"/>
            <a:ext cx="3386160" cy="4214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verImage"/>
          <p:cNvPicPr/>
          <p:nvPr/>
        </p:nvPicPr>
        <p:blipFill>
          <a:blip r:embed="rId2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rrays, Vectors, and Matric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can automatically handle rectangular arrays of data - one-dimensional arrays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c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wo-dimensional arrays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tr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s are set off using square brackets [ and ] in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ies within a row are separated by spaces or com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s are separated by semicol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rray Exampl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&gt; a = [1 2 3 4 5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1     2     3     4   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&gt; b = [2;4;6;8;10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1 - MATLAB does no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r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2 - if you are using a monospaced font, such as Courier, the displayed values should line up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ric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2-D array, or matrix, of data is entered row by row, with spaces (or commas) separating entries within the row and semicolons separating the r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gt;&gt; A = [1 2 3; 4 5 6; 7 8 9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1     2   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4     5     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7     8   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Useful Array Comman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nspose operator (apostrophe) can be used to flip an array over its own diagonal.  For example,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row vector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lumn vector containing the complex conjugat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mand window will allow you to separate rows by hitting the Enter key - script files and functions will allow you to put rows on new lines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ill report back used variable names;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also give you the size, memory, and data types for the arr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ccessing Array Entri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entries within a array can be both read and set using either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ocation in the array or the row and colum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ex value starts with 1 for the entry in the top left corner of an array and increases down a column - the following shows the indices for a 4 row, 3 column matri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     5     9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2     6    1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3     7    1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4     8   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ccessing Array Entrie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some matrix C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2     4     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3     3    1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3     0     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0    13   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repor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(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report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(1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report an err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can also be access using the row and colum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(2,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repor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(3,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repor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(5,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report an err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rray Creation - Built I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built-in functions to create arr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eros(r,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create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w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lumn matrix of z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eros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create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rix of z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nes(r,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create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w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lumn matrix of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nes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create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rix one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help elm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, among other things, a list of the elementary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rray Creation - Colon Operator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on operator : is useful in several contexts.  It can be used to create a linearly spaced array of points using the not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rt:diffval:limi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first value in the array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ffv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difference between successive values in the array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und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last value (though not necessarily the last value)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&gt;1:0.6: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ns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1.0000   1.6000   2.2000   2.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olon Operator - Not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ff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omitted, the default value is 1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&gt;3: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3     4     5  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a decreasing series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ff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negativ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&gt; 5:-1.2: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5.0000    3.8000    2.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+diffval&gt;lim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n increasing series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+diffval&lt;lim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for a decreasing series, an empty matrix is returned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&gt;5: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Empty matrix: 1-by-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a column, transpose the output of the colon operator, not the limit value; that is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3:6)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:6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rray Creation - </a:t>
            </a:r>
            <a:r>
              <a:rPr b="0" lang="en-US" sz="4400" spc="-1" strike="noStrike">
                <a:solidFill>
                  <a:srgbClr val="42728d"/>
                </a:solidFill>
                <a:latin typeface="Courier New"/>
              </a:rPr>
              <a:t>linspac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a row vector with a specific number of linearly spaced points between two numbers,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space(x1, x2, 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create a linearly spaced array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betwee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&gt;linspace(0, 1, 6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0  0.2000  0.4000  0.6000  0.8000  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omitted, 100 points are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nerate a column, transpose the output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how real and complex numbers are assigned to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how vectors and matrices are assigned values using simple assignment, the color operator, and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ns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gs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he priority rules for constructing mathematical 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ing a general understanding of built-in functions and how you can learn more about them with MATLAB’s Help fac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how to use vectors to create a simple line plot based on an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rray Creation - </a:t>
            </a:r>
            <a:r>
              <a:rPr b="0" lang="en-US" sz="4400" spc="-1" strike="noStrike">
                <a:solidFill>
                  <a:srgbClr val="42728d"/>
                </a:solidFill>
                <a:latin typeface="Courier New"/>
              </a:rPr>
              <a:t>logspac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a row vector with a specific number of logarithmically spaced points between two numbers,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space(x1, x2, 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create a logarithmically spaced array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betwee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x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&gt;logspace(-1, 2, 4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0.1000    1.0000   10.0000  100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omitted, 100 points are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nerate a column, transpose the output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racter Strings &amp; Ellipsi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hanumeric constants are enclosed by apostrophes (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&gt; f = 'Miles 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&gt; s = 'Davis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enation: pasting together of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&gt; x = [f 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les Da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is (...): Used to continue long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&gt; a = [1 2 3 4 5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 7 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    2     3     4     5     6     7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not use an ellipsis within single quotes to continue a string. But you can piece together shorter strings with ellip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&gt; quote = ['Any fool can make a rule,'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' and any fool will mind it'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uot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y fool can make a rule, and any fool will min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hematical Opera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al operations in MATLAB can be performed on both scalars and arr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on operators, in order of priority,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43000" y="3200400"/>
          <a:ext cx="7315200" cy="3506760"/>
        </p:xfrm>
        <a:graphic>
          <a:graphicData uri="http://schemas.openxmlformats.org/drawingml/2006/table">
            <a:tbl>
              <a:tblPr/>
              <a:tblGrid>
                <a:gridCol w="252360"/>
                <a:gridCol w="2338560"/>
                <a:gridCol w="4724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ent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^2 =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o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ary oper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 = 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on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*pi = 6.2832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/4 = 0.78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\2 = 0.333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5 = 8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 = 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der of operations is set first by parentheses, then by the default order given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-4 ^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ive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-16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exponentiation happens first due to its higher default priority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(-4) ^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16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negation operation on the 4 takes plac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omplex Number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operations above can be used with complex quantities (i.e. values containing an imaginary part entered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displayed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&gt; x = 2+i*4; (or 2+4i, or 2+j*4, or 2+4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&gt; y = 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&gt; 3 *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6.0000 +12.0000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&gt; x+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18.0000 + 4.0000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&gt; x'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 2.0000 - 4.0000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Vector-Matrix Calcula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 can also perform operations on vectors and mat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* operator for matrices is defined a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er prod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what is commonly called “matrix multiplication.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columns of the first matrix must match the number of rows in the second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ze of the result will have as many rows as the first matrix and as many columns as the second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eption to this is multiplication by a 1x1 matrix, which is actually an array 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^ operator for matrices results in the matrix being matrix-multiplied by itself a specified number of tim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- in this case, the matrix must be squa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lement-by-Element Calcula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imes, you will want to carry out calculations item by item in a matrix or vector.  The MATLAB manual calls the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ray oper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y are also often referred to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-by-e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 defines .* and ./ (note the dots) as the array multiplication and array division oper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rray operations, both matrices must be the same siz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e of the matrices must be 1x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exponentiation (raising each element to a corresponding power in another matrix) is performed with .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, for array operations, both matrices must be the same siz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e of the matrices must be 1x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Built-In Func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built-in functions you can use to create and manipulat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ilt-in help function can give you information about both what exists and how those functions are 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el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list the elementary matrix creation and manipulation functions, including functions to get information about matr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elf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list the elementary math functions, including trig, exponential, complex, rounding, and remainder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ilt-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ok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will search help files for occurrences of text and can be useful if you know a function’s purpose but not its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Graphic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has a powerful suite of built-in graphics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f the primary functions 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l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or plotting 2-D data)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lot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or plotting 3-D dat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the plotting commands, MATLAB allows you to label and annotate your graphs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lab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lab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ege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lotting Examp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 = [0:2:20]’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= 9.81; m = 68.1; cd = 0.25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 = sqrt(g*m/cd) * tanh(sqrt(g*cd/m)*t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lot(t,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CH2Plotting1"/>
          <p:cNvPicPr/>
          <p:nvPr/>
        </p:nvPicPr>
        <p:blipFill>
          <a:blip r:embed="rId1"/>
          <a:stretch/>
        </p:blipFill>
        <p:spPr>
          <a:xfrm>
            <a:off x="2239920" y="2967120"/>
            <a:ext cx="46623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he MATLAB Environmen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uses three primary window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window - used to enter commands an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window(s) - used to display plots and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window - used to create and edit M-files (pro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ing on your computer platform and the version of MATLAB used, these windows may have different looks and fe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lotting Annotation Examp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tle('Plot of v versus t'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label('Values of t'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label('Values of v'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CH2Plotting2"/>
          <p:cNvPicPr/>
          <p:nvPr/>
        </p:nvPicPr>
        <p:blipFill>
          <a:blip r:embed="rId1"/>
          <a:stretch/>
        </p:blipFill>
        <p:spPr>
          <a:xfrm>
            <a:off x="2239920" y="2849400"/>
            <a:ext cx="4662360" cy="38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lotting Op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lotting data, MATLAB can use several different colors, point styles, and line styles.  These are specified at the end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l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ot specif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found in Table 2.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fault case for a single data set is to create a blue line with no points.  If a line style is specified with no point style, no point will be drawn at the individual points; similarly, if a point style is specified with no point style, no line will be dra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plot specifi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:’ - red dotted line with circles at th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’ - green diamonds at the points with no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--’ - magenta dashed line with no point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ther Plotting Comman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old 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old o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old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MATLAB to keep the current data plotted and add the results of any further plot commands to the graph.  This continues until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old 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, which tells MATLAB to clear the graph and start over if another plotting command is given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old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uld be us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irst plot in a series is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plot(m, n, 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p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lits the figure window in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ray of small axes and make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e active.  Note - the first subplot is at the top left, then the numbering continues across the row.  This is different from how elements are numbered within a matri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alculator Mod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TLAB command widow can be used as a calculator where you can type in commands line by line.  Whenever a calculation is performed, MATLAB will assign the result to the built-in variabl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gt;&gt; 55 - 1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ans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Variabl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may be useful for performing quick calculations, its transient nature makes it less useful for program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allows you to assign values to variable names.  This results in the storage of values to memory locations corresponding to the variabl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can store individual values as well as arrays; it can store numerical data and text (which is actually stored numerically as wel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does not require that you pre-initialize a variable; if it does not exist, MATLAB will create it for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calar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sign a single value to a variable, simply type the variable name, the = sign, and the valu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gt;&gt; a =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variable names must start with a letter, though they can contain letters, numbers, and the underscore (_)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calar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tell MATLAB not to report the result of a calculation by appending the semi-solon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o the end of a line.  The calculation is still per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sk MATLAB to report the value stored in a variable by typing its nam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gt;&gt; 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calar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the complex varia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represent the unit imaginary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tell MATLAB to report the values back using several different formats using the format command.  Note that the values are sti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ame way, they are just displayed on the screen differently.  Some exampl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caled fixed-point format with 5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caled fixed-point format with 15 digits for double and 7 digits for 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rt e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engineering format with at least 5 digits and a power that is a multiple of 3 (useful for SI prefix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Format Exampl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&gt; format short; p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ns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3.141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&gt; format long; p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ns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3.14159265358979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&gt; format short eng; p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ns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3.1416e+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&gt; pi*10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ns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31.4159e+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- the format remains the same unless an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is issu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lorraine_buczek</cp:lastModifiedBy>
  <dcterms:modified xsi:type="dcterms:W3CDTF">2011-04-14T15:11:39Z</dcterms:modified>
  <cp:revision>24</cp:revision>
  <dc:subject/>
  <dc:title>Chapter 1</dc:title>
</cp:coreProperties>
</file>