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9BE-C7F0-4B7B-A770-88D51961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9B8-5855-4FED-87B5-34A2BB42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17F-F695-4D69-937E-A66F59AC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14A-E7DB-4871-85C9-8631A298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0DB-BE4C-4C75-BDAA-40021F3D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0C7-0DBC-4392-84A2-61F94CA3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4B9-B210-4049-AF96-50ADF5E7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E35-B0BA-4DB2-9DA4-1D1F1CCF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42B-8278-4F99-B266-14AF2031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B04-D18C-4518-BF16-A6843C4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253-B051-4172-8CD0-826D7AA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379-06B8-440B-BF3E-7542133A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D6A0-D160-4581-A177-6B16ACDF6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6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4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32004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-Valu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 Cod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or derivatives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 dy=dydxn(x,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y=[y(2);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-0.05*(200-y(1))-2.7e-9*(1.6e9-y(1)^4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or residual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 r=res(z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x,y]=ode45(@dydxn, [0 10], [300 za]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=y(length(x),1)-4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or finding root of residual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zero(@res, -5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or solving system: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x,y]=ode45(@dydxn, [0 10], [300 fzero(@res, -5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inite-Difference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alternatives to the shooting method are finite-difference approa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se techniques, finite differences are substituted for the derivatives in the original equation, transforming a linear differential equation into a set of simultaneous algebraic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inite-Difference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simultaneous equations at each interior point using centered differenc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5389560"/>
            <a:ext cx="6553440" cy="1468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332160" y="1600200"/>
                <a:ext cx="2479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448000" y="3243240"/>
                <a:ext cx="424800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¥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inite-Difference Example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known, they will be on the right-hand-side of the linear algebra system (in this case, in the first and last entries, respectivel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440" y="3598920"/>
                <a:ext cx="817092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¥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¥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¥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erivative Boundary Condi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mann boundary conditions are resolved by solving the centered difference equation at the point and rewriting the system equation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re is a Neumann condition at th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08200" y="3084480"/>
                <a:ext cx="5730840" cy="34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Dx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D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|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inite-Difference Method for Nonlinear OD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location methods for systems of equations may be used to solve nonlinear 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ethod is to adapt a successive substitution algorithm to calculate the values of the interior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difference between initial-value and boundary-valu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expres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ODE as a system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-order 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shooting method for linear ODEs by using linear interpolation to generate accurate “sho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derivative boundary conditions are incorporated into the shooting meth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bjectiv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solve nonlinear ODEs with the shooting method by using root location to generate accurate “sho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finite-difference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derivative boundary conditions are incorporated into the finite-difference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solve nonlinear ODEs with the finite-difference method by using root location methods for systems of nonlinear algebraic eq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oundary-Value Probl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ndary-value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ose where conditions are not known at a single point but rather are given at different values of the independen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conditions may include values for the variable or values for derivatives of the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699080" cy="5481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0400" y="6629400"/>
            <a:ext cx="49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igher Order Syst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’s ODE solvers are based on solving first-order differential equations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syste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1), the system must be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rst-order equation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irst-order equation needs an initial value or boundary valu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33720" y="3505320"/>
                <a:ext cx="511020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x</m:t>
                                      </m:r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z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z</m:t>
                                      </m:r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=- {</m:t>
                                  </m:r>
                                  <m:r>
                                    <m:t xml:space="preserve">h</m:t>
                                  </m:r>
                                </m:e>
                              </m:mr>
                            </m:m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¥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Shooting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019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method for solving boundary-value problems - the shooting method - is based on converting the boundary-value problem into an equivalent initial-valu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the equivalent system will not have sufficient initial conditions and so a guess is made for any undefined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uesses are changed until the final solution satisfies all the boundary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inear ODEs, only two “shots” are required - the proper initial condition can be obtained as a linear interpolation of the two gu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27640" y="1523880"/>
            <a:ext cx="275112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0400" y="6629400"/>
            <a:ext cx="49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oundary Condi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ichlet boundary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ose where a fixed value of a variable is known at a particula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mann boundary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ose where a derivative is known at a particula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oting methods can be used for either kind of boundary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Shooting Method for Nonlinear OD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onlinear ODEs, interpolation between two guesses will not necessarily result in an accurate estimate of the required boundary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the boundary condition can be used to write a roots problem with the estimate as a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=2.7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 m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=0.05 m-2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00 K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 = 300 K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0) = 400 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- break into two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14600" y="1806480"/>
                <a:ext cx="4149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¥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2280" y="4191120"/>
                <a:ext cx="87631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¥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=-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  <m:r>
                                <m:t xml:space="preserve">´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sup>
                              </m:s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´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9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58Z</dcterms:modified>
  <cp:revision>33</cp:revision>
  <dc:subject/>
  <dc:title>Chapter 1</dc:title>
</cp:coreProperties>
</file>