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AD5-E689-457A-A89A-76C07FA0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74D-AF51-49AE-8FE4-5D349D1E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F0D-6156-477B-92B1-6828551B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48D-A699-4BD4-8632-3D7FC550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806-CEDA-4BEA-A711-81EC506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78B-B9AB-49E9-A9FF-A6BCA7C1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61C-6FE1-4031-84B5-6959223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D27-F32A-4302-B80A-D2D28C3B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266-AFF2-4BDF-930D-64BB774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A0A-8339-4931-8D36-D426CFA3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551-F951-4B6C-A568-4E0F8B5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D3C-824A-4D80-A9ED-864C16D2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0542-F421-49B8-9E57-4392C1F1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3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ethod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tiffnes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ff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ne involving rapidly changing components together with slowly changing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 single stiff ODE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solution if y(0)=0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89160" y="2590920"/>
                <a:ext cx="3270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3144960" y="3733920"/>
                <a:ext cx="3159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2" name="Picture 6" descr="fig2107"/>
          <p:cNvPicPr/>
          <p:nvPr/>
        </p:nvPicPr>
        <p:blipFill>
          <a:blip r:embed="rId1"/>
          <a:stretch/>
        </p:blipFill>
        <p:spPr>
          <a:xfrm>
            <a:off x="2590920" y="40384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 for Stiff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a number of built-in functions for solving stiff systems of ODEs, includ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15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t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guments for the stiff solvers are the same as those for previous sol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Runge-Kutta Fehlberg methods use RK methods of  different orders to provide error estimates that are used to adjust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ing yourself with the built-in MATLAB function for solving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adjust options for MATLAB’s ODE sol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pass parameters to MATLAB’s ODE sol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at is meant by stiffness and its implications for solving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Runge-Kutta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s to some ODE problems exhibit multiple time scales - for some parts of the solution the variable changes slowly, while for others there are abrupt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step-size algorithms would have to apply a small step-size to the entire computation, wasting many more calculations on regions of gradu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algorithms, on the other hand, can change step-size depending o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ha32907_2101"/>
          <p:cNvPicPr/>
          <p:nvPr/>
        </p:nvPicPr>
        <p:blipFill>
          <a:blip r:embed="rId1"/>
          <a:stretch/>
        </p:blipFill>
        <p:spPr>
          <a:xfrm>
            <a:off x="5162400" y="1295280"/>
            <a:ext cx="3981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pproaches to Adaptive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primary approaches to incorporate adaptive step-size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ep hal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erform the one-step algorithm two different ways, once with a full step and once with  two half-steps, and compare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bedded RK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erform two RK iterations of different orders and compare the results.  This is the preferr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uses second- and third-order RK functions to solve the ODE and adjust step si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uses fourth- and fifth-order RK functions to solve the ODE and adjust step sizes.  This is recommended as the first function to use to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1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a multistep solver useful for computationally intensive ODE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ode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s are generally called in the same way; ode45 is used as an 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ode45(odefun, tspan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lution array, where each column represents one of the variables and each row corresponds to a time in the t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def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ction returning a column vector of the right-hand-sides of the 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ime over which to solv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wo entries, the results are reported for those times as well as several intermediate times based on the steps taken by th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more than two entries, the results are reported only for those specific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ector of initi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 - Predator-Prey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=2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=1 for 2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prey.m M-fi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function yp = predprey(t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yp = [1.2*y(1)-0.6*y(1)*y(2);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-0.8*y(2)+0.3*y(1)*y(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span = [0 20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0 = [2, 1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, y] = ode45(@predprey, tspan, y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gure(1); plot(t,y); figure(2); plot(y(:,1),y(:,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568520" y="1219320"/>
                <a:ext cx="4680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60" name="Picture 5" descr="fig2102"/>
          <p:cNvPicPr/>
          <p:nvPr/>
        </p:nvPicPr>
        <p:blipFill>
          <a:blip r:embed="rId1"/>
          <a:stretch/>
        </p:blipFill>
        <p:spPr>
          <a:xfrm>
            <a:off x="1066680" y="4489560"/>
            <a:ext cx="2895840" cy="236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ig2103"/>
          <p:cNvPicPr/>
          <p:nvPr/>
        </p:nvPicPr>
        <p:blipFill>
          <a:blip r:embed="rId2"/>
          <a:stretch/>
        </p:blipFill>
        <p:spPr>
          <a:xfrm>
            <a:off x="5105520" y="4483080"/>
            <a:ext cx="28191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DE Solver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o ODE solvers may be passed as an optional fourth argument, and are generally creat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s=odeset(‘p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v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p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v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parameter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lTo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justs relativ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o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justs absolut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itialStep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ts initial step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Step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ts maximum step size (default: one ten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step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step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ased on the insight that, once the computation has begun, valuable information from the previous points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xample is the non-self-starting Heun’s Method, which has the following predictor and correcto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685800" y="4876920"/>
                <a:ext cx="47242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Predictor</m:t>
                          </m:r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0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d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Corrector</m:t>
                          </m:r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</m:sSubSup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bSup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67" name="Picture 5" descr="fig2106"/>
          <p:cNvPicPr/>
          <p:nvPr/>
        </p:nvPicPr>
        <p:blipFill>
          <a:blip r:embed="rId1"/>
          <a:stretch/>
        </p:blipFill>
        <p:spPr>
          <a:xfrm>
            <a:off x="5181480" y="1219320"/>
            <a:ext cx="3735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40Z</dcterms:modified>
  <cp:revision>37</cp:revision>
  <dc:subject/>
  <dc:title>Chapter 1</dc:title>
</cp:coreProperties>
</file>