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2BE-6D84-4AB6-A87D-F4ADAA71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6B4-0673-4631-816B-C9DFA3DE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FF4-E8E4-4CCF-AA83-2219C0DD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5E0-F9A0-4B37-AE34-E19933D1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2ED-8684-46CE-B777-82DC7F27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FD6-168A-4DE4-88E6-7409B2B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1B-A276-4834-BA18-3BDB49E0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D06-2D96-4976-912E-0352B905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F76-BA16-41F8-B401-9752310A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AF7-9080-44AE-BE7D-F8D558E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9E7-13EE-4752-839B-FF7165A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DCF-F160-4E80-BDD4-F0DDD41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4F37-F698-4A93-8178-A5097F29B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6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2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-Valu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unge-Kutta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ge-Kutta (RK) methods achieve the accuracy of a Taylor series approach without requiring the calculation of higher deriv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K methods, the increment functio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generally written 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constants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95480" y="3124080"/>
                <a:ext cx="302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52640" y="3809880"/>
                <a:ext cx="68691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t xml:space="preserve">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,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,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assical Fourth-Order Runge-Kutta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RK methods are fourth-order, and the most commonly used form 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629080" y="2438280"/>
                <a:ext cx="4000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3962520"/>
                <a:ext cx="312732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67080" y="3233880"/>
            <a:ext cx="4724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ystems of Equ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ractical problems require the solution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quation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of such a system require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l conditions be known at the starting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24080" y="2438280"/>
                <a:ext cx="282420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r>
                            <m:t xml:space="preserve">M</m:t>
                          </m:r>
                        </m:e>
                      </m:mr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ution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equation methods can be used to solve systems of ODE’s as well; for example, Euler’s method can be used on systems of equations - the one-step method is applied for every equation at each step before proceeding to the next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-order Runge-Kutta methods can also be used, but care must be taken in calculat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RK4 Cod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7245" b="0"/>
          <a:stretch/>
        </p:blipFill>
        <p:spPr>
          <a:xfrm>
            <a:off x="0" y="988920"/>
            <a:ext cx="5238720" cy="564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15" t="0" r="34121" b="0"/>
          <a:stretch/>
        </p:blipFill>
        <p:spPr>
          <a:xfrm>
            <a:off x="5257800" y="990720"/>
            <a:ext cx="38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meaning of local and global truncation errors and their relationship to step size for one-step methods for solving 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mplement the following Runge-Kutta (RK) methods for a single 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-Order 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terate the corrector of Heun’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mplement the following Runge-Kutta methods for systems of 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-order 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rdinary Differential Equ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described here are for solving differential equations of the form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in this chapter are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-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have the general format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ment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s used to extrapolate from an old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new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08360" y="2286000"/>
                <a:ext cx="1461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657600" y="4059360"/>
                <a:ext cx="1563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erivative provides a direct estimate of the slope 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Euler method uses that estimate as the increment fun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74920" y="2666880"/>
                <a:ext cx="17953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5257800"/>
                <a:ext cx="23079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937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Analysis for 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erical solution of ODEs involves two types of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ncation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used by the nature of the techniques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ndoff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used by the limited numbers of significant digits that can be re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tal,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lob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ncation error can be further spli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 truncatio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s from an application method in question over a single step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agated truncatio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s from the approximations produced during previous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Analysis for 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l truncation error for Euler’s method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proportional to the 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hile the global truncation error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lobal error can be reduced by decreasing the step siz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er’s method will provide error-free predictions if the underlying function is 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ler’s method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ally 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epending on the siz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Code for 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06480"/>
            <a:ext cx="701028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eun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 to improve Euler’s method is to determine derivatives at the beginning and predicted ending of the interval and average them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relies on making a prediction of the new val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correcting it based on the slope calculated at that new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edictor-corrector approach can be iterated to converg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17680" y="2127240"/>
            <a:ext cx="4724640" cy="213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5410080"/>
            <a:ext cx="478476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idpoint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improvement to Euler’s method is similar to Heun’s method, but predicts the slope at the midpoint of an interval rather than at the end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hod has a local truncation erro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global erro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5520" y="3309840"/>
            <a:ext cx="4784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30Z</dcterms:modified>
  <cp:revision>38</cp:revision>
  <dc:subject/>
  <dc:title>Chapter 1</dc:title>
</cp:coreProperties>
</file>