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2B7-B3D4-479C-82BF-0EA4C070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44E-03BF-452D-A7D2-BDC854DB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E4B-5D8E-4345-ACA0-570D144A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639-9D50-430B-ADE0-2B346D9D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0B4-1C5E-400D-ACF4-3B78B475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457-E7E8-4580-AF89-50CDEA0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F00-02BD-4009-A9DC-4B68042C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1E3-6071-4FFF-83F2-95C47B85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586-7EA7-4F25-BD49-9FB151BA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FB2-825D-4E06-83CD-76028E9A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42A-8000-4419-A40F-508762E9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415-4B1A-4CAF-9328-55D6E97F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A5D8-7F64-400B-8511-F180B0423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5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1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erivatives and Integrals for Data with Erro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ortcoming of numerical differentiation is that it tends to amplify errors in data, whereas integration tends to smooth data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pproach for taking derivatives of data with errors is to fit a smooth, differentiable function to the data and take the derivative of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5720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Differentiation with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has two built-in functions to help take derivatives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d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ff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difference between adjacent element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ff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)./diff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difference between adjacent value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vided by the corresponding difference in adjacent valu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Differentiation with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gradient(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the derivative of the data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each of the points.  The program uses forward difference for the first point, backward difference for the last point, and centered difference for the interior points.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pacing between points; if omitt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 advantag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result is the same size as the original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ient can also be used to find partial derivatives for matric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y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] = gradient(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can generate contour plots of functions as well as vector fields.  Assum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a meshgri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a func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our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generate a contour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=gradient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generate partial derivative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iver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generate vector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application of high-accuracy numerical differentiation formulas for equispac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evaluate derivatives for unequally spac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how Richardson extrapolation is applied for numerical different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the sensitivity of numerical differentiation to data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evaluate derivatives in MATLAB with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generate contour plots and vector fields with MATL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hematical definition of a derivative begins with a difference approximation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lowed to approach zero, the difference becomes a deriva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4687920"/>
            <a:ext cx="5622840" cy="21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43080" y="2362320"/>
                <a:ext cx="28893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14480" y="4014720"/>
                <a:ext cx="33465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High-Accuracy Differentiation Formula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ylor series expansion can be used to generate high-accuracy formulas for derivatives by using linear algebra to combine the expansion around several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ategories for the formula inclu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ward finite-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kward finite-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ed finite-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orward Finite-Differe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Backward Finite-Differe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7096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entered Finite-Differe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ichardson Extra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ith integration, the Richardson extrapolation can be used to combine two lower-accuracy estimates of the derivative to produce a higher-accuracy esti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cases where there are tw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s and the interval is halv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), an improv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 may be formed using: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cases where there are tw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s and the interval is halv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), an improv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 may be formed using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cases where there are tw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s and the interval is halv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), an improv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 may be formed using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117960" y="2911320"/>
                <a:ext cx="27828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989440" y="4343400"/>
                <a:ext cx="303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976480" y="5791320"/>
                <a:ext cx="30654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Unequally Spaced Data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to calculated derivatives of unequally spaced data is to determine a polynomial fit and take its derivative at a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example, using a second-order Lagrange polynomial to fit three points and taking its derivative y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5267160"/>
                <a:ext cx="77724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10:21Z</dcterms:modified>
  <cp:revision>37</cp:revision>
  <dc:subject/>
  <dc:title>Chapter 1</dc:title>
</cp:coreProperties>
</file>