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FA27-38DD-4AE7-8614-97752024A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390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6D96-F856-4051-B4DE-65F64D892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8340-B467-4DC0-85D7-10A6ADAE3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3712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3712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390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390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390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A604-5BCA-41D7-B538-30E4C3B94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720F-AF70-4F3B-8F32-556EF6802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C650-2182-48BE-82B9-93A344822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C5EE-F06D-4FF5-841A-C8C8EC954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0199-F003-4DE9-995B-86A411881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8991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1B71-D415-4134-B18E-631C7B29A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2D93-C1E5-413E-96F8-8B5593556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41FA-07B8-4495-B848-F80453C0B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390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E4D0-42A4-467C-A4DE-190D7F742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3B3D9-3508-4922-B261-A04CC5B57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733920" y="152352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Part 5</a:t>
            </a:r>
            <a:br>
              <a:rPr sz="4400"/>
            </a:b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hapter 20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57240" y="3200400"/>
            <a:ext cx="5181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ical Integration of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624852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Points organized by Dr. Michael R. Gustafson II, Duk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18240" y="6629400"/>
            <a:ext cx="552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 images copyright © The McGraw-Hill Companies, Inc. Permission required for reproduction or displa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33847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Adaptive Quadrature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ods such as Simpson’s 1/3 rule has a disadvantage in that it uses equally spaced points - if a function has regions of abrupt changes, small steps must be used over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ntire dom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achieve a certain accura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daptive quadratu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thods for integrating functions automatically adjust the step size so that small steps are taken in regions of sharp variations and larger steps are taken where the function changes gradu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Adaptive Quadrature in MATLAB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LAB has two built-in functions for implementing adaptive quadrat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uses adaptive Simpson quadrature; possibly more efficient for low accuracies or nonsmooth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ad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uses Lobatto quadrature; possibly more efficient for high accuracies and smooth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quad(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fu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ol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rac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p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p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fu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 function to be integ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integration b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desired absolute tolerance (default: 10-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r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flag to display details or 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p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p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extra parameters f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ad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s the same arg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hapter Objective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ing how Richardson extrapolation provides a means to create a more accurate integral estimate by combining two less accurate estima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ing how Gauss quadrature provides superior integral estimates by picking optimal abscissas at which to evaluate the fun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ing how to use MATLAB’s built-in function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qua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quad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integrate func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Richardson Extrapolation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ichard extrapol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s use two estimates of an integral to compute a third, more accurate approxi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w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estimate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are calculated for an integral using step size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respectively, an improv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estimate may be formed using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special case where the interval is halved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2), this becom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2362320" y="3962520"/>
                <a:ext cx="4533840" cy="82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3392640" y="5807160"/>
                <a:ext cx="247320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I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I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Richardson Extrapolation (cont)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cases where there are tw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estimates and the interval is halved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2), an improv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estimate may be formed using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cases where there are tw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estimates and the interval is halved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2), an improv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estimate may be formed us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3441600" y="2835360"/>
                <a:ext cx="200988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3416400" y="5105520"/>
                <a:ext cx="206064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The Romberg Integration Algorithm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that the weighting factors for the Richardson extrapolation add up to 1 and that as accuracy increases, the approximation using the smaller step size is given greater we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general,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+1,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-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the more and less accurate integrals, respectively,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new approximation.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level of integration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used to determine which approximation is more accur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3048120" y="3200400"/>
                <a:ext cx="285912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Romberg Algorithm Iteration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art below shows the process by which lower level integrations are combined to produce more accurate estim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80880" y="2971800"/>
            <a:ext cx="845820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MATLAB Code for Romberg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600200" y="1025640"/>
            <a:ext cx="6019920" cy="57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Gauss Quadrature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5257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auss quadr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scribes a class of techniques for evaluating the area under a straight line by joinin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wo points on a curve rather than simply choosing the endpoi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key is to choose the line that balances the positive and negative err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52920" y="1371600"/>
            <a:ext cx="3691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Gauss-Legendre Formula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auss-Legend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mulas seem to optimize estimates to integrals for functions over intervals from -1 to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ls over other intervals require a change in variables to set the limits from -1 to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tegral estimates are of the form: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calculated to ensure that the method exactly integrates up to (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polynomials over the interval from -1 to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2438280" y="4013280"/>
                <a:ext cx="44974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@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r>
                      <m:t xml:space="preserve">L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7:37:24Z</dcterms:created>
  <dc:creator>Duke University</dc:creator>
  <dc:description/>
  <dc:language>en-US</dc:language>
  <cp:lastModifiedBy>Steven Chapra</cp:lastModifiedBy>
  <dcterms:modified xsi:type="dcterms:W3CDTF">2011-02-11T21:10:01Z</dcterms:modified>
  <cp:revision>35</cp:revision>
  <dc:subject/>
  <dc:title>Chapter 1</dc:title>
</cp:coreProperties>
</file>