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F17-C761-409E-90CB-62E99977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F8A-F9D6-4765-A7E0-277FF77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252-5559-49E8-AD0A-7E55CE9E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573-D4D9-4577-A253-B7759DA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7F8-3FF5-454C-87FE-B1A34A5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064-C5C9-4F62-9DBC-87FC8B0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E48-3AB3-4D85-8515-97352F9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415-FB18-40AF-B9C6-D732F0F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37B-5640-441A-953E-CCD4F70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0E3-C160-4512-9748-C97AFB4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D34-9854-4A5F-B688-C53974E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3A2-8280-41F0-83F1-C11649C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1473-A0A3-40B5-AB65-E52BCF2F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Model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Method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5943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572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uler's method in 2 s interval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rove the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46160" y="1687680"/>
            <a:ext cx="52578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ases for Numerical Mode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laws provide the foundation for many model func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ields of engineering and science apply these laws to different paradigms with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se law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ummary of Numerical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 is divided into five categories of numerical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5638680"/>
            <a:ext cx="4419720" cy="109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4510080" cy="1176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5925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52920" y="2743200"/>
            <a:ext cx="45910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how mathematical models can be formulated on the basis of scientific principles to simulate the behavior of a simple physic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numerical methods afford a means to generalize solutions in a manner that can be implemented on a digital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different types of conservation laws that lie beneath the models used in the various engineering disciplines and appreciating the difference between steady-state and dynamic solutions of thes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the different types of numerical methods we will cover in this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 Simple Mathematical Model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hematical model can be broadly defined as a formulation or equation that expresses the essential features of a physical system or process in mathematical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can be represented by a functional relationship between dependent variables, independent variables, parameters, and forcing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924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characteristic that usually reflects the behavior or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imensions, such as time and space, along which the system’s behavior is being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nstants reflective of the system’s properties or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cing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xternal influences acting up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93760" y="1270080"/>
                <a:ext cx="65102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epend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variable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dependen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iables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, parameters,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cing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unction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Function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a bungee jumper is in mid-flight, an analytical model for the jumper’s velocity, accounting for drag, i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 -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 -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- ma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rag coeffic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function - gravitational acceleration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02440" y="1981080"/>
            <a:ext cx="132408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09680" y="2590920"/>
                <a:ext cx="3429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omputer (or a calculator), the model can be used to generate a graphical representation of the system.  For example, the graph below represents the velocity of a 68.1 kg jumper, assuming a drag coefficient of 0.25 kg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370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Modelin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ystem models will be given as implicit functions or as differential equations - these can be solved either using analytical methods or numer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 the bungee jumper velocity equation from before is the analytical solution to the differential equ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change in velocity is determined by the gravitational forces acting on the jumper versus the drag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52680" y="4060800"/>
                <a:ext cx="2743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the problem using a numerical method, note that the time rate of change of velocity can be approximated 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2849400"/>
            <a:ext cx="4724280" cy="400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3962520"/>
                <a:ext cx="3733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'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960" y="111888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the finite difference into the differential equation g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51040" y="3281400"/>
            <a:ext cx="3813480" cy="1077840"/>
            <a:chOff x="2651040" y="3281400"/>
            <a:chExt cx="3813480" cy="1077840"/>
          </a:xfrm>
        </p:grpSpPr>
        <p:sp>
          <p:nvSpPr>
            <p:cNvPr id="70" name=""/>
            <p:cNvSpPr/>
            <p:nvPr/>
          </p:nvSpPr>
          <p:spPr>
            <a:xfrm>
              <a:off x="4744800" y="3662280"/>
              <a:ext cx="171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= g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      v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1360" y="3292200"/>
              <a:ext cx="28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01760" y="3902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4080" y="39207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53280" y="3890880"/>
              <a:ext cx="48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651040" y="3281400"/>
              <a:ext cx="1873440" cy="1053360"/>
              <a:chOff x="2651040" y="3281400"/>
              <a:chExt cx="1873440" cy="1053360"/>
            </a:xfrm>
          </p:grpSpPr>
          <p:sp>
            <p:nvSpPr>
              <p:cNvPr id="76" name=""/>
              <p:cNvSpPr/>
              <p:nvPr/>
            </p:nvSpPr>
            <p:spPr>
              <a:xfrm>
                <a:off x="2710800" y="3281400"/>
                <a:ext cx="1731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v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51040" y="3890880"/>
                <a:ext cx="187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31280" y="3814560"/>
                <a:ext cx="88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626480" y="4778280"/>
            <a:ext cx="5860440" cy="1157400"/>
            <a:chOff x="1626480" y="4778280"/>
            <a:chExt cx="5860440" cy="1157400"/>
          </a:xfrm>
        </p:grpSpPr>
        <p:sp>
          <p:nvSpPr>
            <p:cNvPr id="80" name=""/>
            <p:cNvSpPr/>
            <p:nvPr/>
          </p:nvSpPr>
          <p:spPr>
            <a:xfrm>
              <a:off x="1626480" y="5111640"/>
              <a:ext cx="186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= 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62640" y="5148360"/>
              <a:ext cx="23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+   g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      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54600" y="4778280"/>
              <a:ext cx="28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05000" y="538812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37320" y="54072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46800" y="5116680"/>
              <a:ext cx="114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46760" y="4886280"/>
              <a:ext cx="141120" cy="1033560"/>
            </a:xfrm>
            <a:custGeom>
              <a:avLst/>
              <a:gdLst>
                <a:gd name="textAreaLeft" fmla="*/ 41400 w 141120"/>
                <a:gd name="textAreaRight" fmla="*/ 141480 w 141120"/>
                <a:gd name="textAreaTop" fmla="*/ 42840 h 1033560"/>
                <a:gd name="textAreaBottom" fmla="*/ 9907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008040" y="4902120"/>
              <a:ext cx="141480" cy="1033560"/>
            </a:xfrm>
            <a:custGeom>
              <a:avLst/>
              <a:gdLst>
                <a:gd name="textAreaLeft" fmla="*/ 41400 w 141480"/>
                <a:gd name="textAreaRight" fmla="*/ 141840 w 141480"/>
                <a:gd name="textAreaTop" fmla="*/ 42840 h 1033560"/>
                <a:gd name="textAreaBottom" fmla="*/ 9907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416400" y="2230560"/>
            <a:ext cx="2259360" cy="920520"/>
            <a:chOff x="3416400" y="2230560"/>
            <a:chExt cx="2259360" cy="920520"/>
          </a:xfrm>
        </p:grpSpPr>
        <p:sp>
          <p:nvSpPr>
            <p:cNvPr id="89" name=""/>
            <p:cNvSpPr/>
            <p:nvPr/>
          </p:nvSpPr>
          <p:spPr>
            <a:xfrm>
              <a:off x="3448080" y="2230560"/>
              <a:ext cx="36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dv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81560" y="26938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16400" y="2727360"/>
              <a:ext cx="41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26880" y="2433600"/>
              <a:ext cx="21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79680" y="24224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35360" y="2433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4960" y="223056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3080" y="2470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0960" y="269388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13280" y="2727360"/>
              <a:ext cx="388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9040" y="247824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245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845360" y="611028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 =  old  +      slope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3-28T14:58:18Z</dcterms:modified>
  <cp:revision>14</cp:revision>
  <dc:subject/>
  <dc:title>Chapter 1</dc:title>
</cp:coreProperties>
</file>