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875-1B52-4960-8D99-AFFE67C2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E08-4B48-404D-9CC7-79A938FC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545-DCB8-416B-A86F-1D6D93D6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5744-1BDE-487B-9C9A-9075F98C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BB3-7312-4AB2-8150-C40A0E5C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B2A-93D5-42FE-9FB4-D8048915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ACB-8259-42AB-BC17-6BEDDD87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C7E1-689D-4E06-B53A-BEF171CC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B2B-F887-4404-9250-E08EB0C6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4BB-F6F5-4EEB-8688-4066D872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F4F-9BD2-4796-86B8-17381F63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A149-0D8B-4940-A0AF-773BB996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D658-FC34-4427-8F9B-DA34D1F28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5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19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Integration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Program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2928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impson’s Rul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rawback of the trapezoidal rule is that the error is related to the second derivative of th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icated approximation formulas can improve the accuracy for curves - these include using (a) 2nd and (b) 3rd order polynom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s that result from taking the integrals under these polynomial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pson’s r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fig1711"/>
          <p:cNvPicPr/>
          <p:nvPr/>
        </p:nvPicPr>
        <p:blipFill>
          <a:blip r:embed="rId1"/>
          <a:stretch/>
        </p:blipFill>
        <p:spPr>
          <a:xfrm>
            <a:off x="1752480" y="4208400"/>
            <a:ext cx="59436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impson’s 1/3 Ru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son’s 1/3 rule corresponds to using second-order polynomials.  Using the Lagrange form for a quadratic fit of three points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ver the three points simplifie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002040" y="4902120"/>
                <a:ext cx="32162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609480" y="3429000"/>
                <a:ext cx="8077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rror of Simpson’s 1/3 Ru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stimate for the local truncation error of a single application of Simpson’s 1/3 rule is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ga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omewhere betwe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ormula indicates that the error is dependent upon the fourth-derivative of the actual function as well as the distance between th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e error is dependent on the fifth power of the step size (rather than the third for the trapezoidal rul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can thus be reduced by breaking the curve into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2755800" y="2286000"/>
                <a:ext cx="32940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8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omposite Simpson’s 1/3 Ru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son’s 1/3 rule can be used on a set of subintervals in much the same way the trapezoidal rule was, except t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n odd number of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the heavy weighting of the internal points, the formula is a little more complicated than for the trapezoidal ru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fig1712"/>
          <p:cNvPicPr/>
          <p:nvPr/>
        </p:nvPicPr>
        <p:blipFill>
          <a:blip r:embed="rId1"/>
          <a:stretch/>
        </p:blipFill>
        <p:spPr>
          <a:xfrm>
            <a:off x="4876920" y="1371600"/>
            <a:ext cx="3809880" cy="2984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762120" y="4419720"/>
                <a:ext cx="8153280" cy="20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even</m:t>
                    </m:r>
                    <m:limLow>
                      <m:e/>
                      <m:li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lim>
                    </m:limLow>
                    <m:r>
                      <m:t xml:space="preserve">+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impson’s 3/8 Ru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952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son’s 3/8 rule corresponds to using third-order polynomials to fit four points. Integration over the four points simplifies to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son’s 3/8 rule is generally used in concert with Simpson’s 1/3 rule when the number of segments is o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685800" y="2997360"/>
                <a:ext cx="42800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3" name="Picture 6" descr="fig1713"/>
          <p:cNvPicPr/>
          <p:nvPr/>
        </p:nvPicPr>
        <p:blipFill>
          <a:blip r:embed="rId1"/>
          <a:stretch/>
        </p:blipFill>
        <p:spPr>
          <a:xfrm>
            <a:off x="5265720" y="1523880"/>
            <a:ext cx="3878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Higher-Order Formula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-order Newton-Cotes formulas may also be used - in general, the higher the order of the polynomial used, the higher the derivative of the function in the error estimate and the higher the power of the step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n Simpson’s 1/3 and 3/8 rule, the even-segment-odd-point formulas have truncation errors that are the same order as formulas adding one more point.  For this reason, the even-segment-odd-point formulas are usually the methods of pre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Integration with Unequal Segment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formulas were simplified based on equispaced data points - though this is not always the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pezoidal rule may be used with data containing unequal seg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228600" y="4191120"/>
                <a:ext cx="872316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Integration Code for Unequal Segment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100" name="Picture 4" descr="fig1714"/>
          <p:cNvPicPr/>
          <p:nvPr/>
        </p:nvPicPr>
        <p:blipFill>
          <a:blip r:embed="rId1"/>
          <a:stretch/>
        </p:blipFill>
        <p:spPr>
          <a:xfrm>
            <a:off x="380880" y="1414440"/>
            <a:ext cx="838224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Func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has built-in functions to evaluate integrals based on the trapezoidal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 = trapz(y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 = trapz(x, y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the integra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respec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mitted, the program assum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 = cumtrapz(y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 = cumtrapz(x, y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the cumulative integra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respec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mitted, the program assum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that Newton-Cotes integration formulas are based on the strategy of replacing a complicated function or tabulated data with a polynomial that is easy to integ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implement the following single application Newton-Cotes formu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pezoidal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son’s 1/3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son’s 3/8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implement the following composite Newton-Cotes formu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pezoidal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son’s 3/8 r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ultiple Integral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tegrals can be determined numerically by first integrating in one dimension, then a second, and so on for all dimensions of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fig1716"/>
          <p:cNvPicPr/>
          <p:nvPr/>
        </p:nvPicPr>
        <p:blipFill>
          <a:blip r:embed="rId1"/>
          <a:stretch/>
        </p:blipFill>
        <p:spPr>
          <a:xfrm>
            <a:off x="5486400" y="1295280"/>
            <a:ext cx="3505320" cy="269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fig1717"/>
          <p:cNvPicPr/>
          <p:nvPr/>
        </p:nvPicPr>
        <p:blipFill>
          <a:blip r:embed="rId2"/>
          <a:stretch/>
        </p:blipFill>
        <p:spPr>
          <a:xfrm>
            <a:off x="1752480" y="3962520"/>
            <a:ext cx="62326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bjective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ing that even-segment-odd-point formulas like Simpson’s 1/3 rule achieve higher than expected accu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ing how to use the trapezoidal rule to integrate unequally spaced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difference between open and closed integration formul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Integr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total value, or summation,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the range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ig1701"/>
          <p:cNvPicPr/>
          <p:nvPr/>
        </p:nvPicPr>
        <p:blipFill>
          <a:blip r:embed="rId1"/>
          <a:stretch/>
        </p:blipFill>
        <p:spPr>
          <a:xfrm>
            <a:off x="2666880" y="3143160"/>
            <a:ext cx="3962520" cy="3638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Object 5"/>
              <p:cNvSpPr txBox="1"/>
              <p:nvPr/>
            </p:nvSpPr>
            <p:spPr>
              <a:xfrm>
                <a:off x="3770280" y="1828800"/>
                <a:ext cx="17557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ewton-Cotes Formula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ton-Co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ulas are the most common numerical integration sche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, they are based on replacing a complicated function or tabulated data with a polynomial that is easy to integrate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der interpolating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2895480" y="4114800"/>
                <a:ext cx="33339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@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ewton-Cotes Exampl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grating function can be polynomials for any order - for example, (a) straight lines or (b) parabo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gral can be approximated in one step or in a series of steps to improve accu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ig1704"/>
          <p:cNvPicPr/>
          <p:nvPr/>
        </p:nvPicPr>
        <p:blipFill>
          <a:blip r:embed="rId1"/>
          <a:stretch/>
        </p:blipFill>
        <p:spPr>
          <a:xfrm>
            <a:off x="4740120" y="1371600"/>
            <a:ext cx="4327560" cy="21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fig1705"/>
          <p:cNvPicPr/>
          <p:nvPr/>
        </p:nvPicPr>
        <p:blipFill>
          <a:blip r:embed="rId2"/>
          <a:stretch/>
        </p:blipFill>
        <p:spPr>
          <a:xfrm>
            <a:off x="5105520" y="3510000"/>
            <a:ext cx="350496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he Trapezoidal Ru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962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pezoidal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of the Newton-Cotes closed integration formulas; it uses a straight-line approximation for the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fig1707"/>
          <p:cNvPicPr/>
          <p:nvPr/>
        </p:nvPicPr>
        <p:blipFill>
          <a:blip r:embed="rId1"/>
          <a:stretch/>
        </p:blipFill>
        <p:spPr>
          <a:xfrm>
            <a:off x="4343400" y="1295280"/>
            <a:ext cx="4572000" cy="3259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703440" y="3981600"/>
                <a:ext cx="4402080" cy="24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rror of the Trapezoidal Ru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stimate for the local truncation error of a single application of the trapezoidal rule is: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somewhere betwe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ormula indicates that the error is dependent upon the curvature of the actual function as well as the distance between the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can thus be reduced by breaking the curve into pa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990720" y="2682720"/>
                <a:ext cx="27781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8" name="Picture 5" descr="fig1708"/>
          <p:cNvPicPr/>
          <p:nvPr/>
        </p:nvPicPr>
        <p:blipFill>
          <a:blip r:embed="rId1"/>
          <a:stretch/>
        </p:blipFill>
        <p:spPr>
          <a:xfrm>
            <a:off x="5105520" y="1295280"/>
            <a:ext cx="3352680" cy="2678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fig1709"/>
          <p:cNvPicPr/>
          <p:nvPr/>
        </p:nvPicPr>
        <p:blipFill>
          <a:blip r:embed="rId2"/>
          <a:stretch/>
        </p:blipFill>
        <p:spPr>
          <a:xfrm>
            <a:off x="5181480" y="3962520"/>
            <a:ext cx="3124440" cy="26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omposite Trapezoidal Ru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5562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data points are evenly spaced, there will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vals over which to integ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integral can be calculated by integrating each subinterval and then adding them toge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fig1709"/>
          <p:cNvPicPr/>
          <p:nvPr/>
        </p:nvPicPr>
        <p:blipFill>
          <a:blip r:embed="rId1"/>
          <a:stretch/>
        </p:blipFill>
        <p:spPr>
          <a:xfrm>
            <a:off x="5715000" y="1295280"/>
            <a:ext cx="3124080" cy="2660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304920" y="4114800"/>
                <a:ext cx="861048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09:52Z</dcterms:modified>
  <cp:revision>40</cp:revision>
  <dc:subject/>
  <dc:title>Chapter 1</dc:title>
</cp:coreProperties>
</file>