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22F-F225-4A6C-936C-68D65258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3A4-6D9B-45EB-85E3-6974241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206-A677-43A0-B605-10BAE600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F10-1406-4417-BEB9-B03FDBA7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745-2F24-4C19-B444-FE0C0903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ECF-3835-4302-B72A-10611D47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362-C30F-4690-B476-2F3890F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82D-25B4-476A-96C9-757C67E3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800-8078-4E4B-85DD-66628A8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2B8-ECB3-4B84-9752-6CE06F8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991-C958-4A3E-ACE8-A39AFC8D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A25-DF5C-4280-AED7-A5ECF89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5CCD-1085-4CD7-87A2-7FD7C2D7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8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s and Piecewis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wo Additional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options for the final two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end conditions - assume the second derivative at the end knots are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mped end conditions - assume the first derivatives at the first and last knots are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-a-knot” end conditions - force continuity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 at the second and penultimate points (results in the first two intervals having the same spline function and the last two intervals having the same splin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4468680"/>
            <a:ext cx="4023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iecewise Interpolat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several built-in functions to implement piecewise interpolation.  The first is splin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y=spline(x, y, x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erforms cubic spline interpolation, generally using not-a-knot conditions. 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more value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entries, then the first and last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as the derivatives at the end points (i.e. clamp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t-a-knot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ata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linspace(-1, 1, 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./(1+25*x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100 model point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ot-a-knot interpol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 = linspace(-1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 = spline(x, y, x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ctual function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del points and data points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point not-a-knot interpolation (soli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ctual function (dashe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 = 1./(1+25*xx.^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ot(x, y, ‘o’, xx, yy, ‘-’, xx, yr, ‘-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9200" y="1809720"/>
            <a:ext cx="4114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amped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ata w/ first derivative in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linspace(-1, 1, 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./(1+25*x.^2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 = [1 y -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100 model point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ot-a-knot interpol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 = linspace(-1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c = spline(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x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ctual function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del points and data points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point clamped interpolation (soli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ctual function (dashe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 = 1./(1+25*xx.^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ot(x, y, ‘o’, x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y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‘-’, xx, yr, ‘-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738440"/>
            <a:ext cx="4114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’s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interp1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nly perform cubic splines, 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rp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perform several different kinds of interpola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i = interp1(x, y, xi, ‘method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the 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the points at which to interp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tho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ring containing the desired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ares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earest neighb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ar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nects the points with straigh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line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ot-a-knot cubic spline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chip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cubic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iecewise cubic Hermite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iecewise Polynomial Comparis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648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olation methods for one-dimensional problems can be extended to multidimensional interp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bilinear interpolation using Lagrange-form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4114800"/>
                <a:ext cx="299268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76920" y="942840"/>
            <a:ext cx="426708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71808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Interpolat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for two- and three-dimensional piecewise interpolation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i = interp2(x, y, z, xi, yi, ‘method’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 = interp3(x, y, z, v, xi, yi, zi, ‘method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thod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gain a string containing the desired metho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nearest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linear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spline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pchip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cubi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-D interpolation, the inputs must either be vectors or same-size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3-D interpolation, the inputs must either be vectors or same-size 3-D ar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at splines minimize oscillations by fitting lower-order polynomials to data in a piecewise fash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develop code to perform table loo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why cubic polynomials are preferable to quadratic and higher-order sp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onditions that underlie a cubic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differences between natural, clamped, and not-a-knot end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fit a spline to data with MATLAB’s built-in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multidimensional interpolation is implemented with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roduction to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ternative approach to using a sing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polynomial to interpolate between n points is to apply lower-order polynomials in a piecewise fashion to subsets of data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nnecting polynomial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line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s minimize oscillations and reduce round-off error due to their lower-order natu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 Order vs.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nes eliminate oscillations by using small subsets of points for each interval rather than every point.  This is especially useful when there are jumps in th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1st order polynomials generated by using pairs of points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51800" y="1219320"/>
            <a:ext cx="239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pline Develop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 functio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coefficients are calculated for each interval of a data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data point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used for each spline function depends on the order of the splin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4300560"/>
            <a:ext cx="53179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pline Develop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order splines find straight-line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-order splines find quadratic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first derivatives at the interior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-order splines find cubic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first and second derivatives at the interior point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e results of cubic spline interpolation are different from the results of an interpolating cub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60960" y="1295280"/>
            <a:ext cx="3925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ubic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data of a particular size presents many options for the order of spline functions, cubic splines are preferred because they provide the simplest representation that exhibits the desired appearance of smooth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splines have discontinuous firs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splines have discontinuous second derivatives and require setting the second derivative at some point to a pre-determined val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bu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ic or higher-order splines tend to exhibit the instabilities inherent in higher order polynomials (ill-conditioning or oscil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ubic Splin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line function for a cubic spline can be written a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points,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intervals and thus 4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 unknowns to evaluate to solve all the spline function coeffic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981080" y="2666880"/>
                <a:ext cx="5411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Spline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dition requires that the spline function goes through the first and last point of the interval, yielding 2(n-1) equations of the form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quires that the first derivative is continuous at each interior point, yielding n-2 equations of the for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rd requires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tive is continuous at each interior point, yielding n-2 equations of the for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give 4n-6 total equations and 4n-4 are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2438280"/>
                <a:ext cx="8663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⇒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90440" y="4165560"/>
                <a:ext cx="709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43200" y="5664240"/>
                <a:ext cx="5587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42Z</dcterms:modified>
  <cp:revision>35</cp:revision>
  <dc:subject/>
  <dc:title>Chapter 1</dc:title>
</cp:coreProperties>
</file>