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E91-93B9-4CEB-BA48-5952AEAD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EA62-7DBF-4AC2-813E-AD80C13F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CD2-A6CF-4DFD-ACAF-4E6AD6B7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B71-E38C-4C07-A24F-4D67EC4B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194-872B-46E8-88FC-E9062EAB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89E-D587-4611-B1BE-3B9A733B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6D0-D8D2-4400-9668-DB0A4A86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A2D-BD37-43D2-A976-21835DEE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2AD-538D-4484-898D-B0A4420D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DCA-9873-4909-B2EE-75DABF08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F079-3404-43D7-8A4C-3F6DDABF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4F9-1202-41A9-9815-519787FD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3CDE-4101-4F30-8EDE-9362742A5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4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7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ivided Differenc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d difference are calculated as follows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d differences are calculated using divided difference of a smaller number of term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973160" y="1905120"/>
                <a:ext cx="5257800" cy="21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L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5072040"/>
            <a:ext cx="6613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Implement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1065240"/>
            <a:ext cx="5943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Lagrange Interpolating Polynomial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method that uses shifted value to express an interpolating polynomial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grange interpolating polynom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s between a simply polynomial and Lagrange interpolating polynomials for first and second order polynomials is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weighting coefficients that are function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07960" y="4114800"/>
                <a:ext cx="81788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rder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impl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Lagrange</m:t>
                          </m:r>
                        </m:e>
                      </m:mr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x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nd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Lagrange Interpolating Polynomial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order Lagrange interpolating polynomial may be obtained from a weighted combination of two linear interpolations, as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formula based on known poin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values of the dependent function at those point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67080" y="2173320"/>
            <a:ext cx="4800600" cy="331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84280" y="4572000"/>
                <a:ext cx="421632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Lagrange Interpolating Polynomial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the Lagrange polynomial interpolation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ints i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276720" y="2514600"/>
                <a:ext cx="2816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594240" y="3759120"/>
                <a:ext cx="21812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¹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Implement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987480"/>
            <a:ext cx="73152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Inverse Interpol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olation general means finding some 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or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is between given independent data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, it will be useful to fi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whi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 certain value - this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erse interpo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finding an interpol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it may be useful to find an equation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interpolation and then solve the corresponding roots proble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esi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trapol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trap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rocess of estimating a valu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at lies outside the range of the known base poi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polation represents a step into the unknown, and extreme care should be exercised when extrapola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87800" y="1219320"/>
            <a:ext cx="505620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trapolation Hazar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shows the results of extrapolating a seventh-order population data 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02920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scill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-order polynomials can not only lead to round-off errors due to ill-conditioning, but can also introduce oscillations to an interpolation or fit where they should not 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gures below, the dashed line represents an function, the circles represent samples of the function, and the solid line represents the results of a polynomial interpo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52880" y="4191120"/>
            <a:ext cx="3429000" cy="2668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4186080"/>
            <a:ext cx="34290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ing that evaluating polynomial coefficients with simultaneous equations is an ill-conditioned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evaluate polynomial coefficients and interpolate with MATLAB’s polyfit and polyval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perform an interpolation with Newton’s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perform an interpolation with a Lagrange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solve an inverse interpolation problem by recasting it as a roots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ciating the dangers of extrapo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ing that higher-order polynomials can manifest large oscillat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olynomial Interpol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frequently have occasions to estimate intermediate values between precise data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you use to interpolate must pass through the actual data points - this makes interpolation more restrictive than fit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common method for this purpose is polynomial interpolation, where an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polynomial is solved that passes throug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209680" y="5105520"/>
                <a:ext cx="455292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TLAB version: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etermining Coefficien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polynomial interpolation provides as many basis functions as there are data point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the polynomial coefficients can be found exactly using linear algeb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’s built in polyfit and polyval commands can also be used - all that is required is making sure the order of the fit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points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olynomial Interpolation Problem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roblem that can occur with solving for the coefficients of a polynomial is that the system to be inverted is in the form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ces such as that on the left are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ndermonde matr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they are very ill-conditioned - meaning their solutions are very sensitive to round-off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sue can be minimized by scaling and shifting the dat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438280" y="2152800"/>
                <a:ext cx="403884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L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L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O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L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L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ewton Interpolating Polynomial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to express a polynomial interpolation is to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ton’s interpolating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erences between a simple polynomial and Newton’s interpolating polynomial for first and second order interpolation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2280" y="5181480"/>
                <a:ext cx="88138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rder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impl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ewton</m:t>
                          </m:r>
                        </m:e>
                      </m:mr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x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nd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3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ewton Interpolating Polynomial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-order Newton interpolating polynomial may be obtained from linear interpolation and similar triangles, as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ing formula based on known poi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values of the dependent function at those point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495680" y="1371600"/>
            <a:ext cx="4570560" cy="517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08120" y="5334120"/>
                <a:ext cx="3668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ewton Interpolating Polynomial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-order Newton interpolating polynomial introduces some curvature to the line connecting the points, but still goes through the first two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ing formula based on known poi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values of the dependent function at those point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46680" y="1523880"/>
            <a:ext cx="422100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71520" y="5257800"/>
                <a:ext cx="8400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ewton Interpolating Polynomial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an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wton interpolating polynomial has all the terms of the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nomial plus one ex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formula i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…] repres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vided differ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219320" y="3327480"/>
                <a:ext cx="691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532320" y="3913200"/>
                <a:ext cx="228600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L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09:34Z</dcterms:modified>
  <cp:revision>37</cp:revision>
  <dc:subject/>
  <dc:title>Chapter 1</dc:title>
</cp:coreProperties>
</file>