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6A9-842E-4E5A-9690-79620368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008-77FB-4C0A-9C16-BAE44636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845-DCE1-424F-B15F-8E50CD1C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E5A-6248-40EA-975C-870BA907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A8-B309-4BF1-8D2C-C5BAED6E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1A4-3FE3-459A-B561-2CBC564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4B8-3818-4227-872E-A109FBC3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5E7-2795-4112-9F07-B2440B83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BAF-E3B8-456A-A902-70F53960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A57-AAC2-4A3F-A57E-085ECCE9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609-F377-412B-AB40-8ACDFF5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D6B-10C5-45B3-8307-3547C8A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675-E95F-460E-9146-152658FA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48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16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Prof. Steve Chapra,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Image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ime Versus Frequency Domai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7" name="Picture 5" descr="fig16-06Cropped"/>
          <p:cNvPicPr/>
          <p:nvPr/>
        </p:nvPicPr>
        <p:blipFill>
          <a:blip r:embed="rId1"/>
          <a:stretch/>
        </p:blipFill>
        <p:spPr>
          <a:xfrm>
            <a:off x="2498760" y="1809720"/>
            <a:ext cx="41385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hase Line Spectra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9" name="Picture 4" descr="fig16-07Cropped"/>
          <p:cNvPicPr/>
          <p:nvPr/>
        </p:nvPicPr>
        <p:blipFill>
          <a:blip r:embed="rId1"/>
          <a:stretch/>
        </p:blipFill>
        <p:spPr>
          <a:xfrm>
            <a:off x="1679400" y="1174680"/>
            <a:ext cx="5778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ine Spectra for Square Wave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1" name="Picture 4" descr="fig16-08Cropped"/>
          <p:cNvPicPr/>
          <p:nvPr/>
        </p:nvPicPr>
        <p:blipFill>
          <a:blip r:embed="rId1"/>
          <a:stretch/>
        </p:blipFill>
        <p:spPr>
          <a:xfrm>
            <a:off x="1903320" y="1200240"/>
            <a:ext cx="53308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screte Fourier Transform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3" name="Picture 4" descr="fig16-09Cropped"/>
          <p:cNvPicPr/>
          <p:nvPr/>
        </p:nvPicPr>
        <p:blipFill>
          <a:blip r:embed="rId1"/>
          <a:stretch/>
        </p:blipFill>
        <p:spPr>
          <a:xfrm>
            <a:off x="1700280" y="1905120"/>
            <a:ext cx="5743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perations Versus Sample Size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5" name="Picture 4" descr="fig16-10Cropped"/>
          <p:cNvPicPr/>
          <p:nvPr/>
        </p:nvPicPr>
        <p:blipFill>
          <a:blip r:embed="rId1"/>
          <a:stretch/>
        </p:blipFill>
        <p:spPr>
          <a:xfrm>
            <a:off x="2244600" y="1701720"/>
            <a:ext cx="464688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) = 5 + cos(2</a:t>
            </a:r>
            <a:r>
              <a:rPr b="0" lang="en-US" sz="4000" spc="-1" strike="noStrike">
                <a:solidFill>
                  <a:srgbClr val="42728d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(12.5)</a:t>
            </a: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) +</a:t>
            </a: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sin(2</a:t>
            </a:r>
            <a:r>
              <a:rPr b="0" lang="en-US" sz="4000" spc="-1" strike="noStrike">
                <a:solidFill>
                  <a:srgbClr val="42728d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(18.75)</a:t>
            </a: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7" name="Picture 4" descr="fig16-11Cropped"/>
          <p:cNvPicPr/>
          <p:nvPr/>
        </p:nvPicPr>
        <p:blipFill>
          <a:blip r:embed="rId1"/>
          <a:stretch/>
        </p:blipFill>
        <p:spPr>
          <a:xfrm>
            <a:off x="1104840" y="1206360"/>
            <a:ext cx="69264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wer Spectru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9" name="Picture 4" descr="fig16-12Cropped"/>
          <p:cNvPicPr/>
          <p:nvPr/>
        </p:nvPicPr>
        <p:blipFill>
          <a:blip r:embed="rId1"/>
          <a:stretch/>
        </p:blipFill>
        <p:spPr>
          <a:xfrm>
            <a:off x="995400" y="1628640"/>
            <a:ext cx="7153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Wolf Sunspot Number Versus Year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11" name="Picture 4" descr="fig16-13Cropped"/>
          <p:cNvPicPr/>
          <p:nvPr/>
        </p:nvPicPr>
        <p:blipFill>
          <a:blip r:embed="rId1"/>
          <a:stretch/>
        </p:blipFill>
        <p:spPr>
          <a:xfrm>
            <a:off x="176040" y="1903320"/>
            <a:ext cx="87836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Power Spectrum for Sunspot Numbers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13" name="Picture 4" descr="fig16-14Cropped"/>
          <p:cNvPicPr/>
          <p:nvPr/>
        </p:nvPicPr>
        <p:blipFill>
          <a:blip r:embed="rId1"/>
          <a:stretch/>
        </p:blipFill>
        <p:spPr>
          <a:xfrm>
            <a:off x="771480" y="1738440"/>
            <a:ext cx="76010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sinusoids and how they can be used for curve fi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use least-squares regression to fit a sinusoid to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fit a Fourier series to a periodic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the relationship between sinusoids and complex exponentials based on Euler’s formu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zing the benefits of analyzing mathematical function or signals in the frequency domain (i.e., as a function of frequenc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how the Fourier integral and transform extend Fourier analysis to aperiodic fun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how the discrete Fourier transform (DFT) extends Fourier analysis to discrete sign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zing how discrete sampling affects the ability of the DFT to distinguish frequencies. In particular, know how to compute and interpret the Nyquist frequen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zing how the fast Fourier transform (FFT) provides a highly efficient means to compute the DFT for cases where the data record length is a power of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use the MATLAB function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ompute a DFT and understand how to interpret the resul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compute and interpret a power spectr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eriodic Functions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9376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iodic function is one for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0" y="1841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93120" y="1754280"/>
            <a:ext cx="29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Fig1601new"/>
          <p:cNvPicPr/>
          <p:nvPr/>
        </p:nvPicPr>
        <p:blipFill>
          <a:blip r:embed="rId1"/>
          <a:stretch/>
        </p:blipFill>
        <p:spPr>
          <a:xfrm>
            <a:off x="2011320" y="2903400"/>
            <a:ext cx="5119560" cy="3905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228600" y="227952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64800"/>
            <a:ext cx="8991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nusoi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092680" y="851040"/>
            <a:ext cx="495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29440" y="1622520"/>
            <a:ext cx="162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897640" y="1841400"/>
            <a:ext cx="22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09440" y="1622520"/>
            <a:ext cx="2205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222960" y="1622520"/>
            <a:ext cx="172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029040" y="1442520"/>
            <a:ext cx="39060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4179960" y="1455480"/>
            <a:ext cx="2142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H="1" flipV="1">
            <a:off x="5545080" y="1395360"/>
            <a:ext cx="1555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 flipH="1" flipV="1">
            <a:off x="6638400" y="1407600"/>
            <a:ext cx="24948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Fig1602a"/>
          <p:cNvPicPr/>
          <p:nvPr/>
        </p:nvPicPr>
        <p:blipFill>
          <a:blip r:embed="rId1"/>
          <a:stretch/>
        </p:blipFill>
        <p:spPr>
          <a:xfrm>
            <a:off x="1604880" y="2674800"/>
            <a:ext cx="5929560" cy="3189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8"/>
          <p:cNvGrpSpPr/>
          <p:nvPr/>
        </p:nvGrpSpPr>
        <p:grpSpPr>
          <a:xfrm>
            <a:off x="2923560" y="5754600"/>
            <a:ext cx="3276360" cy="1083240"/>
            <a:chOff x="2923560" y="5754600"/>
            <a:chExt cx="3276360" cy="1083240"/>
          </a:xfrm>
        </p:grpSpPr>
        <p:sp>
          <p:nvSpPr>
            <p:cNvPr id="68" name="Text Box 13"/>
            <p:cNvSpPr/>
            <p:nvPr/>
          </p:nvSpPr>
          <p:spPr>
            <a:xfrm>
              <a:off x="2923560" y="5997600"/>
              <a:ext cx="265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905000" y="575460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4959360" y="625644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7"/>
            <p:cNvSpPr/>
            <p:nvPr/>
          </p:nvSpPr>
          <p:spPr>
            <a:xfrm>
              <a:off x="5311800" y="6321600"/>
              <a:ext cx="4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64800"/>
            <a:ext cx="8991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lternative Repres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4520" y="1066680"/>
            <a:ext cx="701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4240" y="5931000"/>
            <a:ext cx="4163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tan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Fig1602b"/>
          <p:cNvPicPr/>
          <p:nvPr/>
        </p:nvPicPr>
        <p:blipFill>
          <a:blip r:embed="rId1"/>
          <a:stretch/>
        </p:blipFill>
        <p:spPr>
          <a:xfrm>
            <a:off x="2100240" y="2325600"/>
            <a:ext cx="4943520" cy="2648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1840" y="5045040"/>
            <a:ext cx="5278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forms are rel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3"/>
          <p:cNvGrpSpPr/>
          <p:nvPr/>
        </p:nvGrpSpPr>
        <p:grpSpPr>
          <a:xfrm>
            <a:off x="723960" y="5897520"/>
            <a:ext cx="3303720" cy="728280"/>
            <a:chOff x="723960" y="5897520"/>
            <a:chExt cx="3303720" cy="728280"/>
          </a:xfrm>
        </p:grpSpPr>
        <p:sp>
          <p:nvSpPr>
            <p:cNvPr id="78" name="Text Box 14"/>
            <p:cNvSpPr/>
            <p:nvPr/>
          </p:nvSpPr>
          <p:spPr>
            <a:xfrm>
              <a:off x="723960" y="5977080"/>
              <a:ext cx="163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32"/>
            <p:cNvGrpSpPr/>
            <p:nvPr/>
          </p:nvGrpSpPr>
          <p:grpSpPr>
            <a:xfrm>
              <a:off x="2054160" y="5897520"/>
              <a:ext cx="1973520" cy="703800"/>
              <a:chOff x="2054160" y="5897520"/>
              <a:chExt cx="1973520" cy="703800"/>
            </a:xfrm>
          </p:grpSpPr>
          <p:sp>
            <p:nvSpPr>
              <p:cNvPr id="80" name="Freeform 25"/>
              <p:cNvSpPr/>
              <p:nvPr/>
            </p:nvSpPr>
            <p:spPr>
              <a:xfrm>
                <a:off x="2074680" y="5911560"/>
                <a:ext cx="1660680" cy="652680"/>
              </a:xfrm>
              <a:custGeom>
                <a:avLst/>
                <a:gdLst>
                  <a:gd name="textAreaLeft" fmla="*/ 0 w 1660680"/>
                  <a:gd name="textAreaRight" fmla="*/ 1661040 w 1660680"/>
                  <a:gd name="textAreaTop" fmla="*/ 0 h 652680"/>
                  <a:gd name="textAreaBottom" fmla="*/ 652680 h 652680"/>
                </a:gdLst>
                <a:ahLst/>
                <a:rect l="textAreaLeft" t="textAreaTop" r="textAreaRight" b="textAreaBottom"/>
                <a:pathLst>
                  <a:path w="1046" h="411">
                    <a:moveTo>
                      <a:pt x="0" y="274"/>
                    </a:moveTo>
                    <a:lnTo>
                      <a:pt x="38" y="246"/>
                    </a:lnTo>
                    <a:lnTo>
                      <a:pt x="95" y="373"/>
                    </a:lnTo>
                    <a:lnTo>
                      <a:pt x="161" y="0"/>
                    </a:lnTo>
                    <a:lnTo>
                      <a:pt x="1046" y="0"/>
                    </a:lnTo>
                    <a:lnTo>
                      <a:pt x="1046" y="14"/>
                    </a:lnTo>
                    <a:lnTo>
                      <a:pt x="171" y="14"/>
                    </a:lnTo>
                    <a:lnTo>
                      <a:pt x="105" y="411"/>
                    </a:lnTo>
                    <a:lnTo>
                      <a:pt x="90" y="411"/>
                    </a:lnTo>
                    <a:lnTo>
                      <a:pt x="24" y="269"/>
                    </a:lnTo>
                    <a:lnTo>
                      <a:pt x="10" y="283"/>
                    </a:lnTo>
                    <a:lnTo>
                      <a:pt x="0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Group 31"/>
              <p:cNvGrpSpPr/>
              <p:nvPr/>
            </p:nvGrpSpPr>
            <p:grpSpPr>
              <a:xfrm>
                <a:off x="2054160" y="5897520"/>
                <a:ext cx="1973520" cy="703800"/>
                <a:chOff x="2054160" y="5897520"/>
                <a:chExt cx="1973520" cy="703800"/>
              </a:xfrm>
            </p:grpSpPr>
            <p:sp>
              <p:nvSpPr>
                <p:cNvPr id="82" name="Rectangle 26"/>
                <p:cNvSpPr/>
                <p:nvPr/>
              </p:nvSpPr>
              <p:spPr>
                <a:xfrm>
                  <a:off x="2293200" y="5897520"/>
                  <a:ext cx="833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5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8"/>
                <p:cNvSpPr/>
                <p:nvPr/>
              </p:nvSpPr>
              <p:spPr>
                <a:xfrm>
                  <a:off x="2054160" y="6028920"/>
                  <a:ext cx="193680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343080" indent="-343080" algn="r">
                    <a:lnSpc>
                      <a:spcPct val="100000"/>
                    </a:lnSpc>
                    <a:spcBef>
                      <a:spcPts val="8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33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 + B</a:t>
                  </a:r>
                  <a:r>
                    <a:rPr b="0" lang="en-US" sz="33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0"/>
                <p:cNvSpPr/>
                <p:nvPr/>
              </p:nvSpPr>
              <p:spPr>
                <a:xfrm>
                  <a:off x="3194640" y="5898600"/>
                  <a:ext cx="833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5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" name="Freeform 35"/>
          <p:cNvSpPr/>
          <p:nvPr/>
        </p:nvSpPr>
        <p:spPr>
          <a:xfrm>
            <a:off x="2441520" y="2263680"/>
            <a:ext cx="3400560" cy="1287720"/>
          </a:xfrm>
          <a:custGeom>
            <a:avLst/>
            <a:gdLst>
              <a:gd name="textAreaLeft" fmla="*/ 0 w 3400560"/>
              <a:gd name="textAreaRight" fmla="*/ 3400920 w 3400560"/>
              <a:gd name="textAreaTop" fmla="*/ 0 h 1287720"/>
              <a:gd name="textAreaBottom" fmla="*/ 1287720 h 1287720"/>
            </a:gdLst>
            <a:ahLst/>
            <a:rect l="textAreaLeft" t="textAreaTop" r="textAreaRight" b="textAreaBottom"/>
            <a:pathLst>
              <a:path w="2142" h="811">
                <a:moveTo>
                  <a:pt x="0" y="261"/>
                </a:moveTo>
                <a:cubicBezTo>
                  <a:pt x="27" y="303"/>
                  <a:pt x="117" y="448"/>
                  <a:pt x="160" y="515"/>
                </a:cubicBezTo>
                <a:cubicBezTo>
                  <a:pt x="203" y="582"/>
                  <a:pt x="229" y="621"/>
                  <a:pt x="260" y="661"/>
                </a:cubicBezTo>
                <a:cubicBezTo>
                  <a:pt x="291" y="701"/>
                  <a:pt x="312" y="730"/>
                  <a:pt x="344" y="755"/>
                </a:cubicBezTo>
                <a:cubicBezTo>
                  <a:pt x="376" y="780"/>
                  <a:pt x="416" y="808"/>
                  <a:pt x="450" y="809"/>
                </a:cubicBezTo>
                <a:cubicBezTo>
                  <a:pt x="484" y="810"/>
                  <a:pt x="511" y="799"/>
                  <a:pt x="549" y="764"/>
                </a:cubicBezTo>
                <a:cubicBezTo>
                  <a:pt x="587" y="729"/>
                  <a:pt x="624" y="674"/>
                  <a:pt x="676" y="597"/>
                </a:cubicBezTo>
                <a:cubicBezTo>
                  <a:pt x="728" y="520"/>
                  <a:pt x="807" y="384"/>
                  <a:pt x="862" y="299"/>
                </a:cubicBezTo>
                <a:cubicBezTo>
                  <a:pt x="917" y="214"/>
                  <a:pt x="965" y="136"/>
                  <a:pt x="1008" y="87"/>
                </a:cubicBezTo>
                <a:cubicBezTo>
                  <a:pt x="1051" y="38"/>
                  <a:pt x="1079" y="0"/>
                  <a:pt x="1120" y="5"/>
                </a:cubicBezTo>
                <a:cubicBezTo>
                  <a:pt x="1161" y="10"/>
                  <a:pt x="1206" y="61"/>
                  <a:pt x="1254" y="119"/>
                </a:cubicBezTo>
                <a:cubicBezTo>
                  <a:pt x="1302" y="177"/>
                  <a:pt x="1362" y="280"/>
                  <a:pt x="1409" y="353"/>
                </a:cubicBezTo>
                <a:cubicBezTo>
                  <a:pt x="1456" y="426"/>
                  <a:pt x="1493" y="491"/>
                  <a:pt x="1538" y="557"/>
                </a:cubicBezTo>
                <a:cubicBezTo>
                  <a:pt x="1583" y="623"/>
                  <a:pt x="1641" y="709"/>
                  <a:pt x="1680" y="751"/>
                </a:cubicBezTo>
                <a:cubicBezTo>
                  <a:pt x="1719" y="793"/>
                  <a:pt x="1740" y="807"/>
                  <a:pt x="1772" y="809"/>
                </a:cubicBezTo>
                <a:cubicBezTo>
                  <a:pt x="1804" y="811"/>
                  <a:pt x="1838" y="794"/>
                  <a:pt x="1873" y="764"/>
                </a:cubicBezTo>
                <a:cubicBezTo>
                  <a:pt x="1908" y="734"/>
                  <a:pt x="1950" y="680"/>
                  <a:pt x="1985" y="629"/>
                </a:cubicBezTo>
                <a:cubicBezTo>
                  <a:pt x="2020" y="578"/>
                  <a:pt x="2057" y="504"/>
                  <a:pt x="2083" y="457"/>
                </a:cubicBezTo>
                <a:cubicBezTo>
                  <a:pt x="2109" y="410"/>
                  <a:pt x="2130" y="368"/>
                  <a:pt x="2142" y="34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643280" y="2043000"/>
            <a:ext cx="4538520" cy="638280"/>
            <a:chOff x="4643280" y="2043000"/>
            <a:chExt cx="4538520" cy="638280"/>
          </a:xfrm>
        </p:grpSpPr>
        <p:sp>
          <p:nvSpPr>
            <p:cNvPr id="87" name="Text Box 37"/>
            <p:cNvSpPr/>
            <p:nvPr/>
          </p:nvSpPr>
          <p:spPr>
            <a:xfrm>
              <a:off x="5526360" y="2043000"/>
              <a:ext cx="365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(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) =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 +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cos(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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) +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sin(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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9"/>
            <p:cNvSpPr/>
            <p:nvPr/>
          </p:nvSpPr>
          <p:spPr>
            <a:xfrm flipH="1">
              <a:off x="4643280" y="2276640"/>
              <a:ext cx="1116000" cy="40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ing Sinusoids for Curve Fitting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frequently have occasions to estimate intermediate values between precise data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you use to interpolate must pass through the actual data points - this makes interpolation more restrictive than fi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method for this purpose is polynomial interpolation, where a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polynomial is solved that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2209680" y="5105520"/>
                <a:ext cx="45529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 version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ntinuous Fourier Series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3" name="Picture 7" descr="fig16-04Cropped"/>
          <p:cNvPicPr/>
          <p:nvPr/>
        </p:nvPicPr>
        <p:blipFill>
          <a:blip r:embed="rId1"/>
          <a:stretch/>
        </p:blipFill>
        <p:spPr>
          <a:xfrm>
            <a:off x="2616120" y="1239840"/>
            <a:ext cx="34671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uler's Formula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5" name="Picture 4" descr="fig16-05Cropped"/>
          <p:cNvPicPr/>
          <p:nvPr/>
        </p:nvPicPr>
        <p:blipFill>
          <a:blip r:embed="rId1"/>
          <a:stretch/>
        </p:blipFill>
        <p:spPr>
          <a:xfrm>
            <a:off x="2664000" y="2265480"/>
            <a:ext cx="38098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lorraine_buczek</cp:lastModifiedBy>
  <dcterms:modified xsi:type="dcterms:W3CDTF">2011-05-03T14:23:34Z</dcterms:modified>
  <cp:revision>40</cp:revision>
  <dc:subject/>
  <dc:title>Chapter 1</dc:title>
</cp:coreProperties>
</file>