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BBD-081C-4037-BE5A-F6871D6E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AB1-ECD7-4C48-80F1-3C35A4A2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283-D9AC-4269-AF72-67EA9400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796-A64B-4352-9526-1CA88440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704-182B-461F-BCC7-61F8FEB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1EE-3213-4848-A54B-3E467C81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0FF-017B-4389-A26A-431A9D4A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83D-D06C-4141-8E1A-BB0751CC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889-03F8-4CFC-9DF6-6A2D95E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A72-0C35-4D41-A44C-600B7FD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42F-4C8D-4636-A960-4BFBB37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BB1-35D0-41AD-BEAF-A3EBD3A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E0B-347E-47B0-BB10-7E8F4F4A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5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in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-Squares and Non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een in the previous chapter, not all fits are linear equations of coefficients and basis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ethod to handle this is to transform the variables and solve for the best fit of the transformed variables.  There are two problems with this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equations can be transformed easily or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fit line represents the best fit for the transformed variables, not the origin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method is to perform nonlinear regression to directly determine the least-squares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nonlinear regression in MATLAB, write a function that returns the sum of the squares of the estimate residuals for a fit and then use MATLAB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to find the values of the coefficients where a minimum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guments to the function to 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the coefficients, the independent variables, and the dependent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in MATLAB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dependent force data F for independent velocity data v, determine the coefficients for the fi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- write a function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SSR.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the follow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unction f = fSSR(a, xm, y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p = a(1)*xm.^a(2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 = sum((ym-yp).^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se fminsearch in the command window to obtain the values of a that minimiz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S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fminsearch(@fSSR, [1, 1], [], v, F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[1, 1] is an initial guess for the [a0, a1] vector, [] is a placeholder for th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2209680"/>
                <a:ext cx="115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coefficients will produce the larg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data and may be different from the coefficients produced by a 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384720"/>
            <a:ext cx="5867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polynomial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multiple linear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formulation of the general linear least-squares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general linear least-squares model can be solved with MATLAB using either the normal equations or left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o implement nonlinear regression with optimization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Regres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st-squares procedure from Chapter 13 can be readily extended to fit data to a higher-order polynomial.  Again, the idea is to minimize the sum of the squares of the estimate res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the same data fit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st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ond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3800" y="1295280"/>
            <a:ext cx="4210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ocess and Measures of Fi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econd order polynomial, the best fit would mean minimizing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is would mean minimizing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error for fitting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points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 ha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determin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till foun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62160" y="1878120"/>
                <a:ext cx="4452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61960" y="3048120"/>
                <a:ext cx="5853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44680" y="4267080"/>
                <a:ext cx="228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65520" y="5867280"/>
                <a:ext cx="1444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ple Linear Regression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ful extension of linear regression is the case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linear function of two or more independent variabl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the best fit is obtained by minimizing the sum of the squares of the estimate residu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5181480"/>
                <a:ext cx="49528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L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3240" y="3300480"/>
                <a:ext cx="3440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42416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eneral Linear Least Squar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, polynomial, and multiple linear regression all belong to the general linear least-squares model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is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error of the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unctions can be any function data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any of the coeffici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43200" y="2987640"/>
                <a:ext cx="408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General Linear Least Squares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-written for each data point as a matrix equa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dependent data,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coefficients of the equation,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error at each point, and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ing the the valu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is function calculated 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43200" y="1676520"/>
                <a:ext cx="408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657600" y="2514600"/>
                <a:ext cx="22654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971800" y="3657600"/>
                <a:ext cx="32018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General Linear Least Squares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not a square matrix, so simple inversion cannot be used to solve for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.  Instead the sum of the squares of the estimate residuals is minimize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come of this minimization y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0400" y="3448080"/>
                <a:ext cx="29671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70320" y="4952880"/>
                <a:ext cx="2625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in columns, solve for the coefficients of the best fit lin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[ones(size(x) x x.^2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= (Z’*Z)\(Z’*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MATLAB’s left-divide will automatically include the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s if the matrix is not square, 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Z\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work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measures of fi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 = sum((y-mean(y)).^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 = sum((y-Z*a).^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 = 1-Sr/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x = sqrt(Sr/(length(x)-length(a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15Z</dcterms:modified>
  <cp:revision>35</cp:revision>
  <dc:subject/>
  <dc:title>Chapter 1</dc:title>
</cp:coreProperties>
</file>