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F3E-9D4A-4C50-9CEC-423A539D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706-D763-4E18-8E4D-0D83300B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695-1526-49FB-B00B-18F4BC28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5FC-CA7E-4428-9C07-C55F95C7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AAC-04F8-4FC7-8C3C-1EEB545F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A64-E363-40A2-A1F6-EBAE66EC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686-73FA-49BD-93AB-BCF9FB2D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72C-F52D-4BC1-B01A-17DB5FE2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433-56E8-4892-88FA-9591B4FC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1C0-5C9E-4612-9396-05C2222E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F8F-7DC2-4EFE-9CC6-BCA7A0A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155-F5E5-4F61-92B4-CF2E98D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984E-5BE7-4964-9912-3F074DC8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3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3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32004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Prof. Steve Chapra, Tuft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69360" y="579600"/>
            <a:ext cx="22258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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02280" y="307800"/>
            <a:ext cx="386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4040" y="960480"/>
            <a:ext cx="4122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9360" y="898560"/>
            <a:ext cx="56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70080" y="307800"/>
            <a:ext cx="152280" cy="1230480"/>
          </a:xfrm>
          <a:custGeom>
            <a:avLst/>
            <a:gdLst>
              <a:gd name="textAreaLeft" fmla="*/ 44640 w 152280"/>
              <a:gd name="textAreaRight" fmla="*/ 152640 w 152280"/>
              <a:gd name="textAreaTop" fmla="*/ 51120 h 1230480"/>
              <a:gd name="textAreaBottom" fmla="*/ 1179360 h 12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089160" y="304920"/>
            <a:ext cx="152640" cy="1230120"/>
          </a:xfrm>
          <a:custGeom>
            <a:avLst/>
            <a:gdLst>
              <a:gd name="textAreaLeft" fmla="*/ 45000 w 152640"/>
              <a:gd name="textAreaRight" fmla="*/ 153360 w 152640"/>
              <a:gd name="textAreaTop" fmla="*/ 51120 h 1230120"/>
              <a:gd name="textAreaBottom" fmla="*/ 1179000 h 12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4360" y="606600"/>
            <a:ext cx="14803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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4160" y="33480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50720" y="987480"/>
            <a:ext cx="4122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56400" y="925560"/>
            <a:ext cx="56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68680" y="1722600"/>
            <a:ext cx="5399280" cy="1285200"/>
            <a:chOff x="2668680" y="1722600"/>
            <a:chExt cx="5399280" cy="1285200"/>
          </a:xfrm>
        </p:grpSpPr>
        <p:sp>
          <p:nvSpPr>
            <p:cNvPr id="122" name=""/>
            <p:cNvSpPr/>
            <p:nvPr/>
          </p:nvSpPr>
          <p:spPr>
            <a:xfrm>
              <a:off x="5238720" y="2049120"/>
              <a:ext cx="282924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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 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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90080" y="1777680"/>
              <a:ext cx="38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31840" y="2430360"/>
              <a:ext cx="412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37160" y="2368440"/>
              <a:ext cx="56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57880" y="1777680"/>
              <a:ext cx="152280" cy="123012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1120 h 1230120"/>
                <a:gd name="textAreaBottom" fmla="*/ 1179000 h 12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276240" y="1774800"/>
              <a:ext cx="152280" cy="122976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51120 h 1229760"/>
                <a:gd name="textAreaBottom" fmla="*/ 1178640 h 12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76160" y="1993680"/>
              <a:ext cx="71532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440" y="17226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63000" y="2374560"/>
              <a:ext cx="412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8680" y="2312640"/>
              <a:ext cx="56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15040" y="3200400"/>
            <a:ext cx="6092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0 kg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00 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14480" y="3886200"/>
            <a:ext cx="522936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0 –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             5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(10 –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249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now a homogeneous system where the eigenvalue represents the square of the fundamental frequen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760" y="2630520"/>
            <a:ext cx="85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determinant to yield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76320" y="76320"/>
            <a:ext cx="89913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olution: The Polynomial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92160" y="1219320"/>
            <a:ext cx="521352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 –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     10 –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2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22960" y="1176480"/>
            <a:ext cx="761760" cy="1253880"/>
          </a:xfrm>
          <a:prstGeom prst="bracePair">
            <a:avLst>
              <a:gd name="adj" fmla="val 833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13560" y="1179360"/>
            <a:ext cx="762120" cy="1254240"/>
          </a:xfrm>
          <a:prstGeom prst="bracePair">
            <a:avLst>
              <a:gd name="adj" fmla="val 833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97400" y="1521000"/>
            <a:ext cx="25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08200" y="1193760"/>
            <a:ext cx="217440" cy="1225440"/>
          </a:xfrm>
          <a:custGeom>
            <a:avLst/>
            <a:gdLst/>
            <a:ahLst/>
            <a:rect l="l" t="t" r="r" b="b"/>
            <a:pathLst>
              <a:path w="130" h="816">
                <a:moveTo>
                  <a:pt x="126" y="0"/>
                </a:moveTo>
                <a:lnTo>
                  <a:pt x="0" y="0"/>
                </a:lnTo>
                <a:lnTo>
                  <a:pt x="2" y="816"/>
                </a:lnTo>
                <a:lnTo>
                  <a:pt x="130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889520" y="1189080"/>
            <a:ext cx="217440" cy="1225440"/>
          </a:xfrm>
          <a:custGeom>
            <a:avLst/>
            <a:gdLst/>
            <a:ahLst/>
            <a:rect l="l" t="t" r="r" b="b"/>
            <a:pathLst>
              <a:path w="130" h="816">
                <a:moveTo>
                  <a:pt x="126" y="0"/>
                </a:moveTo>
                <a:lnTo>
                  <a:pt x="0" y="0"/>
                </a:lnTo>
                <a:lnTo>
                  <a:pt x="2" y="816"/>
                </a:lnTo>
                <a:lnTo>
                  <a:pt x="130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84160" y="3332160"/>
            <a:ext cx="7463880" cy="1224000"/>
            <a:chOff x="884160" y="3332160"/>
            <a:chExt cx="7463880" cy="1224000"/>
          </a:xfrm>
        </p:grpSpPr>
        <p:sp>
          <p:nvSpPr>
            <p:cNvPr id="144" name=""/>
            <p:cNvSpPr/>
            <p:nvPr/>
          </p:nvSpPr>
          <p:spPr>
            <a:xfrm>
              <a:off x="4377240" y="3649680"/>
              <a:ext cx="3970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(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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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47240" y="3354480"/>
              <a:ext cx="31435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0 –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  –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      10 –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4160" y="333216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54480" y="333216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5600" y="4635360"/>
            <a:ext cx="87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roots of this "characteristic polynomial" are the system's eigen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4560" y="5996160"/>
            <a:ext cx="885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31880" y="5672160"/>
            <a:ext cx="457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19240" y="5877000"/>
            <a:ext cx="90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70320" y="5846760"/>
            <a:ext cx="6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13200" y="5659560"/>
            <a:ext cx="1677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873 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36 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5520" y="0"/>
            <a:ext cx="88376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8640" y="920880"/>
            <a:ext cx="34959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5 /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2.236 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/2.236 = 2.81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44120" y="2271600"/>
            <a:ext cx="4073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10 –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             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(10 –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1200" y="3233880"/>
            <a:ext cx="3915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10 –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             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(10 –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8480" y="4264200"/>
            <a:ext cx="244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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13680" y="5235480"/>
            <a:ext cx="948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32360" y="5896080"/>
            <a:ext cx="1910520" cy="792360"/>
            <a:chOff x="1332360" y="5896080"/>
            <a:chExt cx="1910520" cy="792360"/>
          </a:xfrm>
        </p:grpSpPr>
        <p:sp>
          <p:nvSpPr>
            <p:cNvPr id="161" name=""/>
            <p:cNvSpPr/>
            <p:nvPr/>
          </p:nvSpPr>
          <p:spPr>
            <a:xfrm>
              <a:off x="1332360" y="6099120"/>
              <a:ext cx="508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V 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68200" y="5896080"/>
              <a:ext cx="1079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0.707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0.707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4320" y="5935680"/>
              <a:ext cx="61920" cy="728640"/>
            </a:xfrm>
            <a:custGeom>
              <a:avLst/>
              <a:gdLst>
                <a:gd name="textAreaLeft" fmla="*/ 18000 w 61920"/>
                <a:gd name="textAreaRight" fmla="*/ 62280 w 61920"/>
                <a:gd name="textAreaTop" fmla="*/ 30240 h 728640"/>
                <a:gd name="textAreaBottom" fmla="*/ 698400 h 72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180960" y="5916600"/>
              <a:ext cx="61920" cy="728640"/>
            </a:xfrm>
            <a:custGeom>
              <a:avLst/>
              <a:gdLst>
                <a:gd name="textAreaLeft" fmla="*/ 18360 w 61920"/>
                <a:gd name="textAreaRight" fmla="*/ 62640 w 61920"/>
                <a:gd name="textAreaTop" fmla="*/ 30240 h 728640"/>
                <a:gd name="textAreaBottom" fmla="*/ 698400 h 72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823640" y="3233880"/>
            <a:ext cx="4081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10 – 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             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(10 – 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3280" y="4262400"/>
            <a:ext cx="2274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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61480" y="5207040"/>
            <a:ext cx="119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 –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915520" y="5896080"/>
            <a:ext cx="1888560" cy="792360"/>
            <a:chOff x="5915520" y="5896080"/>
            <a:chExt cx="1888560" cy="792360"/>
          </a:xfrm>
        </p:grpSpPr>
        <p:sp>
          <p:nvSpPr>
            <p:cNvPr id="169" name=""/>
            <p:cNvSpPr/>
            <p:nvPr/>
          </p:nvSpPr>
          <p:spPr>
            <a:xfrm>
              <a:off x="5915520" y="6099480"/>
              <a:ext cx="508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V 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40200" y="5896080"/>
              <a:ext cx="1079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0.707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0.707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56320" y="5936040"/>
              <a:ext cx="61920" cy="728640"/>
            </a:xfrm>
            <a:custGeom>
              <a:avLst/>
              <a:gdLst>
                <a:gd name="textAreaLeft" fmla="*/ 18000 w 61920"/>
                <a:gd name="textAreaRight" fmla="*/ 62280 w 61920"/>
                <a:gd name="textAreaTop" fmla="*/ 30240 h 728640"/>
                <a:gd name="textAreaBottom" fmla="*/ 698400 h 72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742160" y="5916960"/>
              <a:ext cx="61920" cy="728640"/>
            </a:xfrm>
            <a:custGeom>
              <a:avLst/>
              <a:gdLst>
                <a:gd name="textAreaLeft" fmla="*/ 18360 w 61920"/>
                <a:gd name="textAreaRight" fmla="*/ 62640 w 61920"/>
                <a:gd name="textAreaTop" fmla="*/ 30240 h 728640"/>
                <a:gd name="textAreaBottom" fmla="*/ 698400 h 72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289480" y="923760"/>
            <a:ext cx="35877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15 /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3.873 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/3.373 = 1.62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0560" y="3233880"/>
            <a:ext cx="0" cy="349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rinciple Modes of Vibr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77480" y="1139760"/>
            <a:ext cx="8780760" cy="5575320"/>
            <a:chOff x="177480" y="1139760"/>
            <a:chExt cx="8780760" cy="557532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610920" y="1139760"/>
              <a:ext cx="7972560" cy="55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77480" y="3406680"/>
              <a:ext cx="1116360" cy="745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1.6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41880" y="5057640"/>
              <a:ext cx="1116360" cy="745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2.8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1440" y="903240"/>
            <a:ext cx="859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tive method to compute the largest eigenvalu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s associated eigenv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76320" y="76320"/>
            <a:ext cx="89913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Pow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03560" y="1595520"/>
            <a:ext cx="2929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]]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000" y="2203560"/>
            <a:ext cx="2152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7840" y="2657520"/>
            <a:ext cx="87804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lgorith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eval, evect] = powereig(A,es,max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=length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ct=ones(n,1);eval=1;iter=0;ea=100; %initi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old=eval;           %save old eigenvalu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ct=A*evect;          %determine eigenvector as [A]*{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=max(abs(evect));   %determine new eigen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ct=evect./eval;      %normalize eigenvector to eigen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=iter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val~=0, ea = abs((eval-evalold)/eval)*100;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a&lt;=es | iter &gt;= maxit,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74520" y="0"/>
            <a:ext cx="89917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: The Pow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49600" y="1766880"/>
            <a:ext cx="5757480" cy="1311840"/>
            <a:chOff x="1749600" y="1766880"/>
            <a:chExt cx="5757480" cy="1311840"/>
          </a:xfrm>
        </p:grpSpPr>
        <p:sp>
          <p:nvSpPr>
            <p:cNvPr id="187" name=""/>
            <p:cNvSpPr/>
            <p:nvPr/>
          </p:nvSpPr>
          <p:spPr>
            <a:xfrm>
              <a:off x="1773360" y="1812960"/>
              <a:ext cx="189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   40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49600" y="1766880"/>
              <a:ext cx="272880" cy="1282680"/>
            </a:xfrm>
            <a:custGeom>
              <a:avLst/>
              <a:gdLst/>
              <a:ahLst/>
              <a:rect l="l" t="t" r="r" b="b"/>
              <a:pathLst>
                <a:path w="172" h="808">
                  <a:moveTo>
                    <a:pt x="142" y="0"/>
                  </a:moveTo>
                  <a:lnTo>
                    <a:pt x="0" y="0"/>
                  </a:lnTo>
                  <a:lnTo>
                    <a:pt x="7" y="801"/>
                  </a:lnTo>
                  <a:lnTo>
                    <a:pt x="172" y="8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473640" y="1776240"/>
              <a:ext cx="272880" cy="1282680"/>
            </a:xfrm>
            <a:custGeom>
              <a:avLst/>
              <a:gdLst/>
              <a:ahLst/>
              <a:rect l="l" t="t" r="r" b="b"/>
              <a:pathLst>
                <a:path w="172" h="808">
                  <a:moveTo>
                    <a:pt x="142" y="0"/>
                  </a:moveTo>
                  <a:lnTo>
                    <a:pt x="0" y="0"/>
                  </a:lnTo>
                  <a:lnTo>
                    <a:pt x="7" y="801"/>
                  </a:lnTo>
                  <a:lnTo>
                    <a:pt x="172" y="8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49840" y="1790640"/>
              <a:ext cx="225360" cy="127944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23000" y="1887480"/>
              <a:ext cx="34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327560" y="1790640"/>
              <a:ext cx="225360" cy="127944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87840" y="2166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29120" y="1790640"/>
              <a:ext cx="225360" cy="127944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3000" y="1887480"/>
              <a:ext cx="519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529240" y="1790640"/>
              <a:ext cx="225360" cy="127944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51440" y="216360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1960" y="1787400"/>
              <a:ext cx="225360" cy="127944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9360" y="1884240"/>
              <a:ext cx="34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281000" y="1787400"/>
              <a:ext cx="225720" cy="1279440"/>
            </a:xfrm>
            <a:custGeom>
              <a:avLst/>
              <a:gdLst>
                <a:gd name="textAreaLeft" fmla="*/ 144360 w 225720"/>
                <a:gd name="textAreaRight" fmla="*/ 226080 w 22572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17600" y="1071720"/>
            <a:ext cx="25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it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62200" y="4040280"/>
            <a:ext cx="18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38440" y="399420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462480" y="400356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38680" y="4017960"/>
            <a:ext cx="225360" cy="1279440"/>
          </a:xfrm>
          <a:custGeom>
            <a:avLst/>
            <a:gdLst>
              <a:gd name="textAreaLeft" fmla="*/ 144000 w 225360"/>
              <a:gd name="textAreaRight" fmla="*/ 22572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11840" y="4114800"/>
            <a:ext cx="34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316400" y="401796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6680" y="4394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17960" y="4017960"/>
            <a:ext cx="225720" cy="1279440"/>
          </a:xfrm>
          <a:custGeom>
            <a:avLst/>
            <a:gdLst>
              <a:gd name="textAreaLeft" fmla="*/ 144360 w 225720"/>
              <a:gd name="textAreaRight" fmla="*/ 226080 w 22572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74920" y="4114800"/>
            <a:ext cx="6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629320" y="401796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73760" y="4390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03920" y="4014720"/>
            <a:ext cx="225360" cy="1279440"/>
          </a:xfrm>
          <a:custGeom>
            <a:avLst/>
            <a:gdLst>
              <a:gd name="textAreaLeft" fmla="*/ 144000 w 225360"/>
              <a:gd name="textAreaRight" fmla="*/ 22572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11280" y="4111560"/>
            <a:ext cx="45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304040" y="401472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6440" y="329868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it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367720" y="5688000"/>
            <a:ext cx="4447800" cy="831960"/>
            <a:chOff x="2367720" y="5688000"/>
            <a:chExt cx="4447800" cy="831960"/>
          </a:xfrm>
        </p:grpSpPr>
        <p:sp>
          <p:nvSpPr>
            <p:cNvPr id="218" name=""/>
            <p:cNvSpPr/>
            <p:nvPr/>
          </p:nvSpPr>
          <p:spPr>
            <a:xfrm>
              <a:off x="2367720" y="5867640"/>
              <a:ext cx="90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147120" y="5688000"/>
              <a:ext cx="1315080" cy="831960"/>
              <a:chOff x="3147120" y="5688000"/>
              <a:chExt cx="1315080" cy="831960"/>
            </a:xfrm>
          </p:grpSpPr>
          <p:sp>
            <p:nvSpPr>
              <p:cNvPr id="220" name=""/>
              <p:cNvSpPr/>
              <p:nvPr/>
            </p:nvSpPr>
            <p:spPr>
              <a:xfrm>
                <a:off x="3147120" y="5694480"/>
                <a:ext cx="1282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3303360" y="6115320"/>
                <a:ext cx="1090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225600" y="5688000"/>
                <a:ext cx="0" cy="73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62200" y="5688000"/>
                <a:ext cx="0" cy="73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484520" y="588816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= 50%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74520" y="0"/>
            <a:ext cx="89917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: The Pow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7600" y="804960"/>
            <a:ext cx="25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it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01040" y="2929680"/>
            <a:ext cx="4739400" cy="832320"/>
            <a:chOff x="2201040" y="2929680"/>
            <a:chExt cx="4739400" cy="832320"/>
          </a:xfrm>
        </p:grpSpPr>
        <p:sp>
          <p:nvSpPr>
            <p:cNvPr id="228" name=""/>
            <p:cNvSpPr/>
            <p:nvPr/>
          </p:nvSpPr>
          <p:spPr>
            <a:xfrm>
              <a:off x="2201040" y="3109680"/>
              <a:ext cx="90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30040" y="2936520"/>
              <a:ext cx="138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214440" y="3357360"/>
              <a:ext cx="10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4640" y="2929680"/>
              <a:ext cx="0" cy="73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62480" y="2929680"/>
              <a:ext cx="0" cy="73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40240" y="313020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= 150%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90680" y="1479600"/>
            <a:ext cx="18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66920" y="143352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090960" y="144288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27200" y="1833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23200" y="1825560"/>
            <a:ext cx="88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566040" y="1454040"/>
            <a:ext cx="1214280" cy="1283400"/>
            <a:chOff x="6566040" y="1454040"/>
            <a:chExt cx="1214280" cy="1283400"/>
          </a:xfrm>
        </p:grpSpPr>
        <p:sp>
          <p:nvSpPr>
            <p:cNvPr id="240" name=""/>
            <p:cNvSpPr/>
            <p:nvPr/>
          </p:nvSpPr>
          <p:spPr>
            <a:xfrm>
              <a:off x="6566040" y="1454040"/>
              <a:ext cx="225360" cy="127980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63680" y="1546200"/>
              <a:ext cx="87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554960" y="1454040"/>
              <a:ext cx="225360" cy="127980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506760" y="1420920"/>
            <a:ext cx="825480" cy="1288080"/>
            <a:chOff x="3506760" y="1420920"/>
            <a:chExt cx="825480" cy="1288080"/>
          </a:xfrm>
        </p:grpSpPr>
        <p:sp>
          <p:nvSpPr>
            <p:cNvPr id="244" name=""/>
            <p:cNvSpPr/>
            <p:nvPr/>
          </p:nvSpPr>
          <p:spPr>
            <a:xfrm>
              <a:off x="3506760" y="1420920"/>
              <a:ext cx="225360" cy="127944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14120" y="1517760"/>
              <a:ext cx="452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106880" y="1420920"/>
              <a:ext cx="225360" cy="127944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654440" y="1413000"/>
            <a:ext cx="936720" cy="1288080"/>
            <a:chOff x="4654440" y="1413000"/>
            <a:chExt cx="936720" cy="1288080"/>
          </a:xfrm>
        </p:grpSpPr>
        <p:sp>
          <p:nvSpPr>
            <p:cNvPr id="248" name=""/>
            <p:cNvSpPr/>
            <p:nvPr/>
          </p:nvSpPr>
          <p:spPr>
            <a:xfrm>
              <a:off x="4654440" y="1413000"/>
              <a:ext cx="225720" cy="1279440"/>
            </a:xfrm>
            <a:custGeom>
              <a:avLst/>
              <a:gdLst>
                <a:gd name="textAreaLeft" fmla="*/ 144360 w 225720"/>
                <a:gd name="textAreaRight" fmla="*/ 226080 w 22572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11400" y="1509840"/>
              <a:ext cx="62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365800" y="1413000"/>
              <a:ext cx="225360" cy="127944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74840" y="3781440"/>
            <a:ext cx="31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it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69280" y="5973120"/>
            <a:ext cx="4983840" cy="832320"/>
            <a:chOff x="2069280" y="5973120"/>
            <a:chExt cx="4983840" cy="832320"/>
          </a:xfrm>
        </p:grpSpPr>
        <p:sp>
          <p:nvSpPr>
            <p:cNvPr id="253" name=""/>
            <p:cNvSpPr/>
            <p:nvPr/>
          </p:nvSpPr>
          <p:spPr>
            <a:xfrm>
              <a:off x="2069280" y="6153120"/>
              <a:ext cx="90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43360" y="5979960"/>
              <a:ext cx="160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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043080" y="642312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82960" y="5973120"/>
              <a:ext cx="0" cy="73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64080" y="5973120"/>
              <a:ext cx="0" cy="73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52920" y="617364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= 214%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914400" y="4522680"/>
            <a:ext cx="18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90640" y="447660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14680" y="448632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73560" y="4876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37160" y="487368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11880" y="4497480"/>
            <a:ext cx="225360" cy="1279440"/>
          </a:xfrm>
          <a:custGeom>
            <a:avLst/>
            <a:gdLst>
              <a:gd name="textAreaLeft" fmla="*/ 144000 w 225360"/>
              <a:gd name="textAreaRight" fmla="*/ 22572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69560" y="4589640"/>
            <a:ext cx="13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14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14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812000" y="449748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00440" y="4456080"/>
            <a:ext cx="225720" cy="1279440"/>
          </a:xfrm>
          <a:custGeom>
            <a:avLst/>
            <a:gdLst>
              <a:gd name="textAreaLeft" fmla="*/ 144360 w 225720"/>
              <a:gd name="textAreaRight" fmla="*/ 226080 w 22572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57400" y="4548240"/>
            <a:ext cx="6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311800" y="445608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67120" y="4489560"/>
            <a:ext cx="225360" cy="1279440"/>
          </a:xfrm>
          <a:custGeom>
            <a:avLst/>
            <a:gdLst>
              <a:gd name="textAreaLeft" fmla="*/ 144000 w 225360"/>
              <a:gd name="textAreaRight" fmla="*/ 22572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4760" y="4581360"/>
            <a:ext cx="87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56040" y="448956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74520" y="0"/>
            <a:ext cx="89917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: The Pow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7600" y="801720"/>
            <a:ext cx="25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it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987920" y="2924280"/>
            <a:ext cx="5123160" cy="766800"/>
            <a:chOff x="1987920" y="2924280"/>
            <a:chExt cx="5123160" cy="766800"/>
          </a:xfrm>
        </p:grpSpPr>
        <p:sp>
          <p:nvSpPr>
            <p:cNvPr id="276" name=""/>
            <p:cNvSpPr/>
            <p:nvPr/>
          </p:nvSpPr>
          <p:spPr>
            <a:xfrm>
              <a:off x="1987920" y="3105000"/>
              <a:ext cx="9928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 Unicode MS"/>
                </a:rPr>
                <a:t>a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| 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16720" y="2987280"/>
              <a:ext cx="1847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68.51714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 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3025800" y="3347640"/>
              <a:ext cx="175248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87560" y="2924280"/>
              <a:ext cx="0" cy="73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13280" y="2924280"/>
              <a:ext cx="0" cy="73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49280" y="318096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100% = 2.08%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31640" y="1465200"/>
            <a:ext cx="8273880" cy="1293840"/>
            <a:chOff x="431640" y="1465200"/>
            <a:chExt cx="8273880" cy="1293840"/>
          </a:xfrm>
        </p:grpSpPr>
        <p:sp>
          <p:nvSpPr>
            <p:cNvPr id="283" name=""/>
            <p:cNvSpPr/>
            <p:nvPr/>
          </p:nvSpPr>
          <p:spPr>
            <a:xfrm>
              <a:off x="511200" y="1562040"/>
              <a:ext cx="160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0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   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   40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   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1640" y="1467000"/>
              <a:ext cx="272880" cy="1282680"/>
            </a:xfrm>
            <a:custGeom>
              <a:avLst/>
              <a:gdLst/>
              <a:ahLst/>
              <a:rect l="l" t="t" r="r" b="b"/>
              <a:pathLst>
                <a:path w="172" h="808">
                  <a:moveTo>
                    <a:pt x="142" y="0"/>
                  </a:moveTo>
                  <a:lnTo>
                    <a:pt x="0" y="0"/>
                  </a:lnTo>
                  <a:lnTo>
                    <a:pt x="7" y="801"/>
                  </a:lnTo>
                  <a:lnTo>
                    <a:pt x="172" y="8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77840" y="1476360"/>
              <a:ext cx="272880" cy="1282680"/>
            </a:xfrm>
            <a:custGeom>
              <a:avLst/>
              <a:gdLst/>
              <a:ahLst/>
              <a:rect l="l" t="t" r="r" b="b"/>
              <a:pathLst>
                <a:path w="172" h="808">
                  <a:moveTo>
                    <a:pt x="142" y="0"/>
                  </a:moveTo>
                  <a:lnTo>
                    <a:pt x="0" y="0"/>
                  </a:lnTo>
                  <a:lnTo>
                    <a:pt x="7" y="801"/>
                  </a:lnTo>
                  <a:lnTo>
                    <a:pt x="172" y="8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19960" y="19144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65040" y="1944720"/>
              <a:ext cx="14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68.517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13320" y="1465200"/>
              <a:ext cx="225360" cy="127980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53360" y="1662120"/>
              <a:ext cx="118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714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714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8480160" y="1476360"/>
              <a:ext cx="225360" cy="127980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1560" y="1468440"/>
              <a:ext cx="225360" cy="127980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54480" y="1587600"/>
              <a:ext cx="1328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8.517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8.517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8.517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522760" y="1479600"/>
              <a:ext cx="225360" cy="127944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92120" y="1476360"/>
              <a:ext cx="225360" cy="127980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71760" y="1617840"/>
              <a:ext cx="118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714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714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639960" y="1476360"/>
              <a:ext cx="225360" cy="127980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69000" y="5346720"/>
            <a:ext cx="839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smallest eigenvalue and its assoc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genvector can be determined by applying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method to the inverse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04920" y="5273280"/>
            <a:ext cx="8448480" cy="12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" y="3870360"/>
            <a:ext cx="81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can be continued to determine the 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value (= 68.284) with the associated eigen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71  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7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9400" y="282600"/>
            <a:ext cx="8837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etermining Eigenvalues &amp; Eigenvectors with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34480" y="1755720"/>
            <a:ext cx="3868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&gt;&gt; A = [10 -5;-5 1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A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10    -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-5   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&gt;&gt; [v,lambda] = eig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v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-0.7071   -0.707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-0.7071    0.707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lambda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5    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0   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ynamics of Three Story Building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614600" y="1523880"/>
            <a:ext cx="5914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mathematical definition of eigenvalues and eigen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physical interpretation of eigenvalues and eigenvectors within the context of engineering systems that vibrate or oscil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polynomial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power method to evaluate the largest and smallest eigenvalues and their respective eigen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use and interpret MATLAB’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rinciple Modes of Vibr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87480" y="1447920"/>
            <a:ext cx="716760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Dynamics of Three Coupled Bungee Jumpers in Time</a:t>
            </a:r>
            <a:endParaRPr b="0" lang="en-US" sz="40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8120" y="1382760"/>
            <a:ext cx="5923080" cy="4413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4800" y="6005520"/>
            <a:ext cx="68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n underlying pattern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hematic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11760" y="1828800"/>
            <a:ext cx="3118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] {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86080" y="3429000"/>
            <a:ext cx="25700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] {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} = 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6520" y="114300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until now, heterogeneous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1840" y="2697120"/>
            <a:ext cx="66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homogeneous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600" y="426708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vial 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22760" y="4800600"/>
            <a:ext cx="16970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} = 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720" y="5715000"/>
            <a:ext cx="85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nother way of formulating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 the solution would be meaningful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hematic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9600" y="1752480"/>
            <a:ext cx="780516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33440" y="4114800"/>
            <a:ext cx="4793760" cy="929880"/>
            <a:chOff x="2233440" y="4114800"/>
            <a:chExt cx="4793760" cy="929880"/>
          </a:xfrm>
        </p:grpSpPr>
        <p:sp>
          <p:nvSpPr>
            <p:cNvPr id="62" name=""/>
            <p:cNvSpPr/>
            <p:nvPr/>
          </p:nvSpPr>
          <p:spPr>
            <a:xfrm>
              <a:off x="2340000" y="4257720"/>
              <a:ext cx="46872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] – 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</a:t>
              </a:r>
              <a:r>
                <a:rPr b="0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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</a:t>
              </a:r>
              <a:r>
                <a:rPr b="0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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} = 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33440" y="4114800"/>
              <a:ext cx="30319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[             ]</a:t>
              </a: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03120" y="1066680"/>
            <a:ext cx="75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a homogeneous system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65760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n matrix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760" y="5257800"/>
            <a:ext cx="851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case, there could be a valu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the equations equal zero. This i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gen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raphical Depiction of Eigenvalu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Physical Background:</a:t>
            </a:r>
            <a:br>
              <a:rPr sz="4000"/>
            </a:b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Oscillations or </a:t>
            </a:r>
            <a:r>
              <a:rPr b="1" i="1" lang="en-US" sz="4000" spc="-1" strike="noStrike">
                <a:solidFill>
                  <a:srgbClr val="42728d"/>
                </a:solidFill>
                <a:latin typeface="Arial"/>
              </a:rPr>
              <a:t>Vibrations</a:t>
            </a: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 of Mass-Spring Systems</a:t>
            </a:r>
            <a:endParaRPr b="0" lang="en-US" sz="40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8880" y="2219400"/>
            <a:ext cx="76262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2343960" y="2655720"/>
            <a:ext cx="4377600" cy="979560"/>
            <a:chOff x="2343960" y="2655720"/>
            <a:chExt cx="4377600" cy="979560"/>
          </a:xfrm>
        </p:grpSpPr>
        <p:sp>
          <p:nvSpPr>
            <p:cNvPr id="72" name=""/>
            <p:cNvSpPr/>
            <p:nvPr/>
          </p:nvSpPr>
          <p:spPr>
            <a:xfrm>
              <a:off x="2884320" y="3166920"/>
              <a:ext cx="74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43960" y="2976480"/>
              <a:ext cx="360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0640" y="2655720"/>
              <a:ext cx="5950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22200" y="3208320"/>
              <a:ext cx="47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t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94200" y="2990880"/>
              <a:ext cx="2727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 – 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–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286720" y="1606680"/>
            <a:ext cx="4488120" cy="979200"/>
            <a:chOff x="2286720" y="1606680"/>
            <a:chExt cx="4488120" cy="979200"/>
          </a:xfrm>
        </p:grpSpPr>
        <p:sp>
          <p:nvSpPr>
            <p:cNvPr id="78" name=""/>
            <p:cNvSpPr/>
            <p:nvPr/>
          </p:nvSpPr>
          <p:spPr>
            <a:xfrm>
              <a:off x="2827440" y="2117520"/>
              <a:ext cx="7412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86720" y="1927080"/>
              <a:ext cx="360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03760" y="1606680"/>
              <a:ext cx="5950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65320" y="2158920"/>
              <a:ext cx="47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t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37680" y="1941480"/>
              <a:ext cx="28371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 – k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–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80480" y="5802480"/>
            <a:ext cx="3971880" cy="979200"/>
            <a:chOff x="2580480" y="5802480"/>
            <a:chExt cx="3971880" cy="979200"/>
          </a:xfrm>
        </p:grpSpPr>
        <p:grpSp>
          <p:nvGrpSpPr>
            <p:cNvPr id="84" name=""/>
            <p:cNvGrpSpPr/>
            <p:nvPr/>
          </p:nvGrpSpPr>
          <p:grpSpPr>
            <a:xfrm>
              <a:off x="2580480" y="5802480"/>
              <a:ext cx="1281960" cy="979200"/>
              <a:chOff x="2580480" y="5802480"/>
              <a:chExt cx="1281960" cy="979200"/>
            </a:xfrm>
          </p:grpSpPr>
          <p:sp>
            <p:nvSpPr>
              <p:cNvPr id="85" name=""/>
              <p:cNvSpPr/>
              <p:nvPr/>
            </p:nvSpPr>
            <p:spPr>
              <a:xfrm>
                <a:off x="3121200" y="6313680"/>
                <a:ext cx="74124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580480" y="6122880"/>
                <a:ext cx="3603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97160" y="5802480"/>
                <a:ext cx="59508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 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59080" y="6354720"/>
                <a:ext cx="470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t 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4015440" y="6080040"/>
              <a:ext cx="25369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–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427840" y="4737240"/>
            <a:ext cx="4173840" cy="979200"/>
            <a:chOff x="2427840" y="4737240"/>
            <a:chExt cx="4173840" cy="979200"/>
          </a:xfrm>
        </p:grpSpPr>
        <p:grpSp>
          <p:nvGrpSpPr>
            <p:cNvPr id="91" name=""/>
            <p:cNvGrpSpPr/>
            <p:nvPr/>
          </p:nvGrpSpPr>
          <p:grpSpPr>
            <a:xfrm>
              <a:off x="2427840" y="4737240"/>
              <a:ext cx="1281960" cy="979200"/>
              <a:chOff x="2427840" y="4737240"/>
              <a:chExt cx="1281960" cy="979200"/>
            </a:xfrm>
          </p:grpSpPr>
          <p:sp>
            <p:nvSpPr>
              <p:cNvPr id="92" name=""/>
              <p:cNvSpPr/>
              <p:nvPr/>
            </p:nvSpPr>
            <p:spPr>
              <a:xfrm>
                <a:off x="2968560" y="5248440"/>
                <a:ext cx="74124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27840" y="5057640"/>
                <a:ext cx="3603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44880" y="4737240"/>
                <a:ext cx="59508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 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06440" y="5289480"/>
                <a:ext cx="470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t 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3864960" y="5010120"/>
              <a:ext cx="27367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79440" y="394488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76320" y="7632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Model With Force Balances</a:t>
            </a:r>
            <a:br>
              <a:rPr sz="4000"/>
            </a:b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(AKA: </a:t>
            </a:r>
            <a:r>
              <a:rPr b="0" i="1" lang="en-US" sz="4400" spc="-1" strike="noStrike">
                <a:solidFill>
                  <a:srgbClr val="42728d"/>
                </a:solidFill>
                <a:latin typeface="Times New Roman"/>
              </a:rPr>
              <a:t>F = ma</a:t>
            </a: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99000" y="1549440"/>
            <a:ext cx="7075800" cy="1901520"/>
            <a:chOff x="999000" y="1549440"/>
            <a:chExt cx="7075800" cy="1901520"/>
          </a:xfrm>
        </p:grpSpPr>
        <p:sp>
          <p:nvSpPr>
            <p:cNvPr id="100" name=""/>
            <p:cNvSpPr/>
            <p:nvPr/>
          </p:nvSpPr>
          <p:spPr>
            <a:xfrm>
              <a:off x="999000" y="1854360"/>
              <a:ext cx="285012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sin (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568760" y="1549440"/>
              <a:ext cx="3506040" cy="1901520"/>
              <a:chOff x="4568760" y="1549440"/>
              <a:chExt cx="3506040" cy="1901520"/>
            </a:xfrm>
          </p:grpSpPr>
          <p:sp>
            <p:nvSpPr>
              <p:cNvPr id="102" name=""/>
              <p:cNvSpPr/>
              <p:nvPr/>
            </p:nvSpPr>
            <p:spPr>
              <a:xfrm>
                <a:off x="4568760" y="1870200"/>
                <a:ext cx="157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wher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94760" y="1820880"/>
                <a:ext cx="906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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37680" y="1549440"/>
                <a:ext cx="4809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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77640" y="2202120"/>
                <a:ext cx="387720" cy="12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508520" y="2140200"/>
                <a:ext cx="56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428760" y="3156120"/>
            <a:ext cx="83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iate twi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8240" y="4187880"/>
            <a:ext cx="40302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in (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5351400"/>
            <a:ext cx="83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stitute back into system and collect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76320" y="7632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ssume a Sinusoida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chapr01</cp:lastModifiedBy>
  <dcterms:modified xsi:type="dcterms:W3CDTF">2011-04-13T14:48:32Z</dcterms:modified>
  <cp:revision>45</cp:revision>
  <dc:subject/>
  <dc:title>Chapter 1</dc:title>
</cp:coreProperties>
</file>