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066-8C74-46A5-8D93-70487B9E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007-A7EC-4ADA-A11B-28321156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DBF-AA54-402A-9C19-71C213CE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8AB-A217-43FD-A1C5-D10E6988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002-8896-4B88-B575-085430EF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555-DEA0-46B4-B085-DC6C1656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587-E901-4751-A4FD-0E4136B9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9E6-BB0D-4A60-AE70-61604A25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C4A-A94B-441A-9909-31444E58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89F-58B9-44D5-9459-B03CD4ED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A747-6B35-4B0F-A5D9-5B878D7B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68F-DD54-48FE-A9EB-D48C5D0B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C12D-E7B9-4A8D-9D02-86C31D5A1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3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2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ewton-Raphs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linear systems may also be solved using the Newton-Raphson method for multipl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two-variable system, the Taylor series approximation and resulting Newton-Raphson equation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533520" y="3657600"/>
                <a:ext cx="8001000" cy="27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f>
                            <m:num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f>
                            <m:num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num>
                            <m:den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f>
                            <m:num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f>
                            <m:num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num>
                            <m:den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Program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209680" y="1038240"/>
            <a:ext cx="51055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difference between the Gauss-Seidel and Jacobi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ing how to assess diagonal dominance and knowing what it m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ing how relaxation can be used to improve convergence of iterative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how to solve systems of nonlinear equations with successive substitution and Newton-Raph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auss-Seidel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uss-Seidel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most commonly used iterative method for solving linear algebraic equations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=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solves each equation in a system for a particular variable, and then uses that value in later equations to solve later variables.  For a 3x3 system with nonzero elements along the diagonal, for example,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ration values are found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ration 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3200400" y="4487760"/>
                <a:ext cx="2617920" cy="23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Jacobi Iter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acobi it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imilar to the Gauss-Seidel method, except the j-1th information is used to update all variables in the jth it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uss-Se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o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ig1201"/>
          <p:cNvPicPr/>
          <p:nvPr/>
        </p:nvPicPr>
        <p:blipFill>
          <a:blip r:embed="rId1"/>
          <a:stretch/>
        </p:blipFill>
        <p:spPr>
          <a:xfrm>
            <a:off x="3948120" y="2987640"/>
            <a:ext cx="46623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nvergenc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vergence of an iterative method can be calculated by determining the relative percent change of each element in {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.  For example,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eration,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hod is ended when all elements have converged to a set tole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3335400" y="3657600"/>
                <a:ext cx="2760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´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iagonal Dominanc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uss-Seidel method may diverge, but if the system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onally domi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will definitely conve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onal dominance m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3886200" y="3505320"/>
                <a:ext cx="13795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¹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Program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61" name="Picture 4" descr="fig1202"/>
          <p:cNvPicPr/>
          <p:nvPr/>
        </p:nvPicPr>
        <p:blipFill>
          <a:blip r:embed="rId1"/>
          <a:stretch/>
        </p:blipFill>
        <p:spPr>
          <a:xfrm>
            <a:off x="1981080" y="1066680"/>
            <a:ext cx="5054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Relax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hance convergence, an iterative program can introdu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lax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the value at a particular iteration is made up of a combination of the old value and the newly calculated value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weighting factor that is assigned a value between 0 and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&l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1: under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: no 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&l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≤2: over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3048120" y="3124080"/>
                <a:ext cx="2860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</m:d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onlinear System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linear systems can also be solved using the same strategy as the Gauss-Seidel method - solve each system for one of the unknowns and update each unknown using information from the previous 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ccessive substit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08:41Z</dcterms:modified>
  <cp:revision>32</cp:revision>
  <dc:subject/>
  <dc:title>Chapter 1</dc:title>
</cp:coreProperties>
</file>