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381-7468-46F0-B6F4-D8C05850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E85-75A0-4726-B967-A17A312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151-4B27-4CD5-8AA6-696FAD17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865-518A-45D1-B14D-8330E0C6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978-A227-46BC-BF54-45FEB536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FB9-50C1-42CD-B1FB-3FF019A6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003-28ED-4915-8CC3-E4FB37D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82B-FC8A-43E3-8B8C-EA72325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78D-BE18-471F-B8DB-478B4FF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A32-91E2-499A-963E-EF8A5CE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106-B054-44F8-B364-12FCBC3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255-7C9A-4D8C-9940-33B514E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FD8E-7B9C-4421-B4DF-AB460728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Inverse and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to compute both norms and condition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m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rm of vect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y number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fro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the Euclidean n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m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 norm of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1, 2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fro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the Frobenius n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condition number of vect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the norm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determine the matrix inverse in an efficient manner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matrix inverse can be used to assess stimulus-response characteristics of engineering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meaning of matrix and vector norms and how they are comp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norms to compute the matrix condition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magnitude of the condition number can be used to estimate the precision of solutions of linear algebraic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Invers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if a matrix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square, there is another matrix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lled the inverse of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, for which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=[I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can be computed in a column by column fashion by generating solutions with unit vectors as the right-hand-side const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27360" y="4867200"/>
                <a:ext cx="56401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1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Inverse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ctorization can be used to efficiently evaluate a system for multiple right-hand-side vectors - thus, it is ideal for evaluating the multiple unit vectors needed to compute the in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timulus-Response Comput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ystems can be modeled as a linear combination of equations, and thus written as a matrix equa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response can thus be found using the matrix in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90920" y="3200400"/>
                <a:ext cx="4387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nteractions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sponse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timul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 and Matrix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real-valued function that provides a measure of the size or “length” of multi-component mathematical entities such as vectors and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norms and matrix norms may be computed differ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vector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rm 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examples of ve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rm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23920" y="3886200"/>
                <a:ext cx="6800760" cy="23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:sum of the absolute values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:Euclidian norm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ength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rad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=¥</m:t>
                          </m:r>
                          <m:r>
                            <m:rPr>
                              <m:lit/>
                              <m:nor/>
                            </m:rPr>
                            <m:t xml:space="preserve">:maximu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magnitude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¥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1905120"/>
                <a:ext cx="2266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atrix norms for a matrix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include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eigenvalue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38160" y="1828800"/>
                <a:ext cx="5248440" cy="32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lumn-sum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j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robenius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</m:nary>
                            </m:e>
                          </m:rad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ow-sum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¥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pectral norm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 norm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Condition Numbe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rix condi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is obtained by calculating 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|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·|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 be shown tha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error of the norm of the computed solution can be as large as the relative error of the norm of the coefficients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multiplied by the condition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efficients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re know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 precision, the solution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may be valid to onl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 dig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276720" y="2781360"/>
                <a:ext cx="2604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DX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Cond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DA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8:30Z</dcterms:modified>
  <cp:revision>31</cp:revision>
  <dc:subject/>
  <dc:title>Chapter 1</dc:title>
</cp:coreProperties>
</file>