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390-6D7D-4386-AB2E-4376B541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9993-B59F-4EBF-8F6D-06EA8915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ABF-90C7-40B1-985E-0CE21690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090-27B7-4643-8F4F-6DEB9588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B26D-6BCB-4F25-934B-8DEB9861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9945-0B52-46E8-B630-75B5A87C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07EC-D87D-47FA-A499-196720C7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213A-89DD-4184-9F02-3F75D039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F1F4-5361-48FF-8271-CBE548A7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720-CAAF-4669-AF98-CEA0A795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728-8156-4F09-894B-F73AF62B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A6CC-216F-404B-908F-73EF3344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7E1D-66F4-4532-B611-8B033A6AC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2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7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abolic Interpol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algorithm uses parabolic interpolation of three points to estimate optimum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cation of the maximum/minimum of a parabola defined as the interpolation of three point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s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poi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tw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unding it (eith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re used for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teration of the algo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685800" y="3046320"/>
                <a:ext cx="78058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1" name="Picture 5" descr="fig0708"/>
          <p:cNvPicPr/>
          <p:nvPr/>
        </p:nvPicPr>
        <p:blipFill>
          <a:blip r:embed="rId1"/>
          <a:stretch/>
        </p:blipFill>
        <p:spPr>
          <a:xfrm>
            <a:off x="4952880" y="4038480"/>
            <a:ext cx="39625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fminbnd</a:t>
            </a: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 Func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has a built-in function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combines the golden-section search and the parabolic interpo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m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v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fminbnd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may be passed through a fourth argument using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optims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imilar to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fz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ultidimensional Visualiz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of two-dimensions may be visualized using contour or surface/mesh pl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fig0709"/>
          <p:cNvPicPr/>
          <p:nvPr/>
        </p:nvPicPr>
        <p:blipFill>
          <a:blip r:embed="rId1"/>
          <a:stretch/>
        </p:blipFill>
        <p:spPr>
          <a:xfrm>
            <a:off x="1752480" y="2568600"/>
            <a:ext cx="564192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fminsearch</a:t>
            </a: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 Func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has a built-in function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at can be used to determine the minimum of a multidimensional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xm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fv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 = fminsearch(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x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x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is case will be a row vector containing the location of the minimum, whil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x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initial guess.  Note that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x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contain as many entries as the function expects of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written in terms of a single variable, where different dimensions are represented by different indices of that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fminsearch</a:t>
            </a: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 Func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inimize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y)=2+x-y+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xy+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as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=2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=@(x) 2+x(1)-x(2)+2*x(1)^2+2*x(1)*x(2)+x(2)^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x, fval] = fminsearch(f, [-0.5, 0.5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two entries 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expecting it to contain two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reports the minimum value is 0.7500 at a location of [-1.000 1.500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why and where optimization occurs in engineering and scientific problem solv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the difference between one-dimensional and multi-dimensional optim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ing between global and local opt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recast a maximization problem so that it can be solved with a minimizing algorith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able to define the golden ratio and understand why it makes one-dimensional optimization effici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bjective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ng the optimum of a single-variable function with the golden-section 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ng the optimum of a single-variable function with parabolic interpo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appl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minb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to determine the minimum of a one-dimensional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able to develop MATLAB contours and surface plots to visualize two-dimensional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appl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min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to determine the minimum of a multidimensional fun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ptimiz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is the process of creating something that is as effective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mathematical perspective, optimization deals with finding the maxima and minima of a function that depends on one or more variab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ig0701"/>
          <p:cNvPicPr/>
          <p:nvPr/>
        </p:nvPicPr>
        <p:blipFill>
          <a:blip r:embed="rId1"/>
          <a:stretch/>
        </p:blipFill>
        <p:spPr>
          <a:xfrm>
            <a:off x="0" y="4419720"/>
            <a:ext cx="4876920" cy="204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fig0702"/>
          <p:cNvPicPr/>
          <p:nvPr/>
        </p:nvPicPr>
        <p:blipFill>
          <a:blip r:embed="rId2"/>
          <a:stretch/>
        </p:blipFill>
        <p:spPr>
          <a:xfrm>
            <a:off x="4800600" y="4278240"/>
            <a:ext cx="425124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ultidimensional Optimiz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 problems involve functions that depend on a single dependent variable -for exampl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dimensional problems involve functions that depend on two or more dependent variables - for exampl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ig0703"/>
          <p:cNvPicPr/>
          <p:nvPr/>
        </p:nvPicPr>
        <p:blipFill>
          <a:blip r:embed="rId1"/>
          <a:stretch/>
        </p:blipFill>
        <p:spPr>
          <a:xfrm>
            <a:off x="1082520" y="3052800"/>
            <a:ext cx="69184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lobal vs. Local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lobal optim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the very best solution while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l optim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better than its immediate neighbors.  Cases that include local optima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ultimod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desire to find the global optim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ig0704"/>
          <p:cNvPicPr/>
          <p:nvPr/>
        </p:nvPicPr>
        <p:blipFill>
          <a:blip r:embed="rId1"/>
          <a:stretch/>
        </p:blipFill>
        <p:spPr>
          <a:xfrm>
            <a:off x="1752480" y="4141800"/>
            <a:ext cx="59436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olden-Section Search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algorithm for finding a minimum on an interval [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with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imum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imod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v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lden rat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.6180… to determine location of two interior poi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 by using the golden ratio, one of the interior points can be re-used in the next it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olden-Section Search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5791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comes the new lower limit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comes the ne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 in figu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comes the new upper limit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comes the ne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ither case, only one new interior point is needed and the function is only evaluated one mor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fig0706"/>
          <p:cNvPicPr/>
          <p:nvPr/>
        </p:nvPicPr>
        <p:blipFill>
          <a:blip r:embed="rId1"/>
          <a:stretch/>
        </p:blipFill>
        <p:spPr>
          <a:xfrm>
            <a:off x="5894280" y="1143000"/>
            <a:ext cx="3249720" cy="571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" name="Object 5"/>
              <p:cNvSpPr txBox="1"/>
              <p:nvPr/>
            </p:nvSpPr>
            <p:spPr>
              <a:xfrm>
                <a:off x="2133720" y="1219320"/>
                <a:ext cx="232236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d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ode for Golden-Section Search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2162160" y="977760"/>
            <a:ext cx="423864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07:34Z</dcterms:modified>
  <cp:revision>33</cp:revision>
  <dc:subject/>
  <dc:title>Chapter 1</dc:title>
</cp:coreProperties>
</file>