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8AF-5223-48B4-92E8-FACAB6AA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A47-E71D-43D4-A9FC-90BBBE9D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F558-310E-48AA-9A9B-947D3DBC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1AD-19C8-43EF-934B-96F4DCCD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27A-2375-4F08-BDB6-57B03BA9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3E55-29A0-4870-9C78-3F4EFF6F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3EF7-FA0B-4FE2-961F-AE788256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EB6-316A-4DDD-87BA-B763EA8F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B0B-5608-4AB6-865D-AF573567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4D5-3624-472D-828B-AB9D6F80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8AA-A6DA-4606-85EF-6EA43832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E34-F149-472D-BB63-673CB048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7CF8-0E35-4CE2-A97F-FFE4473DD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2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6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s: Ope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ecant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tential problem in implementing the Newton-Raphson method is the evaluation of the derivative - there are certain functions whose derivatives may be difficult or inconvenient to evalu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se cases, the derivative can be approximated by a backward finite divided differ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3179880" y="5354640"/>
                <a:ext cx="2916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@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ecant Method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of this approximation for the derivative to the Newton-Raphson method equation give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- this method requir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itial estimat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t do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quire an analytical expression of the deriv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2787480" y="2952720"/>
                <a:ext cx="3156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’s </a:t>
            </a: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fzero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Func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z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the best qualities of both bracketing methods and open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n initial guess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fzero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fzero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function handle to the function being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initial gu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location of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function evaluated at that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n initial bracket: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fzero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0 x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fzero(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[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x0 x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bove, excep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guesses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racket a sign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fzero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Op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may be passed to fzero as a third input argument - the options are a data structure created by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ptim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option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optimset(‘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’,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‘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’,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ourier New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name of the parameter to b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va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value to which to set that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ameters commonly used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z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hen set to ‘iter’ displays a detailed record of all the it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l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 positive scalar that sets a termination tolerance on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fzero</a:t>
            </a: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tions = optimset(‘display’, ‘iter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options to display each iteration of root find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x, fx] = fzero(@(x) x^10-1, 0.5, o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fzero to find root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 starting with an initial gues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report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=1, fx=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35 function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olynomial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a built in program call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oo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determine all the roots of a polynomial - including imaginary and complex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 = roots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umn vector containing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row vector containing the polynomial coeffic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roots of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.7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2.12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3.87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roots([1 -3.5 2.75 2.125 -3.875 1.25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olynomial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can be used to determine polynomial coefficients if roots are giv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= poly([0.5 -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0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.5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LAB repor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[1.000 0.5000 -0.500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rrespond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.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’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ly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can evaluate a polynomial at one or mor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= [1 -3.5 2.75 2.125 -3.875 1.25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d as coefficients of a polynomial, this correspond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.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2.7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2.12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.87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val(a,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lcula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, which MATLAB reports as -0.2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ing the difference between bracketing and open methods for root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fixed-point iteration method and how you can evaluate its convergence character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solve a roots problem with the Newton-Raphson method and appreciating the concept of quadratic converg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implement both the secant and the modified secant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ing how to use MATLAB’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ze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o estimate roo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how to manipulate and determine the roots of polynomials with MATLA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pen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pen metho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ffer from bracketing methods, in that open methods require only a single starting value or two starting values that do not necessarily bracket a r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methods may diverge as the computation progresses, but when they do converge, they usually do so much faster than bracketing metho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raphical Comparison of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49528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et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ing ope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ing open method - note spe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ig0601"/>
          <p:cNvPicPr/>
          <p:nvPr/>
        </p:nvPicPr>
        <p:blipFill>
          <a:blip r:embed="rId1"/>
          <a:stretch/>
        </p:blipFill>
        <p:spPr>
          <a:xfrm>
            <a:off x="2362320" y="1095480"/>
            <a:ext cx="41148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imple Fixed-Point Iter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 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=0 so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 the left-hand side of the equation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new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predict a new valu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hat is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roximate error is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3352680" y="4189320"/>
                <a:ext cx="24685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write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y isola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xampl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an initial guess (here, 0)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until some tolera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rea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3276720"/>
          <a:ext cx="5410440" cy="2193840"/>
        </p:xfrm>
        <a:graphic>
          <a:graphicData uri="http://schemas.openxmlformats.org/drawingml/2006/table">
            <a:tbl>
              <a:tblPr/>
              <a:tblGrid>
                <a:gridCol w="609840"/>
                <a:gridCol w="1143000"/>
                <a:gridCol w="1218960"/>
                <a:gridCol w="1295640"/>
                <a:gridCol w="11430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|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.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6.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7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36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71.8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5.1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69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6.8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2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5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8.3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.7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5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76" descr="fig0602"/>
          <p:cNvPicPr/>
          <p:nvPr/>
        </p:nvPicPr>
        <p:blipFill>
          <a:blip r:embed="rId1"/>
          <a:stretch/>
        </p:blipFill>
        <p:spPr>
          <a:xfrm>
            <a:off x="6022800" y="1523880"/>
            <a:ext cx="3121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nvergen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572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 of the simple fixed-point iteration method requires that the derivative of g(x) near the root has a magnitude less than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t, 0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t, -1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≤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gent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gent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0603"/>
          <p:cNvPicPr/>
          <p:nvPr/>
        </p:nvPicPr>
        <p:blipFill>
          <a:blip r:embed="rId1"/>
          <a:stretch/>
        </p:blipFill>
        <p:spPr>
          <a:xfrm>
            <a:off x="4660920" y="1447920"/>
            <a:ext cx="44830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ewton-Raphson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forming the tangent line to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urve at some gue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n following the tangent line to where it crosse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360440" y="3897360"/>
                <a:ext cx="2220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66" name="Picture 5" descr="fig0604"/>
          <p:cNvPicPr/>
          <p:nvPr/>
        </p:nvPicPr>
        <p:blipFill>
          <a:blip r:embed="rId1"/>
          <a:stretch/>
        </p:blipFill>
        <p:spPr>
          <a:xfrm>
            <a:off x="4038480" y="2960640"/>
            <a:ext cx="440208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ros and C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: The error of the i+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ration is roughly proportional to the square of the error of the 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ration - 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adratic c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: Some functions show slow or poor c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fig0606"/>
          <p:cNvPicPr/>
          <p:nvPr/>
        </p:nvPicPr>
        <p:blipFill>
          <a:blip r:embed="rId1"/>
          <a:stretch/>
        </p:blipFill>
        <p:spPr>
          <a:xfrm>
            <a:off x="5824440" y="1295280"/>
            <a:ext cx="31068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07:22Z</dcterms:modified>
  <cp:revision>35</cp:revision>
  <dc:subject/>
  <dc:title>Chapter 1</dc:title>
</cp:coreProperties>
</file>