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C2A-BE6E-4CAE-9111-A1D77242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808-45B8-4922-BA41-059D3DA2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FA41-F949-4E33-A642-6F6A807D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399A-06BB-4A92-8151-B876D2D4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7EE-2C14-41C1-9C82-726BA58B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4C3-7168-46E6-9A39-E8F1907E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5625-F68A-4C8E-91F6-97C72777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B241-FC8C-47AF-BBB9-C3F3EFA1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AB0-52FB-4072-A849-7926E1C2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9FE-0882-4630-8C3B-BE4EC783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CB5-70DF-48ED-B9E8-5D16684D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12A-6217-42F6-8E9F-E0773C0E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FEED-2604-4AB0-B74F-301CE47A5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1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4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ndoff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nca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040" y="5911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 and Prof. Steve Chapra, Tuft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loating Point Rang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3 and +1024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reserved for special meanings, so the exponent range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2 to 102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rgest possible number MATLAB can store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ll 1’s, giving a significand of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5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approximately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11111111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iving an exponent of 204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3 = 1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yields approximate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2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.7997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st possible number MATLAB can store with full precision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ll 0’s, giving a significand of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000000000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iving an exponent of 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3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yield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02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.225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loating Point Precis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52 bits for the mantiss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rrespond to about 15 to 16 base-10 digits.  The machine epsilon - the maximum relative error between a number and MATLAB’s representation of that number, is th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.2204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oundoff Errors with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ithmetic Manipul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off error can happen in several circumstances other than just storing numbers - 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rge compu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f a process performs a large number of computations, roundoff errors may build up to becom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ding a Large and a Small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Since the small number’s mantissa is shifted to the right to be the same scale as the large number, digits are 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mea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mearing occurs whenever the individual terms in a summation are larger than the summation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+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hematically, b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x = 1; (x +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gives a 0 in MATLAB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runcation Error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uncation err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ose that result from using an approximation in place of an exact mathematical proced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: approximation to a derivative using a finite-difference equ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: The Taylor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629080" y="4114800"/>
                <a:ext cx="388620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@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Taylor Theorem and Seri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ylor theor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s that any smooth function can be approximated as a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aylor se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ides a means to express this idea mathema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Taylor Seri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28600" y="1219320"/>
                <a:ext cx="86868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h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L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2062080"/>
            <a:ext cx="6553080" cy="39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runcation Error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,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 order Taylor series expansion will be exact for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 order polynom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cases, the remainder te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f the order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mea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terms are used, the smaller the error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r the spacing, the smaller the error for a given number of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umerical Differenti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order Taylor series can be used to calculate approximations to deriv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rmed a “forward” difference because it utilizes data 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1 to estimate the deriv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286000" y="2438280"/>
                <a:ext cx="45975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3200400"/>
                <a:ext cx="4281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ifferentiation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also backward and centered difference approximations, depending on the points us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ward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14400" y="2666880"/>
                <a:ext cx="4281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838080" y="4267080"/>
                <a:ext cx="42814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838080" y="5791320"/>
                <a:ext cx="46260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h</m:t>
                        </m:r>
                      </m:den>
                    </m:f>
                    <m:r>
                      <m:t xml:space="preserve">+</m:t>
                    </m:r>
                    <m:r>
                      <m:t xml:space="preserve">O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079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otal Numerical Error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tal numerical err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ummation of the truncation and roundoff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ncation error general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step size increases, while the roundoff err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re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step size increases - this leads to a point of diminishing returns for step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95480" y="4343400"/>
            <a:ext cx="33530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distinction between accuracy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to quantify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error estimates can be used to decide when to terminate an iterative calc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roundoff errors occur because digital computers have a limited ability to represent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why floating-point numbers have limits on their range and pr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ther Error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nders - errors caused by malfunctions of the computer or human imperf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errors - errors resulting from incomplete mathematical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uncertainty - errors resulting from the accuracy and/or precision of the d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bjective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that truncation errors occur when exact mathematical formulations are represented by approxim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use the Taylor series to estimate truncation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to write forward, backward, and centered finite-difference approximations of the first and second deriva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that efforts to minimize truncation errors can sometimes increase roundoff erro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ccuracy and Precis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how closely a computed or measured value agrees with the true value, whi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i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fers to how closely individual computed or measured values agree with each oth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ccurate and im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and im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ccurate and 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and pre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59480" y="2590920"/>
            <a:ext cx="395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rror Defini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error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the difference between the true value and the approx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error (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): the absolute difference between the true value and the approxi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fractional relative error: the true error divided by the true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error 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the true fractional relative error expressed as a percen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rror Definition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vious definitions of error relied on knowing a true value.  If that is not the case, approximations can be made to the err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roximate percent relative error can be given as the approximate error divided by the approximation, expressed as a percentage - though this presents the challenge of finding the approximate err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terative processes, the error can be approximated as the difference in values between sucessive it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Using Error Estimat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, when performing calculations, we may not be concerned with the sign of the error but are interested in whether the absolute value of the percent relative error is lower than a prespecified tolerance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For such cases, the computation is repeated until |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|&lt;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lationship is referred to a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pping criter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Roundoff Error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off err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ise because digital computers cannot represent some quantities exactly.  There are two major facets of roundoff errors involved in numerical calcul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ital computers have size and precision limits on their ability to represent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numerical manipulations are highly sensitive to roundoff err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mputer Number Representa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default, MATLAB has adopted the IEEE double-precision format in which eight bytes (64 bits) are used to represent floating-point numbers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±(1+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x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gn is determined by a sign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tiss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termined by a 52-bit binary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on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etermined by an 11-bit binary number, from which 1023 is subtracted to g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3-28T14:33:09Z</dcterms:modified>
  <cp:revision>36</cp:revision>
  <dc:subject/>
  <dc:title>Chapter 1</dc:title>
</cp:coreProperties>
</file>