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18F-6B9D-49A1-A12F-BA1F2E7F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DEE8-92F9-4D1F-88F7-BA89ABD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F67-5B4F-4927-A34B-1D90B700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A85-2297-478F-83BE-6F0BC5D2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0B69-D866-4CF7-9E31-868944B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0E2-61DE-40D5-B3C2-4668D332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564-313C-488E-9919-3C1577F4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83EA-E9A2-453E-90A5-D4BE5E92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1C7B-6297-4227-8A0F-9123EFDE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248-2C4F-456C-B8F1-33468066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DAA8-456D-4178-8CDE-EC252D0C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748-CC1F-4F8D-B9BB-F69DF612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49EB-9654-43DC-AB02-05F5A42C3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3392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1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57240" y="32004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80880" y="5867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 and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hapra2e08BAR"/>
          <p:cNvPicPr/>
          <p:nvPr/>
        </p:nvPicPr>
        <p:blipFill>
          <a:blip r:embed="rId1"/>
          <a:stretch/>
        </p:blipFill>
        <p:spPr>
          <a:xfrm>
            <a:off x="457200" y="1219320"/>
            <a:ext cx="3386160" cy="42145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CoverImage"/>
          <p:cNvPicPr/>
          <p:nvPr/>
        </p:nvPicPr>
        <p:blipFill>
          <a:blip r:embed="rId2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s, Vectors, and Matric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can automatically handle rectangular arrays of data - one-dimensional array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e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wo-dimensional arrays are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tri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s are set off using square brackets [ and ] in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ies within a row are separated by spaces or com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s are separated by semicol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Examp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a = [1 2 3 4 5 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1     2     3     4     5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b = [2;4;6;8;10]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4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8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1 - MATLAB does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r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2 - if you are using a monospaced font, such as Courier, the displayed values should line up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ric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2-D array, or matrix, of data is entered row by row, with spaces (or commas) separating entries within the row and semicolons separating the r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A = [1 2 3; 4 5 6; 7 8 9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1     2   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4     5     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7     8   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Useful Array Comman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anspose operator (apostrophe) can be used to flip an array over its own diagonal.  For example, 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row vector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umn vector containing the complex conjugat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and window will allow you to separate rows by hitting the Enter key - script files and functions will allow you to put rows on new line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will report back used variable names;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lso give you the size, memory, and data types for the ar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ccessing Array Entri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entries within a array can be both read and set using either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ocation in the array or the row and colum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dex value starts with 1 for the entry in the top left corner of an array and increases down a column - the following shows the indices for a 4 row, 3 column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     5     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2     6    1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3     7    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4     8   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ccessing Array Entri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some matrix C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2     4     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3     3   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3     0    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0    13   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1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an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can also be access using the row and colum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2,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3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(5,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report an err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Built I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built-in functions to create ar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eros(r,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w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matrix of z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zeros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 of z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nes(r,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w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umn matrix of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ones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create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rix on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help elm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, among other things, a list of the elementary mat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Colon Operator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 operator : is useful in several contexts.  It can be used to create a linearly spaced array of points using the not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:diffval:limi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first value in the array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iffv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fference between successive values in the array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ound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last value (though not necessarily the last value)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1:0.6: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1.0000   1.6000   2.2000   2.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lon Operator - Not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ff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mitted, the default value is 1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3: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3     4     5 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decreasing serie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ff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negativ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 5:-1.2: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5.0000    3.8000    2.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+diffval&gt;lim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n increasing series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+diffval&lt;lim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or a decreasing series, an empty matrix is returned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5: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Empty matrix: 1-by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column, transpose the output of the colon operator, not the limit value; that is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3:6)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:6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linspa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row vector with a specific number of linearly spaced points between two numbers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space(x1, x2,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create a linearly spaced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betwe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x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linspace(0, 1, 6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0  0.2000  0.4000  0.6000  0.8000  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mitted, 100 points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nerate a column, transpose the outpu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real and complex numbers are assigned to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vectors and matrices are assigned values using simple assignment, the color operator, and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in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gspa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priority rules for constructing mathematical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ing a general understanding of built-in functions and how you can learn more about them with MATLAB’s Help fac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how to use vectors to create a simple line plot based on an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rray Creation - </a:t>
            </a:r>
            <a:r>
              <a:rPr b="0" lang="en-US" sz="4400" spc="-1" strike="noStrike">
                <a:solidFill>
                  <a:srgbClr val="42728d"/>
                </a:solidFill>
                <a:latin typeface="Courier New"/>
              </a:rPr>
              <a:t>logspac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 row vector with a specific number of logarithmically spaced points between two numbers, us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space(x1, x2, 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create a logarithmically spaced array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s betwee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x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x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&gt;logspace(-1, 2, 4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0.1000    1.0000   10.0000  100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mitted, 100 points are cre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enerate a column, transpose the output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sp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racter Strings &amp; Ellipsi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phanumeric constants are enclosed by apostrophes (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f = 'Miles 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s = 'Davi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: pasting together of st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x = [f 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les Da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is (...): Used to continue long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a = [1 2 3 4 5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6 7 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     2     3     4     5     6     7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not use an ellipsis within single quotes to continue a string. But you can piece together shorter strings with ellip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&gt; quote = ['Any fool can make a rule,'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' and any fool will mind it'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uot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y fool can make a rule, and any fool will mi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hematical Oper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operations in MATLAB can be performed on both scalars and arr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operators, in order of priority,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43000" y="3200400"/>
          <a:ext cx="7315200" cy="3506760"/>
        </p:xfrm>
        <a:graphic>
          <a:graphicData uri="http://schemas.openxmlformats.org/drawingml/2006/table">
            <a:tbl>
              <a:tblPr/>
              <a:tblGrid>
                <a:gridCol w="252360"/>
                <a:gridCol w="2338560"/>
                <a:gridCol w="472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ti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^2 =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o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ary oper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 = 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ication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*pi = 6.2832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/4 = 0.78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Di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\2 = 0.333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5 = 8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5 = 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rder of Oper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operations is set first by parentheses, then by the default order given ab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-4 ^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giv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-16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exponentiation happens first due to its higher default priority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(-4) ^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16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negation operation on the 4 takes plac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omplex Numbe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operations above can be used with complex quantities (i.e. values containing an imaginary part enter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displayed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x = 2+i*4; (or 2+4i, or 2+j*4, or 2+4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y = 1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3 *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6.0000 +12.0000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x+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18.0000 + 4.0000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&gt;&gt; x'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an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   2.0000 - 4.0000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Vector-Matrix Calcu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can also perform operations on vectors and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* operator for matrices is defined a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what is commonly called “matrix multiplication.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columns of the first matrix must match the number of rows in the second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ze of the result will have as many rows as the first matrix and as many columns as the second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eption to this is multiplication by a 1x1 matrix, which is actually an array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^ operator for matrices results in the matrix being matrix-multiplied by itself a specified number of tim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- in this case, the matrix must be squa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lement-by-Element Calcula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imes, you will want to carry out calculations item by item in a matrix or vector.  The MATLAB manual calls the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ray oper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y are also often referred to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ment-by-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defines .* and ./ (note the dots) as the array multiplication and array division ope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rray operations, both matrices must be the same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of the matrices must be 1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exponentiation (raising each element to a corresponding power in another matrix) is performed with .^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, for array operations, both matrices must be the same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of the matrices must be 1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uilt-In Func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several built-in functions you can use to create and manipulat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t-in help function can give you information about both what exists and how those functions are u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elm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list the elementary matrix creation and manipulation functions, including functions to get information about matr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elf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list the elementary math functions, including trig, exponential, complex, rounding, and remainder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uilt-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ok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will search help files for occurrences of text and can be useful if you know a function’s purpose but not its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Graphic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has a powerful suite of built-in graphics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f the primary functions ar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plotting 2-D data)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ot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or plotting 3-D da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the plotting commands, MATLAB allows you to label and annotate your graphs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it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x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ylab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eg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lotting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 = [0:2:20]’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 = 9.81; m = 68.1; cd = 0.25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= sqrt(g*m/cd) * tanh(sqrt(g*cd/m)*t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lot(t,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H2Plotting1"/>
          <p:cNvPicPr/>
          <p:nvPr/>
        </p:nvPicPr>
        <p:blipFill>
          <a:blip r:embed="rId1"/>
          <a:stretch/>
        </p:blipFill>
        <p:spPr>
          <a:xfrm>
            <a:off x="2239920" y="2967120"/>
            <a:ext cx="4662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MATLAB Environmen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uses three primary window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window - used to enter commands an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ics window(s) - used to display plots and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 window - used to create and edit M-files (progr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ing on your computer platform and the version of MATLAB used, these windows may have different looks and fe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lotting Annotation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tle('Plot of v versus t'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label('Values of t'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label('Values of v'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CH2Plotting2"/>
          <p:cNvPicPr/>
          <p:nvPr/>
        </p:nvPicPr>
        <p:blipFill>
          <a:blip r:embed="rId1"/>
          <a:stretch/>
        </p:blipFill>
        <p:spPr>
          <a:xfrm>
            <a:off x="2239920" y="2849400"/>
            <a:ext cx="4662360" cy="38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lotting Op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otting data, MATLAB can use several different colors, point styles, and line styles.  These are specified at the en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ot specif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found in Table 2.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fault case for a single data set is to create a blue line with no points.  If a line style is specified with no point style, no point will be drawn at the individual points; similarly, if a point style is specified with no point style, no line will be dr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plot specifi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:’ - red dotted line with circles at th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’ - green diamonds at the points with no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--’ - magenta dashed line with no point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ther Plotting Comman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old 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hold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l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MATLAB to keep the current data plotted and add the results of any further plot commands to the graph.  This continues until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ld 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, which tells MATLAB to clear the graph and start over if another plotting command is given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ld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be us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rst plot in a series is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ubplot(m, n, 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lits the figure window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ray of small axes and makes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active.  Note - the first subplot is at the top left, then the numbering continues across the row.  This is different from how elements are numbered within a matri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alculator Mod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TLAB command widow can be used as a calculator where you can type in commands line by line.  Whenever a calculation is performed, MATLAB will assign the result to the built-in variabl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55 - 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ans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ATLAB Variab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using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may be useful for performing quick calculations, its transient nature makes it less useful for programm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allows you to assign values to variable names.  This results in the storage of values to memory locations corresponding to the variabl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can store individual values as well as arrays; it can store numerical data and text (which is actually stored numerically as wel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does not require that you pre-initialize a variable; if it does not exist, MATLAB will create it for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calar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ign a single value to a variable, simply type the variable name, the = sign, and the valu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a =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variable names must start with a letter, though they can contain letters, numbers, and the underscore (_)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calar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tell MATLAB not to report the result of a calculation by appending the semi-solon (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to the end of a line.  The calculation is still per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k MATLAB to report the value stored in a variable by typing its nam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&gt;&gt;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a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calar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complex variabl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represent the unit imaginary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tell MATLAB to report the values back using several different formats using the format command.  Note that the values are sti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o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ame way, they are just displayed on the screen differently.  Some exampl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caled fixed-point format with 5 dig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scaled fixed-point format with 15 digits for double and 7 digits for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rt e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engineering format with at least 5 digits and a power that is a multiple of 3 (useful for SI prefix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ormat Exampl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format short; p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3.1416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format long; p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3.14159265358979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format short eng; p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 3.1416e+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 pi*1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ns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 31.4159e+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- the format remains the same unless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m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iss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lorraine_buczek</cp:lastModifiedBy>
  <dcterms:modified xsi:type="dcterms:W3CDTF">2011-04-14T15:11:39Z</dcterms:modified>
  <cp:revision>24</cp:revision>
  <dc:subject/>
  <dc:title>Chapter 1</dc:title>
</cp:coreProperties>
</file>