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557C-FD13-4630-94DE-9335B9B24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390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E787-0B18-4531-BC01-A0FB77237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C8CA-6C5B-4332-92E2-D7703B605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3712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3712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390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390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39040"/>
            <a:ext cx="279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CE7F-E3AE-4F75-B822-AE5F09BC2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1231-DC82-4AC0-8E29-B87283018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CD84-37AE-4935-89C9-242A66A5D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BB93-A0D0-4BE9-92AD-C6F3ED9F5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E91C-F93C-43F7-A36F-55D9DEAEF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8991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657E-9C3E-4A63-8724-AF145225B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EEB5-FE15-4872-A4A9-568E760D1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390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598C-5661-4D67-92AC-EC918A3CE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371240"/>
            <a:ext cx="42390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39040"/>
            <a:ext cx="868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9A4B-647A-4204-9292-B067DC5C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BA64E-635A-490F-9E46-18D9295FD9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86200" y="152352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Part 6</a:t>
            </a:r>
            <a:br>
              <a:rPr sz="4400"/>
            </a:b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hapter 24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9880" y="3200400"/>
            <a:ext cx="51818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undary-Value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624852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Points organized by Dr. Michael R. Gustafson II, Duk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18240" y="6629400"/>
            <a:ext cx="552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 images copyright © The McGraw-Hill Companies, Inc. Permission required for reproduction or displa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33847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Example Code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for derivatives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unction dy=dydxn(x,y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y=[y(2);…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-0.05*(200-y(1))-2.7e-9*(1.6e9-y(1)^4)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for residual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unction r=res(za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x,y]=ode45(@dydxn, [0 10], [300 za])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=y(length(x),1)-40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for finding root of residual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zero(@res, -50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for solving system: 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x,y]=ode45(@dydxn, [0 10], [300 fzero(@res, -50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])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Finite-Difference Method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st common alternatives to the shooting method are finite-difference approach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se techniques, finite differences are substituted for the derivatives in the original equation, transforming a linear differential equation into a set of simultaneous algebraic equ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Finite-Difference Example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 simultaneous equations at each interior point using centered difference equ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295280" y="5389560"/>
            <a:ext cx="6553440" cy="1468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3332160" y="1600200"/>
                <a:ext cx="247968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T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¥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2448000" y="3243240"/>
                <a:ext cx="4248000" cy="21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T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D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D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¥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D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sSup>
                          <m:e>
                            <m:r>
                              <m:t xml:space="preserve">D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¥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Finite-Difference Example (cont)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known, they will be on the right-hand-side of the linear algebra system (in this case, in the first and last entries, respectively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487440" y="3598920"/>
                <a:ext cx="8170920" cy="16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h</m:t>
                                  </m:r>
                                </m:e>
                                <m:sup>
                                  <m:r>
                                    <m:t xml:space="preserve">'</m:t>
                                  </m:r>
                                </m:sup>
                              </m:sSup>
                              <m:sSup>
                                <m:e>
                                  <m:r>
                                    <m:t xml:space="preserve">D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/>
                            <m:e/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h</m:t>
                                  </m:r>
                                </m:e>
                                <m:sup>
                                  <m:r>
                                    <m:t xml:space="preserve">'</m:t>
                                  </m:r>
                                </m:sup>
                              </m:sSup>
                              <m:sSup>
                                <m:e>
                                  <m:r>
                                    <m:t xml:space="preserve">D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/>
                          </m:mr>
                          <m:mr>
                            <m:e/>
                            <m:e>
                              <m:r>
                                <m:t xml:space="preserve">O</m:t>
                              </m:r>
                            </m:e>
                            <m:e>
                              <m:r>
                                <m:t xml:space="preserve">O</m:t>
                              </m:r>
                            </m:e>
                            <m:e>
                              <m:r>
                                <m:t xml:space="preserve">O</m:t>
                              </m:r>
                            </m:e>
                          </m:mr>
                          <m:mr>
                            <m:e/>
                            <m:e/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  <m:r>
                                <m:t xml:space="preserve">+</m:t>
                              </m:r>
                              <m:sSup>
                                <m:e>
                                  <m:r>
                                    <m:t xml:space="preserve">h</m:t>
                                  </m:r>
                                </m:e>
                                <m:sup>
                                  <m:r>
                                    <m:t xml:space="preserve">'</m:t>
                                  </m:r>
                                </m:sup>
                              </m:sSup>
                              <m:sSup>
                                <m:e>
                                  <m:r>
                                    <m:t xml:space="preserve">D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</m:m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M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t xml:space="preserve">h</m:t>
                                  </m:r>
                                </m:e>
                                <m:sup>
                                  <m:r>
                                    <m:t xml:space="preserve">'</m:t>
                                  </m:r>
                                </m:sup>
                              </m:sSup>
                              <m:sSup>
                                <m:e>
                                  <m:r>
                                    <m:t xml:space="preserve">D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¥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h</m:t>
                                  </m:r>
                                </m:e>
                                <m:sup>
                                  <m:r>
                                    <m:t xml:space="preserve">'</m:t>
                                  </m:r>
                                </m:sup>
                              </m:sSup>
                              <m:sSup>
                                <m:e>
                                  <m:r>
                                    <m:t xml:space="preserve">D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¥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M</m:t>
                              </m:r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h</m:t>
                                  </m:r>
                                </m:e>
                                <m:sup>
                                  <m:r>
                                    <m:t xml:space="preserve">'</m:t>
                                  </m:r>
                                </m:sup>
                              </m:sSup>
                              <m:sSup>
                                <m:e>
                                  <m:r>
                                    <m:t xml:space="preserve">D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¥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Derivative Boundary Condition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umann boundary conditions are resolved by solving the centered difference equation at the point and rewriting the system equation according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, if there is a Neumann condition at the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i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1708200" y="3084480"/>
                <a:ext cx="5730840" cy="341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den>
                        </m:f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Dx</m:t>
                            </m:r>
                          </m:den>
                        </m:f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D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|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D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sSup>
                          <m:e>
                            <m:r>
                              <m:t xml:space="preserve">D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¥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Dx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T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</m:den>
                                </m:f>
                                <m:sSub>
                                  <m:e>
                                    <m:r>
                                      <m:t xml:space="preserve">|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D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sSup>
                          <m:e>
                            <m:r>
                              <m:t xml:space="preserve">D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¥</m:t>
                            </m:r>
                          </m:sub>
                        </m:sSub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D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sSup>
                          <m:e>
                            <m:r>
                              <m:t xml:space="preserve">D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¥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D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|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Finite-Difference Method for Nonlinear ODE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ot location methods for systems of equations may be used to solve nonlinear O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method is to adapt a successive substitution algorithm to calculate the values of the interior poi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Chapter Objective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ing the difference between initial-value and boundary-value probl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ing how to express 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der ODE as a system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irst-order O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ing how to implement the shooting method for linear ODEs by using linear interpolation to generate accurate “shot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ing how derivative boundary conditions are incorporated into the shooting metho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Objectives (cont)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ing how to solve nonlinear ODEs with the shooting method by using root location to generate accurate “shot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ing how to implement the finite-difference meth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ing how derivative boundary conditions are incorporated into the finite-difference meth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ing how to solve nonlinear ODEs with the finite-difference method by using root location methods for systems of nonlinear algebraic equa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Boundary-Value Problem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114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oundary-value proble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those where conditions are not known at a single point but rather are given at different values of the independent vari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undary conditions may include values for the variable or values for derivatives of the vari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267080" y="1371600"/>
            <a:ext cx="4699080" cy="54817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120400" y="6629400"/>
            <a:ext cx="498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The McGraw-Hill Companies, Inc. Permission required for reproduction or displa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Higher Order System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’s ODE solvers are based on solving first-order differential equations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olve a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der system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1), the system must be written a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irst-order equations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first-order equation needs an initial value or boundary value to sol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2133720" y="3505320"/>
                <a:ext cx="5110200" cy="14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T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¥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d>
                      <m:dPr>
                        <m:begChr m:val="{"/>
                        <m:endChr m:val=""/>
                      </m:dPr>
                      <m:e>
                        <m:sSup>
                          <m:e>
                            <m:m>
                              <m:mr>
                                <m:e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dT</m:t>
                                      </m:r>
                                    </m:num>
                                    <m:den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dx</m:t>
                                      </m:r>
                                    </m:den>
                                  </m:f>
                                  <m:r>
                                    <m:t xml:space="preserve">=</m:t>
                                  </m:r>
                                  <m:r>
                                    <m:t xml:space="preserve">z</m:t>
                                  </m:r>
                                </m:e>
                              </m:mr>
                              <m:mr>
                                <m:e>
                                  <m:f>
                                    <m:num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dT</m:t>
                                      </m:r>
                                    </m:num>
                                    <m:den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dz</m:t>
                                      </m:r>
                                    </m:den>
                                  </m:f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=- {</m:t>
                                  </m:r>
                                  <m:r>
                                    <m:t xml:space="preserve">h</m:t>
                                  </m:r>
                                </m:e>
                              </m:mr>
                            </m:m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¥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e>
                        </m:d>
                      </m:e>
                      <m:e/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The Shooting Method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6019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method for solving boundary-value problems - the shooting method - is based on converting the boundary-value problem into an equivalent initial-value probl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ly, the equivalent system will not have sufficient initial conditions and so a guess is made for any undefined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uesses are changed until the final solution satisfies all the boundary condi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linear ODEs, only two “shots” are required - the proper initial condition can be obtained as a linear interpolation of the two gu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227640" y="1523880"/>
            <a:ext cx="2751120" cy="48006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120400" y="6629400"/>
            <a:ext cx="498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The McGraw-Hill Companies, Inc. Permission required for reproduction or displa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Boundary Condition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ichlet boundary condi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those where a fixed value of a variable is known at a particular lo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eumann boundary condi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those where a derivative is known at a particular lo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oting methods can be used for either kind of boundary condi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The Shooting Method for Nonlinear ODEs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nonlinear ODEs, interpolation between two guesses will not necessarily result in an accurate estimate of the required boundary condi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, the boundary condition can be used to write a roots problem with the estimate as a vari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728d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42728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=2.7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10 m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=0.05 m-2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200 K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0) = 300 K,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0) = 400 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- break into two equ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2514600" y="1806480"/>
                <a:ext cx="414972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T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¥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+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¥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152280" y="4191120"/>
                <a:ext cx="8763120" cy="12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T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¥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+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¥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T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x</m:t>
                                  </m:r>
                                </m:den>
                              </m:f>
                              <m:r>
                                <m:t xml:space="preserve">=</m:t>
                              </m:r>
                              <m:r>
                                <m:t xml:space="preserve">z</m:t>
                              </m:r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T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z</m:t>
                                  </m:r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=-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00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T</m:t>
                                  </m:r>
                                </m:e>
                              </m:d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7</m:t>
                              </m:r>
                              <m:r>
                                <m:t xml:space="preserve">´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9</m:t>
                                  </m:r>
                                </m:sup>
                              </m:sSup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6</m:t>
                                  </m:r>
                                  <m:r>
                                    <m:t xml:space="preserve">´</m:t>
                                  </m:r>
                                  <m:sSup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0</m:t>
                                      </m:r>
                                    </m:e>
                                    <m:sup>
                                      <m:r>
                                        <m:t xml:space="preserve">9</m:t>
                                      </m:r>
                                    </m:sup>
                                  </m:sSup>
                                  <m:r>
                                    <m:t xml:space="preserve">−</m:t>
                                  </m:r>
                                  <m:r>
                                    <m:t xml:space="preserve">T</m:t>
                                  </m:r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7:37:24Z</dcterms:created>
  <dc:creator>Duke University</dc:creator>
  <dc:description/>
  <dc:language>en-US</dc:language>
  <cp:lastModifiedBy>Steven Chapra</cp:lastModifiedBy>
  <dcterms:modified xsi:type="dcterms:W3CDTF">2011-02-11T21:10:58Z</dcterms:modified>
  <cp:revision>33</cp:revision>
  <dc:subject/>
  <dc:title>Chapter 1</dc:title>
</cp:coreProperties>
</file>