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0A8A-4022-4D83-AD2A-8F54139B5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84EC-79BA-4842-AAFD-C29B0079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F429-9A3F-4231-BB19-17D19953E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E20E-F4D8-47F7-8747-D64AC3016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3D04-5DB2-4331-91FD-5618CAAA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015D-C8A0-4D71-BF10-85AACDDE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C57D-289E-459B-AF0C-7D1FC835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DC70-263B-4018-A80F-ADB77E28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B6C7-2BF1-407B-9726-1412E6F1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89DE-51E6-4095-8CD1-2188A0F2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46A4-DC41-4D42-AB96-80F76FDB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AC1E-D0BF-4837-8DF7-2B31798F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5287-BA3E-4B6D-B18D-24DD7E339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33920" y="15235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art 6</a:t>
            </a:r>
            <a:br>
              <a:rPr sz="4400"/>
            </a:b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23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57240" y="3200400"/>
            <a:ext cx="5181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ive Methods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ff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52280" y="62485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Points organized by Dr. Michael R. Gustafson II, Duk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118240" y="6629400"/>
            <a:ext cx="552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 images copyright © The McGraw-Hill Companies, Inc. Permission required for reproduction or displa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384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Stiffnes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iff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one involving rapidly changing components together with slowly changing 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xample of a single stiff ODE is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se solution if y(0)=0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3089160" y="2590920"/>
                <a:ext cx="32702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-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3144960" y="3733920"/>
                <a:ext cx="31590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8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72" name="Picture 6" descr="fig2107"/>
          <p:cNvPicPr/>
          <p:nvPr/>
        </p:nvPicPr>
        <p:blipFill>
          <a:blip r:embed="rId1"/>
          <a:stretch/>
        </p:blipFill>
        <p:spPr>
          <a:xfrm>
            <a:off x="2590920" y="4038480"/>
            <a:ext cx="426708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ATLAB Functions for Stiff System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has a number of built-in functions for solving stiff systems of ODEs, including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ode15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ode2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ode23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ode23t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guments for the stiff solvers are the same as those for previous solv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how the Runge-Kutta Fehlberg methods use RK methods of  different orders to provide error estimates that are used to adjust step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iarizing yourself with the built-in MATLAB function for solving O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how to adjust options for MATLAB’s ODE solv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how to pass parameters to MATLAB’s ODE solv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what is meant by stiffness and its implications for solving O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Adaptive Runge-Kutta Method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510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olutions to some ODE problems exhibit multiple time scales - for some parts of the solution the variable changes slowly, while for others there are abrupt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 step-size algorithms would have to apply a small step-size to the entire computation, wasting many more calculations on regions of gradual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algorithms, on the other hand, can change step-size depending on the reg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ha32907_2101"/>
          <p:cNvPicPr/>
          <p:nvPr/>
        </p:nvPicPr>
        <p:blipFill>
          <a:blip r:embed="rId1"/>
          <a:stretch/>
        </p:blipFill>
        <p:spPr>
          <a:xfrm>
            <a:off x="5162400" y="1295280"/>
            <a:ext cx="3981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Approaches to Adaptive Method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wo primary approaches to incorporate adaptive step-size contr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ep halv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perform the one-step algorithm two different ways, once with a full step and once with  two half-steps, and compare the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mbedded RK metho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perform two RK iterations of different orders and compare the results.  This is the preferred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ATLAB Function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LAB’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de2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 uses second- and third-order RK functions to solve the ODE and adjust step siz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LAB’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de4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 uses fourth- and fifth-order RK functions to solve the ODE and adjust step sizes.  This is recommended as the first function to use to solve a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LAB’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de11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 is a multistep solver useful for computationally intensive ODE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Using </a:t>
            </a:r>
            <a:r>
              <a:rPr b="0" lang="en-US" sz="4400" spc="-1" strike="noStrike">
                <a:solidFill>
                  <a:srgbClr val="42728d"/>
                </a:solidFill>
                <a:latin typeface="Courier New"/>
              </a:rPr>
              <a:t>ode</a:t>
            </a: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 Function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unctions are generally called in the same way; ode45 is used as an exampl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] =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ode45(odefun, tspan, y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olution array, where each column represents one of the variables and each row corresponds to a time in the t 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odefu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unction returning a column vector of the right-hand-sides of the 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sp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ime over which to solve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sp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s two entries, the results are reported for those times as well as several intermediate times based on the steps taken by the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sp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s more than two entries, the results are reported only for those specific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y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vector of initial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Example - Predator-Prey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0)=2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0)=1 for 20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prey.m M-fil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function yp = predprey(t, 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yp = [1.2*y(1)-0.6*y(1)*y(2);…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-0.8*y(2)+0.3*y(1)*y(2)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span = [0 20]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0 = [2, 1]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, y] = ode45(@predprey, tspan, y0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gure(1); plot(t,y); figure(2); plot(y(:,1),y(:,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1568520" y="1219320"/>
                <a:ext cx="46800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y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6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y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3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pic>
        <p:nvPicPr>
          <p:cNvPr id="60" name="Picture 5" descr="fig2102"/>
          <p:cNvPicPr/>
          <p:nvPr/>
        </p:nvPicPr>
        <p:blipFill>
          <a:blip r:embed="rId1"/>
          <a:stretch/>
        </p:blipFill>
        <p:spPr>
          <a:xfrm>
            <a:off x="1066680" y="4489560"/>
            <a:ext cx="2895840" cy="2368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fig2103"/>
          <p:cNvPicPr/>
          <p:nvPr/>
        </p:nvPicPr>
        <p:blipFill>
          <a:blip r:embed="rId2"/>
          <a:stretch/>
        </p:blipFill>
        <p:spPr>
          <a:xfrm>
            <a:off x="5105520" y="4483080"/>
            <a:ext cx="28191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ODE Solver Option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 to ODE solvers may be passed as an optional fourth argument, and are generally created using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odes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tion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tions=odeset(‘pa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’, ‘va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’, ‘pa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’, ‘va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’,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ly used parameter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lTol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djusts relative tole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bsTol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djusts absolute tole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itialStep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ets initial step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xStep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ets maximum step size (default: one tenth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sp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erv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ultistep Method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876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ltistep metho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based on the insight that, once the computation has begun, valuable information from the previous points ex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example is the non-self-starting Heun’s Method, which has the following predictor and corrector equ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685800" y="4876920"/>
                <a:ext cx="472428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Predictor</m:t>
                          </m:r>
                        </m:e>
                        <m:e>
                          <m:sSubSup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0</m:t>
                              </m:r>
                            </m:sup>
                          </m:sSubSup>
                          <m:r>
                            <m:t xml:space="preserve">=</m:t>
                          </m:r>
                          <m:sSubSup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m</m:t>
                              </m:r>
                            </m:sup>
                          </m:sSubSup>
                          <m:r>
                            <m:t xml:space="preserve">+</m:t>
                          </m:r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Sup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m</m:t>
                                  </m:r>
                                </m:sup>
                              </m:sSubSup>
                            </m:e>
                          </m:d>
                          <m:r>
                            <m:t xml:space="preserve">2</m:t>
                          </m:r>
                          <m:r>
                            <m:t xml:space="preserve">h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Corrector</m:t>
                          </m:r>
                        </m:e>
                        <m:e>
                          <m:sSubSup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j</m:t>
                              </m:r>
                            </m:sup>
                          </m:sSubSup>
                          <m:r>
                            <m:t xml:space="preserve">=</m:t>
                          </m:r>
                          <m:sSubSup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  <m:sup>
                              <m:r>
                                <m:t xml:space="preserve">m</m:t>
                              </m:r>
                            </m:sup>
                          </m:sSubSup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Sup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m</m:t>
                                      </m:r>
                                    </m:sup>
                                  </m:sSubSup>
                                </m:e>
                              </m:d>
                              <m:r>
                                <m:t xml:space="preserve">+</m:t>
                              </m:r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Sup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j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p>
                                  </m:sSubSup>
                                </m:e>
                              </m:d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h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pic>
        <p:nvPicPr>
          <p:cNvPr id="67" name="Picture 5" descr="fig2106"/>
          <p:cNvPicPr/>
          <p:nvPr/>
        </p:nvPicPr>
        <p:blipFill>
          <a:blip r:embed="rId1"/>
          <a:stretch/>
        </p:blipFill>
        <p:spPr>
          <a:xfrm>
            <a:off x="5181480" y="1219320"/>
            <a:ext cx="373536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7:37:24Z</dcterms:created>
  <dc:creator>Duke University</dc:creator>
  <dc:description/>
  <dc:language>en-US</dc:language>
  <cp:lastModifiedBy>Steven Chapra</cp:lastModifiedBy>
  <dcterms:modified xsi:type="dcterms:W3CDTF">2011-02-11T21:10:40Z</dcterms:modified>
  <cp:revision>37</cp:revision>
  <dc:subject/>
  <dc:title>Chapter 1</dc:title>
</cp:coreProperties>
</file>