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C948-EBB2-4AC0-8E93-68DA293B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9A93-8BB7-4B96-9614-C2104BA3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E38B-4C45-4A81-92CD-AB41C9D3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DF08-37DC-4F49-9C76-8436F839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2D7-46F6-4F0A-865E-735CB48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7F7E-4706-41DA-B644-148F182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C2-69F3-4336-A5D6-60C627EE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9CE6-43FD-4A07-A368-D59D0100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477-4348-45D2-B4FE-B27CF15F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5970-3D9C-4192-A7FB-5968CE4D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A66-205C-4940-8085-57CCEEF0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E01-4DDE-444B-A883-BC5A6B6C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2B06-D8B3-497E-BD4B-0F2451F0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-Valu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unge-Kutta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ge-Kutta (RK) methods achieve the accuracy of a Taylor series approach without requiring the calculation of higher deriva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K methods, the increment functio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generally written 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constants an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s are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95480" y="3124080"/>
                <a:ext cx="302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052640" y="3809880"/>
                <a:ext cx="68691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,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,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+</m:t>
                              </m:r>
                              <m:r>
                                <m:t xml:space="preserve">L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assical Fourth-Order Runge-Kutta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popular RK methods are fourth-order, and the most commonly used form 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29080" y="2438280"/>
                <a:ext cx="40003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85800" y="3962520"/>
                <a:ext cx="312732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67080" y="3233880"/>
            <a:ext cx="472464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ystems of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actical problems require the solution of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equation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lution of such a system requires th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itial conditions be known at the starting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124080" y="2438280"/>
                <a:ext cx="28242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r>
                            <m:t xml:space="preserve">M</m:t>
                          </m:r>
                        </m:e>
                      </m:mr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t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L</m:t>
                              </m:r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ution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equation methods can be used to solve systems of ODE’s as well; for example, Euler’s method can be used on systems of equations - the one-step method is applied for every equation at each step before proceeding to the next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-order Runge-Kutta methods can also be used, but care must be taken in calculating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RK4 C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0" r="7245" b="0"/>
          <a:stretch/>
        </p:blipFill>
        <p:spPr>
          <a:xfrm>
            <a:off x="0" y="988920"/>
            <a:ext cx="5238720" cy="5640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rcRect l="2315" t="0" r="34121" b="0"/>
          <a:stretch/>
        </p:blipFill>
        <p:spPr>
          <a:xfrm>
            <a:off x="5257800" y="990720"/>
            <a:ext cx="38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meaning of local and global truncation errors and their relationship to step size for one-step methods for solving 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the following Runge-Kutta (RK) methods for a single 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-Order 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terate the corrector of Heun’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the following Runge-Kutta methods for systems of O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-order 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rdinary Differential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 described here are for solving differential equations of the form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ethods in this chapter are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e-ste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and have the general forma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ment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is used to extrapolate from an old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 new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708360" y="2286000"/>
                <a:ext cx="14619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657600" y="4059360"/>
                <a:ext cx="1563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3581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derivative provides a direct estimate of the slope 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 Euler method uses that estimate as the increment fun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74920" y="2666880"/>
                <a:ext cx="17953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19320" y="5257800"/>
                <a:ext cx="230796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493740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Analysis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erical solution of ODEs involves two types of err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used by the nature of the techniques em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ndoff err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used by the limited numbers of significant digits that can be re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tal, 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lob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ncation error can be further split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 truncatio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s from an application method in question over a single step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pagated truncatio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sults from the approximations produced during previous ste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Analysis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cal truncation error for Euler’s method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proportional to the 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while the global truncation error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lobal error can be reduced by decreasing the step siz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er’s method will provide error-free predictions if the underlying function is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ler’s method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ditionally s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depending on the siz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de for Euler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906480"/>
            <a:ext cx="701028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eun’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thod to improve Euler’s method is to determine derivatives at the beginning and predicted ending of the interval and average them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relies on making a prediction of the new valu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correcting it based on the slope calculated at that new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dictor-corrector approach can be iterated to converg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317680" y="2127240"/>
            <a:ext cx="4724640" cy="21398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5410080"/>
            <a:ext cx="4784760" cy="13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idpoint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improvement to Euler’s method is similar to Heun’s method, but predicts the slope at the midpoint of an interval rather than at the end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thod has a local truncation erro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global erro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25520" y="3309840"/>
            <a:ext cx="4784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30Z</dcterms:modified>
  <cp:revision>38</cp:revision>
  <dc:subject/>
  <dc:title>Chapter 1</dc:title>
</cp:coreProperties>
</file>