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AC2C-0D04-4434-962C-0CDCBCB73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BFA3-2C93-46AD-BFBA-4EDF7174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8D0D-669B-47E5-B1F4-297A1F0E1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5BF0-A401-4852-8AD3-E1A4AAB5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7EE9-D5C7-419A-9B2A-F9FE6C0E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4BFC-0A27-4CEE-82C1-06415718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AAE4-2083-4B39-96F0-C14C692D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D4E8-A7B4-4704-BBEC-35766733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2DA9-C38F-4822-8935-8C8435A1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3771-B2FC-4A9D-8E03-F762080F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414A-C5F2-4999-9C8A-9CC85168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FFD6-765F-415D-9C39-8DCBF94C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5842-D89A-440D-9BDF-C3FCDA5C0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33920" y="15235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art 5</a:t>
            </a:r>
            <a:br>
              <a:rPr sz="4400"/>
            </a:b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21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57240" y="3200400"/>
            <a:ext cx="5181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ical Differen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62485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Points organized by Dr. Michael R. Gustafson II, Duk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18240" y="6629400"/>
            <a:ext cx="552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 images copyright © The McGraw-Hill Companies, Inc. Permission required for reproduction or displ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384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Derivatives and Integrals for Data with Error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hortcoming of numerical differentiation is that it tends to amplify errors in data, whereas integration tends to smooth data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approach for taking derivatives of data with errors is to fit a smooth, differentiable function to the data and take the derivative of the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362320" y="3657600"/>
            <a:ext cx="457200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Numerical Differentiation with MATLAB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has two built-in functions to help take derivatives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f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adi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ff(</a:t>
            </a: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the difference between adjacent elements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ff(</a:t>
            </a: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)./diff(</a:t>
            </a: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the difference between adjacent values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vided by the corresponding difference in adjacent value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Numerical Differentiation with MATLAB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fx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= gradient(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s the derivative of the data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each of the points.  The program uses forward difference for the first point, backward difference for the last point, and centered difference for the interior points.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spacing between points; if omitt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jor advantag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radi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v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i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gradi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 result is the same size as the original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ient can also be used to find partial derivatives for matrice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fx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fy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] = gradient(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Visualiza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LAB can generate contour plots of functions as well as vector fields.  Assum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present a meshgrid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lues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presents a funct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our(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used to generate a contour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f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f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=gradient(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used to generate partial derivative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iver(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f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f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used to generate vector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the application of high-accuracy numerical differentiation formulas for equispaced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how to evaluate derivatives for unequally spaced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how Richardson extrapolation is applied for numerical different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ing the sensitivity of numerical differentiation to data err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how to evaluate derivatives in MATLAB with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di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how to generate contour plots and vector fields with MATLA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Differentia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thematical definition of a derivative begins with a difference approximation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llowed to approach zero, the difference becomes a derivati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676520" y="4687920"/>
            <a:ext cx="5622840" cy="2170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043080" y="2362320"/>
                <a:ext cx="288936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y</m:t>
                        </m:r>
                      </m:num>
                      <m:den>
                        <m: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x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814480" y="4014720"/>
                <a:ext cx="33465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D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Dx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High-Accuracy Differentiation Formula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ylor series expansion can be used to generate high-accuracy formulas for derivatives by using linear algebra to combine the expansion around several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categories for the formula includ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ward finite-diffe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ckward finite-diffe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entered finite-diffe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Forward Finite-Differenc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4582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Backward Finite-Differenc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7096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entered Finite-Differenc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61048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Richardson Extrapola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with integration, the Richardson extrapolation can be used to combine two lower-accuracy estimates of the derivative to produce a higher-accuracy estim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cases where there are tw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estimates and the interval is halved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), an improv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estimate may be formed using: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cases where there are tw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estimates and the interval is halved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), an improv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estimate may be formed using: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cases where there are tw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estimates and the interval is halved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), an improv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estimate may be formed using: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117960" y="2911320"/>
                <a:ext cx="278280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989440" y="4343400"/>
                <a:ext cx="30398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976480" y="5791320"/>
                <a:ext cx="306540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den>
                    </m:f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den>
                    </m:f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Unequally Spaced Data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way to calculated derivatives of unequally spaced data is to determine a polynomial fit and take its derivative at a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example, using a second-order Lagrange polynomial to fit three points and taking its derivative yiel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85800" y="5267160"/>
                <a:ext cx="777240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7:37:24Z</dcterms:created>
  <dc:creator>Duke University</dc:creator>
  <dc:description/>
  <dc:language>en-US</dc:language>
  <cp:lastModifiedBy>Steven Chapra</cp:lastModifiedBy>
  <dcterms:modified xsi:type="dcterms:W3CDTF">2011-02-11T21:10:21Z</dcterms:modified>
  <cp:revision>37</cp:revision>
  <dc:subject/>
  <dc:title>Chapter 1</dc:title>
</cp:coreProperties>
</file>