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02F-3200-4ED1-84C4-91FD1732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871E-08E4-4844-B813-0DA1C631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40F-1D52-44CE-9958-5176E341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BF4-9099-4F85-996E-601BB3D6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57F-9A97-4231-A5ED-7EE070FF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5CFB-C6B3-4632-AF40-B367E497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820-213F-4D83-B1F8-425549B0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68ED-59C0-42B6-92AE-4BDEF07F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E5E-8C3F-4422-8B64-1BD02626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057E-0421-4323-954C-D2760072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629-A87E-4BFF-BD76-6C9DF13B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73D-966A-4696-AA12-C8A79915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9013-1380-4070-B796-8E84E8B3C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5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0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Integration of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daptive Quadratur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s such as Simpson’s 1/3 rule has a disadvantage in that it uses equally spaced points - if a function has regions of abrupt changes, small steps must be used ove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tire 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chieve a certain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aptive quadr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thods for integrating functions automatically adjust the step size so that small steps are taken in regions of sharp variations and larger steps are taken where the function changes gradu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daptive Quadrature in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two built-in functions for implementing adaptive quadr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s adaptive Simpson quadrature; possibly more efficient for low accuracies or nonsmooth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s Lobatto quadrature; possibly more efficient for high accuracies and smooth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quad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function to be integ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gration b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esired absolute tolerance (default: 10-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r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lag to display details or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tra parameters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the same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Richardson extrapolation provides a means to create a more accurate integral estimate by combining two less accurate esti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Gauss quadrature provides superior integral estimates by picking optimal abscissas at which to evaluate the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use MATLAB’s built-in function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u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ua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ntegrate fun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ichardson Extra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chard extrapo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 use two estimates of an integral to compute a third, more accurate approx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calculated for an integral using step size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spectively, an improv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 may be formed using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special case where the interval is halved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), this beco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362320" y="3962520"/>
                <a:ext cx="45338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392640" y="5807160"/>
                <a:ext cx="2473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ichardson Extrapolation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cases where there are tw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s and the interval is halved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), an improv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 may be formed using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cases where there are tw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s and the interval is halved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), an improv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stimate may be formed us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441600" y="2835360"/>
                <a:ext cx="200988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416400" y="5105520"/>
                <a:ext cx="206064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Romberg Integration Algorithm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weighting factors for the Richardson extrapolation add up to 1 and that as accuracy increases, the approximation using the smaller step size is given greater 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1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the more and less accurate integrals, respectively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ew approximation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evel of integration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used to determine which approximation is more accu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048120" y="3200400"/>
                <a:ext cx="28591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omberg Algorithm Iter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t below shows the process by which lower level integrations are combined to produce more accurate estim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84582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Code for Romberg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00200" y="1025640"/>
            <a:ext cx="601992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auss Quadratur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5257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uss quadr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scribes a class of techniques for evaluating the area under a straight line by jo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wo points on a curve rather than simply choosing the end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is to choose the line that balances the positive and negative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52920" y="1371600"/>
            <a:ext cx="3691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auss-Legendre Formula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auss-Legend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mulas seem to optimize estimates to integrals for functions over intervals from -1 to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ls over other intervals require a change in variables to set the limits from -1 to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ral estimates are of the form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alculated to ensure that the method exactly integrates up to (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polynomials over the interval from -1 to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38280" y="4013280"/>
                <a:ext cx="4497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@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10:01Z</dcterms:modified>
  <cp:revision>35</cp:revision>
  <dc:subject/>
  <dc:title>Chapter 1</dc:title>
</cp:coreProperties>
</file>