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96A4-1E02-408D-A870-0337AEE8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474-24B3-4A3B-9B53-40B3FD4E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9F5-050E-45CD-A6FF-73181B98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F3DF-63EE-4952-B765-776A30A5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8A6-9CA2-47CD-A878-FA3EB50C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0A8-3062-4751-81A5-67688AC0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074-AD34-43D5-8CF4-28654F5C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3BD-4758-4765-8F11-DBDC1D6F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1FE-9A47-48D5-BB98-1E8C846E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8492-69C6-4AE9-B4D5-C38D16A4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85FD-27D1-4EC3-A101-ED47E409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3B71-5F7B-4B6B-B039-E619E83E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7AB6-18AF-4BD1-B7B1-5BDC5FD58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1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1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32004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Model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ical Method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Problem S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57200" y="5943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 and Prof. Steve Chapra, Tufts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Resul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1572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Euler's method in 2 s intervals yiel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improve the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946160" y="1687680"/>
            <a:ext cx="5257800" cy="35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Bases for Numerical Model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rvation laws provide the foundation for many model func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ields of engineering and science apply these laws to different paradigms within the f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ng these law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Summary of Numerical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ok is divided into five categories of numerical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5638680"/>
            <a:ext cx="4419720" cy="1096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4419720" cy="108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320" y="4114800"/>
            <a:ext cx="4510080" cy="1176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0" y="2666880"/>
            <a:ext cx="4592520" cy="1270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4552920" y="2743200"/>
            <a:ext cx="459108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how mathematical models can be formulated on the basis of scientific principles to simulate the behavior of a simple physica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how numerical methods afford a means to generalize solutions in a manner that can be implemented on a digital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the different types of conservation laws that lie beneath the models used in the various engineering disciplines and appreciating the difference between steady-state and dynamic solutions of these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about the different types of numerical methods we will cover in this 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A Simple Mathematical Model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hematical model can be broadly defined as a formulation or equation that expresses the essential features of a physical system or process in mathematical te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s can be represented by a functional relationship between dependent variables, independent variables, parameters, and forcing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odel Function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209680"/>
            <a:ext cx="79246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 characteristic that usually reflects the behavior or state of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dependent 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dimensions, such as time and space, along which the system’s behavior is being deter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nstants reflective of the system’s properties or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cing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external influences acting upo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193760" y="1270080"/>
                <a:ext cx="65102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Depend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variable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dependent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iables</m:t>
                              </m:r>
                            </m:e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, parameters,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orcing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functions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odel Function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6248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a bungee jumper is in mid-flight, an analytical model for the jumper’s velocity, accounting for drag, is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ent variable -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variables -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- ma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rag coeffici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function - gravitational acceleration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02440" y="1981080"/>
            <a:ext cx="1324080" cy="41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209680" y="2590920"/>
                <a:ext cx="342900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m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c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Model Result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computer (or a calculator), the model can be used to generate a graphical representation of the system.  For example, the graph below represents the velocity of a 68.1 kg jumper, assuming a drag coefficient of 0.25 kg/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93704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Modeling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ystem models will be given as implicit functions or as differential equations - these can be solved either using analytical methods or numerical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- the bungee jumper velocity equation from before is the analytical solution to the differential equ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change in velocity is determined by the gravitational forces acting on the jumper versus the drag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352680" y="4060800"/>
                <a:ext cx="27432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Numerical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the problem using a numerical method, note that the time rate of change of velocity can be approximated a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43400" y="2849400"/>
            <a:ext cx="4724280" cy="400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7200" y="3962520"/>
                <a:ext cx="37339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»</m:t>
                    </m:r>
                    <m:f>
                      <m:num>
                        <m:r>
                          <m:t xml:space="preserve">Dv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uler's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4960" y="111888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ng the finite difference into the differential equation g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651040" y="3281400"/>
            <a:ext cx="3813480" cy="1077840"/>
            <a:chOff x="2651040" y="3281400"/>
            <a:chExt cx="3813480" cy="1077840"/>
          </a:xfrm>
        </p:grpSpPr>
        <p:sp>
          <p:nvSpPr>
            <p:cNvPr id="70" name=""/>
            <p:cNvSpPr/>
            <p:nvPr/>
          </p:nvSpPr>
          <p:spPr>
            <a:xfrm>
              <a:off x="4744800" y="3662280"/>
              <a:ext cx="171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= g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      v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751360" y="3292200"/>
              <a:ext cx="281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01760" y="390204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34080" y="392076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53280" y="3890880"/>
              <a:ext cx="48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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651040" y="3281400"/>
              <a:ext cx="1873440" cy="1053360"/>
              <a:chOff x="2651040" y="3281400"/>
              <a:chExt cx="1873440" cy="1053360"/>
            </a:xfrm>
          </p:grpSpPr>
          <p:sp>
            <p:nvSpPr>
              <p:cNvPr id="76" name=""/>
              <p:cNvSpPr/>
              <p:nvPr/>
            </p:nvSpPr>
            <p:spPr>
              <a:xfrm>
                <a:off x="2710800" y="3281400"/>
                <a:ext cx="1731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+1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 v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651040" y="3890880"/>
                <a:ext cx="187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31280" y="3814560"/>
                <a:ext cx="887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i="1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+1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 t</a:t>
                </a:r>
                <a:r>
                  <a:rPr b="0" i="1" lang="en-US" sz="30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"/>
          <p:cNvGrpSpPr/>
          <p:nvPr/>
        </p:nvGrpSpPr>
        <p:grpSpPr>
          <a:xfrm>
            <a:off x="1626480" y="4778280"/>
            <a:ext cx="5860440" cy="1157400"/>
            <a:chOff x="1626480" y="4778280"/>
            <a:chExt cx="5860440" cy="1157400"/>
          </a:xfrm>
        </p:grpSpPr>
        <p:sp>
          <p:nvSpPr>
            <p:cNvPr id="80" name=""/>
            <p:cNvSpPr/>
            <p:nvPr/>
          </p:nvSpPr>
          <p:spPr>
            <a:xfrm>
              <a:off x="1626480" y="5111640"/>
              <a:ext cx="186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= v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62640" y="5148360"/>
              <a:ext cx="233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+   g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      v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54600" y="4778280"/>
              <a:ext cx="281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05000" y="538812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37320" y="54072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46800" y="5116680"/>
              <a:ext cx="114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+1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 t</a:t>
              </a:r>
              <a:r>
                <a:rPr b="0" i="1" lang="en-US" sz="3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46760" y="4886280"/>
              <a:ext cx="141120" cy="1033560"/>
            </a:xfrm>
            <a:custGeom>
              <a:avLst/>
              <a:gdLst>
                <a:gd name="textAreaLeft" fmla="*/ 41400 w 141120"/>
                <a:gd name="textAreaRight" fmla="*/ 141480 w 141120"/>
                <a:gd name="textAreaTop" fmla="*/ 42840 h 1033560"/>
                <a:gd name="textAreaBottom" fmla="*/ 9907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008040" y="4902120"/>
              <a:ext cx="141480" cy="1033560"/>
            </a:xfrm>
            <a:custGeom>
              <a:avLst/>
              <a:gdLst>
                <a:gd name="textAreaLeft" fmla="*/ 41400 w 141480"/>
                <a:gd name="textAreaRight" fmla="*/ 141840 w 141480"/>
                <a:gd name="textAreaTop" fmla="*/ 42840 h 1033560"/>
                <a:gd name="textAreaBottom" fmla="*/ 9907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416400" y="2230560"/>
            <a:ext cx="2259360" cy="920520"/>
            <a:chOff x="3416400" y="2230560"/>
            <a:chExt cx="2259360" cy="920520"/>
          </a:xfrm>
        </p:grpSpPr>
        <p:sp>
          <p:nvSpPr>
            <p:cNvPr id="89" name=""/>
            <p:cNvSpPr/>
            <p:nvPr/>
          </p:nvSpPr>
          <p:spPr>
            <a:xfrm>
              <a:off x="3448080" y="2230560"/>
              <a:ext cx="36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dv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81560" y="269388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d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16400" y="2727360"/>
              <a:ext cx="41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26880" y="2433600"/>
              <a:ext cx="215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79680" y="24224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35360" y="24336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44960" y="2230560"/>
              <a:ext cx="16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13080" y="24703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80960" y="269388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13280" y="2727360"/>
              <a:ext cx="388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9040" y="2478240"/>
              <a:ext cx="169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0560" y="24512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845360" y="6110280"/>
            <a:ext cx="53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 =  old  +      slope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3-28T14:58:18Z</dcterms:modified>
  <cp:revision>14</cp:revision>
  <dc:subject/>
  <dc:title>Chapter 1</dc:title>
</cp:coreProperties>
</file>