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88D2-6260-47AE-950E-418D48CE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28BE-8922-405B-989D-2B9C2F64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157-B410-4E75-9252-8937BFFC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4D8B-434D-4053-8B0C-7F599727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97CF-40F9-46C9-86F0-178A076F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45E-B373-4D91-A9EB-AAA1371D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A8B-18D8-4D80-B5CF-8BFAB68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1CB-D7FD-4E77-9E72-E52B7E0C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3F0-187E-4043-B09E-DC9D993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1ED2-C543-49B8-BE80-6771BE92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3348-A26F-4C25-AC3D-A3BB1D08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AEC-954F-40E7-B52E-0B3C560A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B53-E397-4D48-A465-D9A38FC88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5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9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Integration Formu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602928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Ru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rawback of the trapezoidal rule is that the error is related to the second derivative of th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icated approximation formulas can improve the accuracy for curves - these include using (a) 2nd and (b) 3rd order polynom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s that result from taking the integrals under these polynomial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mpson’s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ig1711"/>
          <p:cNvPicPr/>
          <p:nvPr/>
        </p:nvPicPr>
        <p:blipFill>
          <a:blip r:embed="rId1"/>
          <a:stretch/>
        </p:blipFill>
        <p:spPr>
          <a:xfrm>
            <a:off x="1752480" y="4208400"/>
            <a:ext cx="59436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son’s 1/3 rule corresponds to using second-order polynomials.  Using the Lagrange form for a quadratic fit of three point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over the three points simplifie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3002040" y="4902120"/>
                <a:ext cx="321624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609480" y="3429000"/>
                <a:ext cx="8077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of 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stimate for the local truncation error of a single application of Simpson’s 1/3 rule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ga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omewhere betwe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formula indicates that the error is dependent upon the fourth-derivative of the actual function as well as the distance between the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e error is dependent on the fifth power of the step size (rather than the third for the trapezoidal ru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an thus be reduced by breaking the curve into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755800" y="2286000"/>
                <a:ext cx="3294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</m:d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osite Simpson’s 1/3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son’s 1/3 rule can be used on a set of subintervals in much the same way the trapezoidal rule was, except t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odd number of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heavy weighting of the internal points, the formula is a little more complicated than for the trapezoidal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ig1712"/>
          <p:cNvPicPr/>
          <p:nvPr/>
        </p:nvPicPr>
        <p:blipFill>
          <a:blip r:embed="rId1"/>
          <a:stretch/>
        </p:blipFill>
        <p:spPr>
          <a:xfrm>
            <a:off x="4876920" y="1371600"/>
            <a:ext cx="3809880" cy="2984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762120" y="4419720"/>
                <a:ext cx="8153280" cy="20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son’s 3/8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corresponds to using third-order polynomials to fit four points. Integration over the four points simplifies to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is generally used in concert with Simpson’s 1/3 rule when the number of segments is o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85800" y="2997360"/>
                <a:ext cx="42800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3" name="Picture 6" descr="fig1713"/>
          <p:cNvPicPr/>
          <p:nvPr/>
        </p:nvPicPr>
        <p:blipFill>
          <a:blip r:embed="rId1"/>
          <a:stretch/>
        </p:blipFill>
        <p:spPr>
          <a:xfrm>
            <a:off x="5265720" y="1523880"/>
            <a:ext cx="3878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-Order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order Newton-Cotes formulas may also be used - in general, the higher the order of the polynomial used, the higher the derivative of the function in the error estimate and the higher the power of the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in Simpson’s 1/3 and 3/8 rule, the even-segment-odd-point formulas have truncation errors that are the same order as formulas adding one more point.  For this reason, the even-segment-odd-point formulas are usually the methods of pre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 with Unequal Segm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ious formulas were simplified based on equispaced data points - though this is not always the 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pezoidal rule may be used with data containing unequal seg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228600" y="4191120"/>
                <a:ext cx="87231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 Code for Unequal Segm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0" name="Picture 4" descr="fig1714"/>
          <p:cNvPicPr/>
          <p:nvPr/>
        </p:nvPicPr>
        <p:blipFill>
          <a:blip r:embed="rId1"/>
          <a:stretch/>
        </p:blipFill>
        <p:spPr>
          <a:xfrm>
            <a:off x="380880" y="1414440"/>
            <a:ext cx="838224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to evaluate integrals based on the trapezoidal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trapz(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trapz(x, 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he integra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mitted, the program assum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cumtrapz(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cumtrapz(x, y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s the cumulative integra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respec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mitted, the program assum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Newton-Cotes integration formulas are based on the strategy of replacing a complicated function or tabulated data with a polynomial that is easy to integr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ollowing single application Newton-Cotes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1/3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ollowing composite Newton-Cotes formul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’s 3/8 r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ple Integr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tegrals can be determined numerically by first integrating in one dimension, then a second, and so on for all dimensions of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1716"/>
          <p:cNvPicPr/>
          <p:nvPr/>
        </p:nvPicPr>
        <p:blipFill>
          <a:blip r:embed="rId1"/>
          <a:stretch/>
        </p:blipFill>
        <p:spPr>
          <a:xfrm>
            <a:off x="5486400" y="1295280"/>
            <a:ext cx="3505320" cy="269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fig1717"/>
          <p:cNvPicPr/>
          <p:nvPr/>
        </p:nvPicPr>
        <p:blipFill>
          <a:blip r:embed="rId2"/>
          <a:stretch/>
        </p:blipFill>
        <p:spPr>
          <a:xfrm>
            <a:off x="1752480" y="3962520"/>
            <a:ext cx="62326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that even-segment-odd-point formulas like Simpson’s 1/3 rule achieve higher than expected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how to use the trapezoidal rule to integrate unequally spac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ifference between open and closed integration formu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g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total value, or summation,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he range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1701"/>
          <p:cNvPicPr/>
          <p:nvPr/>
        </p:nvPicPr>
        <p:blipFill>
          <a:blip r:embed="rId1"/>
          <a:stretch/>
        </p:blipFill>
        <p:spPr>
          <a:xfrm>
            <a:off x="2666880" y="3143160"/>
            <a:ext cx="3962520" cy="363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3770280" y="1828800"/>
                <a:ext cx="17557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Cotes Formula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ton-C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ulas are the most common numerical integration sche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they are based on replacing a complicated function or tabulated data with a polynomial that is easy to integrate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interpolating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895480" y="4114800"/>
                <a:ext cx="33339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@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Cotes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ting function can be polynomials for any order - for example, (a) straight lines or (b) parabo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gral can be approximated in one step or in a series of steps to improve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g1704"/>
          <p:cNvPicPr/>
          <p:nvPr/>
        </p:nvPicPr>
        <p:blipFill>
          <a:blip r:embed="rId1"/>
          <a:stretch/>
        </p:blipFill>
        <p:spPr>
          <a:xfrm>
            <a:off x="4740120" y="1371600"/>
            <a:ext cx="4327560" cy="2116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ig1705"/>
          <p:cNvPicPr/>
          <p:nvPr/>
        </p:nvPicPr>
        <p:blipFill>
          <a:blip r:embed="rId2"/>
          <a:stretch/>
        </p:blipFill>
        <p:spPr>
          <a:xfrm>
            <a:off x="5105520" y="3510000"/>
            <a:ext cx="35049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pezoidal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of the Newton-Cotes closed integration formulas; it uses a straight-line approximation for the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ig1707"/>
          <p:cNvPicPr/>
          <p:nvPr/>
        </p:nvPicPr>
        <p:blipFill>
          <a:blip r:embed="rId1"/>
          <a:stretch/>
        </p:blipFill>
        <p:spPr>
          <a:xfrm>
            <a:off x="4343400" y="1295280"/>
            <a:ext cx="4572000" cy="3259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5"/>
              <p:cNvSpPr txBox="1"/>
              <p:nvPr/>
            </p:nvSpPr>
            <p:spPr>
              <a:xfrm>
                <a:off x="703440" y="3981600"/>
                <a:ext cx="4402080" cy="24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of th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stimate for the local truncation error of a single application of the trapezoidal rule is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omewhere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rmula indicates that the error is dependent upon the curvature of the actual function as well as the distance between the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an thus be reduced by breaking the curve into p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990720" y="2682720"/>
                <a:ext cx="277812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8" name="Picture 5" descr="fig1708"/>
          <p:cNvPicPr/>
          <p:nvPr/>
        </p:nvPicPr>
        <p:blipFill>
          <a:blip r:embed="rId1"/>
          <a:stretch/>
        </p:blipFill>
        <p:spPr>
          <a:xfrm>
            <a:off x="5105520" y="1295280"/>
            <a:ext cx="3352680" cy="2678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fig1709"/>
          <p:cNvPicPr/>
          <p:nvPr/>
        </p:nvPicPr>
        <p:blipFill>
          <a:blip r:embed="rId2"/>
          <a:stretch/>
        </p:blipFill>
        <p:spPr>
          <a:xfrm>
            <a:off x="5181480" y="3962520"/>
            <a:ext cx="3124440" cy="26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osite Trapezoidal Ru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562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 data points are evenly spaced, there will b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vals over which to integ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integral can be calculated by integrating each subinterval and then adding them toge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ig1709"/>
          <p:cNvPicPr/>
          <p:nvPr/>
        </p:nvPicPr>
        <p:blipFill>
          <a:blip r:embed="rId1"/>
          <a:stretch/>
        </p:blipFill>
        <p:spPr>
          <a:xfrm>
            <a:off x="5715000" y="1295280"/>
            <a:ext cx="3124080" cy="2660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304920" y="4114800"/>
                <a:ext cx="861048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52Z</dcterms:modified>
  <cp:revision>40</cp:revision>
  <dc:subject/>
  <dc:title>Chapter 1</dc:title>
</cp:coreProperties>
</file>