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7C0-9184-4E74-9525-20106236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89A-5DC8-4E61-8618-E09987B1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0F5A-9F86-4942-B8A6-BEA6F127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CE4-09AB-4476-BF1F-B46BCF2A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D4A-D9E9-47AC-AC99-3A9BE45E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3F7-8658-47E4-BC4E-5AAB51FD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23EF-842A-4E4D-93A9-C7EA71B6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342-9478-4D25-B1C9-AE0621F0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B21-69C3-44D6-A495-FE031055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5CC-A908-4CF0-A9DD-77E676FF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EF57-8D2A-4539-A9BD-770D0AC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D30-BAF4-44D6-AC09-6E6098E9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E759-44FF-4F10-85BE-0CC15C016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8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es and Piecewise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wo Additional Equ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options for the final two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end conditions - assume the second derivative at the end knots are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mped end conditions - assume the first derivatives at the first and last knots are kn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-a-knot” end conditions - force continuity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ivative at the second and penultimate points (results in the first two intervals having the same spline function and the last two intervals having the same spline fun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66880" y="4468680"/>
            <a:ext cx="402300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iecewise Interpolation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several built-in functions to implement piecewise interpolation.  The first is splin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y=spline(x, y, xx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erforms cubic spline interpolation, generally using not-a-knot conditions. 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s two more values th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entries, then the first and last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used as the derivatives at the end points (i.e. clamp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t-a-knot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ata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linspace(-1, 1, 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./(1+25*x.^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100 model point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ot-a-knot interpol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 = linspace(-1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 = spline(x, y, x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ctual function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del points and data points,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point not-a-knot interpolation (soli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ctual function (dashe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 = 1./(1+25*xx.^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ot(x, y, ‘o’, xx, yy, ‘-’, xx, yr, ‘-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29200" y="1809720"/>
            <a:ext cx="4114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amped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data w/ first derivative inform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linspace(-1, 1, 9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./(1+25*x.^2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 = [1 y -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100 model point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ot-a-knot interpol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x = linspace(-1, 1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c = spline(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x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ctual function valu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del points and data points,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-point clamped interpolation (soli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ctual function (dashed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r = 1./(1+25*xx.^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lot(x, y, ‘o’, xx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y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‘-’, xx, yr, ‘-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76920" y="1738440"/>
            <a:ext cx="4114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’s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interp1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only perform cubic splines, 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erp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can perform several different kinds of interpolatio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i = interp1(x, y, xi, ‘method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 the origi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the points at which to interp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thod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tring containing the desired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arest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earest neighbor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ar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connects the points with straigh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line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not-a-knot cubic spline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chip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cubic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iecewise cubic Hermite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iecewise Polynomial Comparis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648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polation methods for one-dimensional problems can be extended to multidimensional interp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bilinear interpolation using Lagrange-form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066680" y="4114800"/>
                <a:ext cx="299268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876920" y="942840"/>
            <a:ext cx="4267080" cy="321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71808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Interpolation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built-in functions for two- and three-dimensional piecewise interpolation: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i = interp2(x, y, z, xi, yi, ‘method’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 = interp3(x, y, z, v, xi, yi, zi, ‘method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thod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gain a string containing the desired method: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nearest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linear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spline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pchip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‘cubic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2-D interpolation, the inputs must either be vectors or same-size matr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3-D interpolation, the inputs must either be vectors or same-size 3-D ar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at splines minimize oscillations by fitting lower-order polynomials to data in a piecewise fash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develop code to perform table loo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why cubic polynomials are preferable to quadratic and higher-order sp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conditions that underlie a cubic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differences between natural, clamped, and not-a-knot end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fit a spline to data with MATLAB’s built-in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how multidimensional interpolation is implemented with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roduction to Splin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lternative approach to using a singl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polynomial to interpolate between n points is to apply lower-order polynomials in a piecewise fashion to subsets of data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onnecting polynomial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line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es minimize oscillations and reduce round-off error due to their lower-order nature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er Order vs. Splin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nes eliminate oscillations by using small subsets of points for each interval rather than every point.  This is especially useful when there are jumps in the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s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 1st order polynomials generated by using pairs of points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51800" y="1219320"/>
            <a:ext cx="239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pline Developmen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ine function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coefficients are calculated for each interval of a data s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umber of data point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used for each spline function depends on the order of the spline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4300560"/>
            <a:ext cx="53179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pline Developmen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order splines find straight-line equations between each pair of poi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-order splines find quadratic equations between each pair of poi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first derivatives at the interior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-order splines find cubic equations between each pair of points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hrough the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5240" indent="-3974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first and second derivatives at the interior points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 that the results of cubic spline interpolation are different from the results of an interpolating cub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60960" y="1295280"/>
            <a:ext cx="3925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ubic Splin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data of a particular size presents many options for the order of spline functions, cubic splines are preferred because they provide the simplest representation that exhibits the desired appearance of smooth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splines have discontinuous firs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tic splines have discontinuous second derivatives and require setting the second derivative at some point to a pre-determined val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but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ic or higher-order splines tend to exhibit the instabilities inherent in higher order polynomials (ill-conditioning or oscill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ubic Splin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line function for a cubic spline can be written a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points, 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intervals and thus 4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) unknowns to evaluate to solve all the spline function coeffic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981080" y="2666880"/>
                <a:ext cx="5411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ving Spline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ndition requires that the spline function goes through the first and last point of the interval, yielding 2(n-1) equations of the form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requires that the first derivative is continuous at each interior point, yielding n-2 equations of the for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rd requires th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co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ative is continuous at each interior point, yielding n-2 equations of the for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give 4n-6 total equations and 4n-4 are need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4920" y="2438280"/>
                <a:ext cx="86630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⇒</m:t>
                          </m:r>
                          <m:r>
                            <m:t xml:space="preserve">s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090440" y="4165560"/>
                <a:ext cx="7091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843200" y="5664240"/>
                <a:ext cx="5587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42Z</dcterms:modified>
  <cp:revision>35</cp:revision>
  <dc:subject/>
  <dc:title>Chapter 1</dc:title>
</cp:coreProperties>
</file>