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F89-A494-4D39-95ED-17F60C8A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797-0EE5-4821-A317-DEB7A6E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E80-FEFD-447B-963F-F8C05D89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866-9D71-450C-96D2-CCD969E0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C63-A315-48D5-A4D5-BF2D7A4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862-B4EE-4C49-B38F-41733260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714-F980-4ACF-A86F-9827B335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B2D-807B-4B36-A0AB-6B5F62A3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ADC-4DF9-47E2-A010-B5CD5721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17A-481A-44B3-A14F-26935CAE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3C37-D13F-4959-9204-5C2E6685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216D-F0F5-46C2-859D-E23DD2CD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BD93-E108-419B-BB36-531BA6610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7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nomial Interp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vided Differenc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d difference are calculated as follow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d differences are calculated using divided difference of a smaller number of term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973160" y="1905120"/>
                <a:ext cx="525780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5072040"/>
            <a:ext cx="6613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Implem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1065240"/>
            <a:ext cx="5943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agrange Interpolating Polynomi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method that uses shifted value to express an interpolating polynomial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grange interpolating polynom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ces between a simply polynomial and Lagrange interpolating polynomials for first and second order polynomials is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weighting coefficients that are function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507960" y="4114800"/>
                <a:ext cx="817884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de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mpl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agrange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d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agrange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order Lagrange interpolating polynomial may be obtained from a weighted combination of two linear interpolations,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formula based on known poin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values of the dependent function at those point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67080" y="2173320"/>
            <a:ext cx="4800600" cy="3313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84280" y="4572000"/>
                <a:ext cx="4216320" cy="21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agrange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Lagrange polynomial interpolation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s i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276720" y="2514600"/>
                <a:ext cx="281628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594240" y="3759120"/>
                <a:ext cx="21812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¹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Implem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987480"/>
            <a:ext cx="73152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verse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ion general means finding some 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or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is between given independent data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, it will be useful to fi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whi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a certain value - this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verse interp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her than finding an interpol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it may be useful to find an equation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terpolation and then solve the corresponding roots problem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esi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tra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3962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trap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cess of estimating a valu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lies outside the range of the known base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polation represents a step into the unknown, and extreme care should be exercised when extrapola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87800" y="1219320"/>
            <a:ext cx="505620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trapolation Hazar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hows the results of extrapolating a seventh-order population data 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02920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scil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-order polynomials can not only lead to round-off errors due to ill-conditioning, but can also introduce oscillations to an interpolation or fit where they should not 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gures below, the dashed line represents an function, the circles represent samples of the function, and the solid line represents the results of a polynomial interpo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2880" y="4191120"/>
            <a:ext cx="3429000" cy="2668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62120" y="4186080"/>
            <a:ext cx="34290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at evaluating polynomial coefficients with simultaneous equations is an ill-conditioned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evaluate polynomial coefficients and interpolate with MATLAB’s polyfit and polyval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perform an interpolation with Newton’s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perform an interpolation with a Lagrange polynom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solve an inverse interpolation problem by recasting it as a roots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eciating the dangers of extrap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at higher-order polynomials can manifest large oscill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frequently have occasions to estimate intermediate values between precise data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you use to interpolate must pass through the actual data points - this makes interpolation more restrictive than fi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method for this purpose is polynomial interpolation, where a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polynomial is solved that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209680" y="5105520"/>
                <a:ext cx="45529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 version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termining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polynomial interpolation provides as many basis functions as there are data points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the polynomial coefficients can be found exactly using linear algeb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’s built in polyfit and polyval commands can also be used - all that is required is making sure the order of the fit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points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 Interpolation Probl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roblem that can occur with solving for the coefficients of a polynomial is that the system to be inverted is in the form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ces such as that on the left are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ndermonde matr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y are very ill-conditioned - meaning their solutions are very sensitive to round-off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 can be minimized by scaling and shifting the dat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38280" y="2152800"/>
                <a:ext cx="403884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way to express a polynomial interpolation is to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ton’s interpolating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ces between a simple polynomial and Newton’s interpolating polynomial for first and second order interpolation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2280" y="5181480"/>
                <a:ext cx="88138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rder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Simpl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Newton</m:t>
                          </m:r>
                        </m:e>
                      </m:mr>
                      <m:m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st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nd</m:t>
                          </m:r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3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-order Newton interpolating polynomial may be obtained from linear interpolation and similar triangles, as sh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formula based on known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values of the dependent function at those poin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570560" cy="51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708120" y="5334120"/>
                <a:ext cx="36687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-order Newton interpolating polynomial introduces some curvature to the line connecting the points, but still goes through the first two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formula based on known poin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values of the dependent function at those poin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846680" y="1523880"/>
            <a:ext cx="422100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71520" y="5257800"/>
                <a:ext cx="8400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 Interpolating 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an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ton interpolating polynomial has all the terms of the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nomial plus one ex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neral formula i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…] represe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vided differe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19320" y="3327480"/>
                <a:ext cx="691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532320" y="3913200"/>
                <a:ext cx="228600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34Z</dcterms:modified>
  <cp:revision>37</cp:revision>
  <dc:subject/>
  <dc:title>Chapter 1</dc:title>
</cp:coreProperties>
</file>