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746-4CEC-4F09-808F-ECF3E71F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C25-2648-4297-B407-FF858D84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4D14-4B65-4FA9-A4D7-CC34DF9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CE0-ED99-41CE-AC97-02FC3DCA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B2F-BEDE-4CCF-B61A-3F4973E1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F19-1216-48C1-A868-AC6E3F35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BB0-58CB-4694-899A-9D40BF7A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B6D-4DAC-4063-9A54-7824C24A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C88-AC81-46EF-96EA-854E40C1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8314-A040-4D06-9F5F-9EC09FF0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8BB-7FF2-4307-B662-9FE36E8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918-90E7-435B-A38D-F0CC1E76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5CC1-685A-408E-B0A8-43A0DA31A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3848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4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6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16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ie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Prof. Steve Chapra,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CoverImage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ime Versus Frequency Domai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97" name="Picture 5" descr="fig16-06Cropped"/>
          <p:cNvPicPr/>
          <p:nvPr/>
        </p:nvPicPr>
        <p:blipFill>
          <a:blip r:embed="rId1"/>
          <a:stretch/>
        </p:blipFill>
        <p:spPr>
          <a:xfrm>
            <a:off x="2498760" y="1809720"/>
            <a:ext cx="41385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hase Line Spectra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99" name="Picture 4" descr="fig16-07Cropped"/>
          <p:cNvPicPr/>
          <p:nvPr/>
        </p:nvPicPr>
        <p:blipFill>
          <a:blip r:embed="rId1"/>
          <a:stretch/>
        </p:blipFill>
        <p:spPr>
          <a:xfrm>
            <a:off x="1679400" y="1174680"/>
            <a:ext cx="577872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Line Spectra for Square Wave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1" name="Picture 4" descr="fig16-08Cropped"/>
          <p:cNvPicPr/>
          <p:nvPr/>
        </p:nvPicPr>
        <p:blipFill>
          <a:blip r:embed="rId1"/>
          <a:stretch/>
        </p:blipFill>
        <p:spPr>
          <a:xfrm>
            <a:off x="1903320" y="1200240"/>
            <a:ext cx="53308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iscrete Fourier Transform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3" name="Picture 4" descr="fig16-09Cropped"/>
          <p:cNvPicPr/>
          <p:nvPr/>
        </p:nvPicPr>
        <p:blipFill>
          <a:blip r:embed="rId1"/>
          <a:stretch/>
        </p:blipFill>
        <p:spPr>
          <a:xfrm>
            <a:off x="1700280" y="1905120"/>
            <a:ext cx="57434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perations Versus Sample Size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5" name="Picture 4" descr="fig16-10Cropped"/>
          <p:cNvPicPr/>
          <p:nvPr/>
        </p:nvPicPr>
        <p:blipFill>
          <a:blip r:embed="rId1"/>
          <a:stretch/>
        </p:blipFill>
        <p:spPr>
          <a:xfrm>
            <a:off x="2244600" y="1701720"/>
            <a:ext cx="464688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2728d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42728d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) = 5 + cos(2</a:t>
            </a:r>
            <a:r>
              <a:rPr b="0" lang="en-US" sz="4000" spc="-1" strike="noStrike">
                <a:solidFill>
                  <a:srgbClr val="42728d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(12.5)</a:t>
            </a:r>
            <a:r>
              <a:rPr b="0" i="1" lang="en-US" sz="4000" spc="-1" strike="noStrike">
                <a:solidFill>
                  <a:srgbClr val="42728d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) +</a:t>
            </a: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sin(2</a:t>
            </a:r>
            <a:r>
              <a:rPr b="0" lang="en-US" sz="4000" spc="-1" strike="noStrike">
                <a:solidFill>
                  <a:srgbClr val="42728d"/>
                </a:solidFill>
                <a:latin typeface="Symbol"/>
                <a:ea typeface="Symbol"/>
              </a:rPr>
              <a:t>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(18.75)</a:t>
            </a:r>
            <a:r>
              <a:rPr b="0" i="1" lang="en-US" sz="4000" spc="-1" strike="noStrike">
                <a:solidFill>
                  <a:srgbClr val="42728d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42728d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7" name="Picture 4" descr="fig16-11Cropped"/>
          <p:cNvPicPr/>
          <p:nvPr/>
        </p:nvPicPr>
        <p:blipFill>
          <a:blip r:embed="rId1"/>
          <a:stretch/>
        </p:blipFill>
        <p:spPr>
          <a:xfrm>
            <a:off x="1104840" y="1206360"/>
            <a:ext cx="69264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wer Spectrum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09" name="Picture 4" descr="fig16-12Cropped"/>
          <p:cNvPicPr/>
          <p:nvPr/>
        </p:nvPicPr>
        <p:blipFill>
          <a:blip r:embed="rId1"/>
          <a:stretch/>
        </p:blipFill>
        <p:spPr>
          <a:xfrm>
            <a:off x="995400" y="1628640"/>
            <a:ext cx="71532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Wolf Sunspot Number Versus Year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11" name="Picture 4" descr="fig16-13Cropped"/>
          <p:cNvPicPr/>
          <p:nvPr/>
        </p:nvPicPr>
        <p:blipFill>
          <a:blip r:embed="rId1"/>
          <a:stretch/>
        </p:blipFill>
        <p:spPr>
          <a:xfrm>
            <a:off x="176040" y="1903320"/>
            <a:ext cx="878364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Power Spectrum for Sunspot Numbers</a:t>
            </a:r>
            <a:endParaRPr b="0" lang="en-US" sz="40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113" name="Picture 4" descr="fig16-14Cropped"/>
          <p:cNvPicPr/>
          <p:nvPr/>
        </p:nvPicPr>
        <p:blipFill>
          <a:blip r:embed="rId1"/>
          <a:stretch/>
        </p:blipFill>
        <p:spPr>
          <a:xfrm>
            <a:off x="771480" y="1738440"/>
            <a:ext cx="760104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ing sinusoids and how they can be used for curve fit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ing how to use least-squares regression to fit a sinusoid to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ing how to fit a Fourier series to a periodic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ing the relationship between sinusoids and complex exponentials based on Euler’s formu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gnizing the benefits of analyzing mathematical function or signals in the frequency domain (i.e., as a function of frequenc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ing how the Fourier integral and transform extend Fourier analysis to aperiodic fun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ing how the discrete Fourier transform (DFT) extends Fourier analysis to discrete sign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gnizing how discrete sampling affects the ability of the DFT to distinguish frequencies. In particular, know how to compute and interpret the Nyquist frequenc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gnizing how the fast Fourier transform (FFT) provides a highly efficient means to compute the DFT for cases where the data record length is a power of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ing how to use the MATLAB function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compute a DFT and understand how to interpret the resul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ing how to compute and interpret a power spectr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eriodic Functions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9376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iodic function is one for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572000" y="1841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093120" y="1754280"/>
            <a:ext cx="29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Fig1601new"/>
          <p:cNvPicPr/>
          <p:nvPr/>
        </p:nvPicPr>
        <p:blipFill>
          <a:blip r:embed="rId1"/>
          <a:stretch/>
        </p:blipFill>
        <p:spPr>
          <a:xfrm>
            <a:off x="2011320" y="2903400"/>
            <a:ext cx="5119560" cy="3905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228600" y="227952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64800"/>
            <a:ext cx="8991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inusoi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2092680" y="851040"/>
            <a:ext cx="4957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729440" y="1622520"/>
            <a:ext cx="162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897640" y="1841400"/>
            <a:ext cx="22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609440" y="1622520"/>
            <a:ext cx="2205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222960" y="1622520"/>
            <a:ext cx="17294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029040" y="1442520"/>
            <a:ext cx="39060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 flipV="1">
            <a:off x="4179960" y="1455480"/>
            <a:ext cx="2142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0"/>
          <p:cNvSpPr/>
          <p:nvPr/>
        </p:nvSpPr>
        <p:spPr>
          <a:xfrm flipH="1" flipV="1">
            <a:off x="5545080" y="1395360"/>
            <a:ext cx="1555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 flipH="1" flipV="1">
            <a:off x="6638400" y="1407600"/>
            <a:ext cx="24948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Fig1602a"/>
          <p:cNvPicPr/>
          <p:nvPr/>
        </p:nvPicPr>
        <p:blipFill>
          <a:blip r:embed="rId1"/>
          <a:stretch/>
        </p:blipFill>
        <p:spPr>
          <a:xfrm>
            <a:off x="1604880" y="2674800"/>
            <a:ext cx="5929560" cy="31896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8"/>
          <p:cNvGrpSpPr/>
          <p:nvPr/>
        </p:nvGrpSpPr>
        <p:grpSpPr>
          <a:xfrm>
            <a:off x="2923560" y="5754600"/>
            <a:ext cx="3276360" cy="1083240"/>
            <a:chOff x="2923560" y="5754600"/>
            <a:chExt cx="3276360" cy="1083240"/>
          </a:xfrm>
        </p:grpSpPr>
        <p:sp>
          <p:nvSpPr>
            <p:cNvPr id="68" name="Text Box 13"/>
            <p:cNvSpPr/>
            <p:nvPr/>
          </p:nvSpPr>
          <p:spPr>
            <a:xfrm>
              <a:off x="2923560" y="5997600"/>
              <a:ext cx="2659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f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4"/>
            <p:cNvSpPr/>
            <p:nvPr/>
          </p:nvSpPr>
          <p:spPr>
            <a:xfrm>
              <a:off x="4905000" y="5754600"/>
              <a:ext cx="129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5"/>
            <p:cNvSpPr/>
            <p:nvPr/>
          </p:nvSpPr>
          <p:spPr>
            <a:xfrm>
              <a:off x="4959360" y="6256440"/>
              <a:ext cx="1092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7"/>
            <p:cNvSpPr/>
            <p:nvPr/>
          </p:nvSpPr>
          <p:spPr>
            <a:xfrm>
              <a:off x="5311800" y="6321600"/>
              <a:ext cx="49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64800"/>
            <a:ext cx="89913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lternative Represent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64520" y="1066680"/>
            <a:ext cx="7015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4494240" y="5931000"/>
            <a:ext cx="4163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tan(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Fig1602b"/>
          <p:cNvPicPr/>
          <p:nvPr/>
        </p:nvPicPr>
        <p:blipFill>
          <a:blip r:embed="rId1"/>
          <a:stretch/>
        </p:blipFill>
        <p:spPr>
          <a:xfrm>
            <a:off x="2100240" y="2325600"/>
            <a:ext cx="4943520" cy="2648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1840" y="5045040"/>
            <a:ext cx="5278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forms are rel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3"/>
          <p:cNvGrpSpPr/>
          <p:nvPr/>
        </p:nvGrpSpPr>
        <p:grpSpPr>
          <a:xfrm>
            <a:off x="723960" y="5897520"/>
            <a:ext cx="3303720" cy="728280"/>
            <a:chOff x="723960" y="5897520"/>
            <a:chExt cx="3303720" cy="728280"/>
          </a:xfrm>
        </p:grpSpPr>
        <p:sp>
          <p:nvSpPr>
            <p:cNvPr id="78" name="Text Box 14"/>
            <p:cNvSpPr/>
            <p:nvPr/>
          </p:nvSpPr>
          <p:spPr>
            <a:xfrm>
              <a:off x="723960" y="5977080"/>
              <a:ext cx="1632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32"/>
            <p:cNvGrpSpPr/>
            <p:nvPr/>
          </p:nvGrpSpPr>
          <p:grpSpPr>
            <a:xfrm>
              <a:off x="2054160" y="5897520"/>
              <a:ext cx="1973520" cy="703800"/>
              <a:chOff x="2054160" y="5897520"/>
              <a:chExt cx="1973520" cy="703800"/>
            </a:xfrm>
          </p:grpSpPr>
          <p:sp>
            <p:nvSpPr>
              <p:cNvPr id="80" name="Freeform 25"/>
              <p:cNvSpPr/>
              <p:nvPr/>
            </p:nvSpPr>
            <p:spPr>
              <a:xfrm>
                <a:off x="2074680" y="5911560"/>
                <a:ext cx="1660680" cy="652680"/>
              </a:xfrm>
              <a:custGeom>
                <a:avLst/>
                <a:gdLst>
                  <a:gd name="textAreaLeft" fmla="*/ 0 w 1660680"/>
                  <a:gd name="textAreaRight" fmla="*/ 1661040 w 1660680"/>
                  <a:gd name="textAreaTop" fmla="*/ 0 h 652680"/>
                  <a:gd name="textAreaBottom" fmla="*/ 652680 h 652680"/>
                </a:gdLst>
                <a:ahLst/>
                <a:rect l="textAreaLeft" t="textAreaTop" r="textAreaRight" b="textAreaBottom"/>
                <a:pathLst>
                  <a:path w="1046" h="411">
                    <a:moveTo>
                      <a:pt x="0" y="274"/>
                    </a:moveTo>
                    <a:lnTo>
                      <a:pt x="38" y="246"/>
                    </a:lnTo>
                    <a:lnTo>
                      <a:pt x="95" y="373"/>
                    </a:lnTo>
                    <a:lnTo>
                      <a:pt x="161" y="0"/>
                    </a:lnTo>
                    <a:lnTo>
                      <a:pt x="1046" y="0"/>
                    </a:lnTo>
                    <a:lnTo>
                      <a:pt x="1046" y="14"/>
                    </a:lnTo>
                    <a:lnTo>
                      <a:pt x="171" y="14"/>
                    </a:lnTo>
                    <a:lnTo>
                      <a:pt x="105" y="411"/>
                    </a:lnTo>
                    <a:lnTo>
                      <a:pt x="90" y="411"/>
                    </a:lnTo>
                    <a:lnTo>
                      <a:pt x="24" y="269"/>
                    </a:lnTo>
                    <a:lnTo>
                      <a:pt x="10" y="283"/>
                    </a:lnTo>
                    <a:lnTo>
                      <a:pt x="0" y="2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Group 31"/>
              <p:cNvGrpSpPr/>
              <p:nvPr/>
            </p:nvGrpSpPr>
            <p:grpSpPr>
              <a:xfrm>
                <a:off x="2054160" y="5897520"/>
                <a:ext cx="1973520" cy="703800"/>
                <a:chOff x="2054160" y="5897520"/>
                <a:chExt cx="1973520" cy="703800"/>
              </a:xfrm>
            </p:grpSpPr>
            <p:sp>
              <p:nvSpPr>
                <p:cNvPr id="82" name="Rectangle 26"/>
                <p:cNvSpPr/>
                <p:nvPr/>
              </p:nvSpPr>
              <p:spPr>
                <a:xfrm>
                  <a:off x="2293200" y="5897520"/>
                  <a:ext cx="833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5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28"/>
                <p:cNvSpPr/>
                <p:nvPr/>
              </p:nvSpPr>
              <p:spPr>
                <a:xfrm>
                  <a:off x="2054160" y="6028920"/>
                  <a:ext cx="193680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343080" indent="-343080" algn="r">
                    <a:lnSpc>
                      <a:spcPct val="100000"/>
                    </a:lnSpc>
                    <a:spcBef>
                      <a:spcPts val="8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3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33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i="1" lang="en-US" sz="3300" spc="-1" strike="noStrike">
                      <a:solidFill>
                        <a:srgbClr val="000000"/>
                      </a:solidFill>
                      <a:latin typeface="Times New Roman"/>
                    </a:rPr>
                    <a:t> + B</a:t>
                  </a:r>
                  <a:r>
                    <a:rPr b="0" lang="en-US" sz="33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Rectangle 30"/>
                <p:cNvSpPr/>
                <p:nvPr/>
              </p:nvSpPr>
              <p:spPr>
                <a:xfrm>
                  <a:off x="3194640" y="5898600"/>
                  <a:ext cx="833040" cy="35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marL="343080" indent="-343080">
                    <a:lnSpc>
                      <a:spcPct val="100000"/>
                    </a:lnSpc>
                    <a:spcBef>
                      <a:spcPts val="5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3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" name="Freeform 35"/>
          <p:cNvSpPr/>
          <p:nvPr/>
        </p:nvSpPr>
        <p:spPr>
          <a:xfrm>
            <a:off x="2441520" y="2263680"/>
            <a:ext cx="3400560" cy="1287720"/>
          </a:xfrm>
          <a:custGeom>
            <a:avLst/>
            <a:gdLst>
              <a:gd name="textAreaLeft" fmla="*/ 0 w 3400560"/>
              <a:gd name="textAreaRight" fmla="*/ 3400920 w 3400560"/>
              <a:gd name="textAreaTop" fmla="*/ 0 h 1287720"/>
              <a:gd name="textAreaBottom" fmla="*/ 1287720 h 1287720"/>
            </a:gdLst>
            <a:ahLst/>
            <a:rect l="textAreaLeft" t="textAreaTop" r="textAreaRight" b="textAreaBottom"/>
            <a:pathLst>
              <a:path w="2142" h="811">
                <a:moveTo>
                  <a:pt x="0" y="261"/>
                </a:moveTo>
                <a:cubicBezTo>
                  <a:pt x="27" y="303"/>
                  <a:pt x="117" y="448"/>
                  <a:pt x="160" y="515"/>
                </a:cubicBezTo>
                <a:cubicBezTo>
                  <a:pt x="203" y="582"/>
                  <a:pt x="229" y="621"/>
                  <a:pt x="260" y="661"/>
                </a:cubicBezTo>
                <a:cubicBezTo>
                  <a:pt x="291" y="701"/>
                  <a:pt x="312" y="730"/>
                  <a:pt x="344" y="755"/>
                </a:cubicBezTo>
                <a:cubicBezTo>
                  <a:pt x="376" y="780"/>
                  <a:pt x="416" y="808"/>
                  <a:pt x="450" y="809"/>
                </a:cubicBezTo>
                <a:cubicBezTo>
                  <a:pt x="484" y="810"/>
                  <a:pt x="511" y="799"/>
                  <a:pt x="549" y="764"/>
                </a:cubicBezTo>
                <a:cubicBezTo>
                  <a:pt x="587" y="729"/>
                  <a:pt x="624" y="674"/>
                  <a:pt x="676" y="597"/>
                </a:cubicBezTo>
                <a:cubicBezTo>
                  <a:pt x="728" y="520"/>
                  <a:pt x="807" y="384"/>
                  <a:pt x="862" y="299"/>
                </a:cubicBezTo>
                <a:cubicBezTo>
                  <a:pt x="917" y="214"/>
                  <a:pt x="965" y="136"/>
                  <a:pt x="1008" y="87"/>
                </a:cubicBezTo>
                <a:cubicBezTo>
                  <a:pt x="1051" y="38"/>
                  <a:pt x="1079" y="0"/>
                  <a:pt x="1120" y="5"/>
                </a:cubicBezTo>
                <a:cubicBezTo>
                  <a:pt x="1161" y="10"/>
                  <a:pt x="1206" y="61"/>
                  <a:pt x="1254" y="119"/>
                </a:cubicBezTo>
                <a:cubicBezTo>
                  <a:pt x="1302" y="177"/>
                  <a:pt x="1362" y="280"/>
                  <a:pt x="1409" y="353"/>
                </a:cubicBezTo>
                <a:cubicBezTo>
                  <a:pt x="1456" y="426"/>
                  <a:pt x="1493" y="491"/>
                  <a:pt x="1538" y="557"/>
                </a:cubicBezTo>
                <a:cubicBezTo>
                  <a:pt x="1583" y="623"/>
                  <a:pt x="1641" y="709"/>
                  <a:pt x="1680" y="751"/>
                </a:cubicBezTo>
                <a:cubicBezTo>
                  <a:pt x="1719" y="793"/>
                  <a:pt x="1740" y="807"/>
                  <a:pt x="1772" y="809"/>
                </a:cubicBezTo>
                <a:cubicBezTo>
                  <a:pt x="1804" y="811"/>
                  <a:pt x="1838" y="794"/>
                  <a:pt x="1873" y="764"/>
                </a:cubicBezTo>
                <a:cubicBezTo>
                  <a:pt x="1908" y="734"/>
                  <a:pt x="1950" y="680"/>
                  <a:pt x="1985" y="629"/>
                </a:cubicBezTo>
                <a:cubicBezTo>
                  <a:pt x="2020" y="578"/>
                  <a:pt x="2057" y="504"/>
                  <a:pt x="2083" y="457"/>
                </a:cubicBezTo>
                <a:cubicBezTo>
                  <a:pt x="2109" y="410"/>
                  <a:pt x="2130" y="368"/>
                  <a:pt x="2142" y="345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0"/>
          <p:cNvGrpSpPr/>
          <p:nvPr/>
        </p:nvGrpSpPr>
        <p:grpSpPr>
          <a:xfrm>
            <a:off x="4643280" y="2043000"/>
            <a:ext cx="4538520" cy="638280"/>
            <a:chOff x="4643280" y="2043000"/>
            <a:chExt cx="4538520" cy="638280"/>
          </a:xfrm>
        </p:grpSpPr>
        <p:sp>
          <p:nvSpPr>
            <p:cNvPr id="87" name="Text Box 37"/>
            <p:cNvSpPr/>
            <p:nvPr/>
          </p:nvSpPr>
          <p:spPr>
            <a:xfrm>
              <a:off x="5526360" y="2043000"/>
              <a:ext cx="365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f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(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) = 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 + 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cos(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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) + 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A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Times New Roman"/>
                </a:rPr>
                <a:t>1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sin(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Symbol"/>
                  <a:ea typeface="Symbol"/>
                </a:rPr>
                <a:t></a:t>
              </a:r>
              <a:r>
                <a:rPr b="1" lang="en-US" sz="1600" spc="-1" strike="noStrike" baseline="-25000">
                  <a:solidFill>
                    <a:srgbClr val="cc0000"/>
                  </a:solidFill>
                  <a:latin typeface="Times New Roman"/>
                </a:rPr>
                <a:t>0</a:t>
              </a:r>
              <a:r>
                <a:rPr b="1" i="1" lang="en-US" sz="1600" spc="-1" strike="noStrike">
                  <a:solidFill>
                    <a:srgbClr val="cc0000"/>
                  </a:solidFill>
                  <a:latin typeface="Times New Roman"/>
                </a:rPr>
                <a:t>t</a:t>
              </a:r>
              <a:r>
                <a:rPr b="1" lang="en-US" sz="1600" spc="-1" strike="noStrike">
                  <a:solidFill>
                    <a:srgbClr val="cc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9"/>
            <p:cNvSpPr/>
            <p:nvPr/>
          </p:nvSpPr>
          <p:spPr>
            <a:xfrm flipH="1">
              <a:off x="4643280" y="2276640"/>
              <a:ext cx="1116000" cy="404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Using Sinusoids for Curve Fitting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frequently have occasions to estimate intermediate values between precise data po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you use to interpolate must pass through the actual data points - this makes interpolation more restrictive than fit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common method for this purpose is polynomial interpolation, where an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polynomial is solved that passes throug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2209680" y="5105520"/>
                <a:ext cx="4552920" cy="13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TLAB version: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ntinuous Fourier Series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93" name="Picture 7" descr="fig16-04Cropped"/>
          <p:cNvPicPr/>
          <p:nvPr/>
        </p:nvPicPr>
        <p:blipFill>
          <a:blip r:embed="rId1"/>
          <a:stretch/>
        </p:blipFill>
        <p:spPr>
          <a:xfrm>
            <a:off x="2616120" y="1239840"/>
            <a:ext cx="346716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uler's Formula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95" name="Picture 4" descr="fig16-05Cropped"/>
          <p:cNvPicPr/>
          <p:nvPr/>
        </p:nvPicPr>
        <p:blipFill>
          <a:blip r:embed="rId1"/>
          <a:stretch/>
        </p:blipFill>
        <p:spPr>
          <a:xfrm>
            <a:off x="2664000" y="2265480"/>
            <a:ext cx="380988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lorraine_buczek</cp:lastModifiedBy>
  <dcterms:modified xsi:type="dcterms:W3CDTF">2011-05-03T14:23:34Z</dcterms:modified>
  <cp:revision>40</cp:revision>
  <dc:subject/>
  <dc:title>Chapter 1</dc:title>
</cp:coreProperties>
</file>