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C642-FB86-4F17-8A96-44157E46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65F-6058-453A-A611-C0BE9551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8D92-B3EB-49B9-9441-202B72D9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3E24-AE3B-4F86-8CE3-8013601D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2A7-9B5C-4463-96A2-E88D75CB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575-899D-4304-BB37-384E72F4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1AB5-0FDA-4C55-8593-79AFFF28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CF1-A330-420D-BAF4-68262297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AAC-BF9B-4326-BAE2-3F5D1F40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913-1DD9-460F-A772-27E0ACF8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159-6E46-4161-8617-2AC7A5F6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2C8-2F26-4563-815F-A28E36C6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909F-7CC5-4E95-A2BE-E99872AC2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4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5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Lin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-Squares and Nonlinear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onlinear Regress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een in the previous chapter, not all fits are linear equations of coefficients and basis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ethod to handle this is to transform the variables and solve for the best fit of the transformed variables.  There are two problems with this metho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equations can be transformed easily or at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fit line represents the best fit for the transformed variables, not the origin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method is to perform nonlinear regression to directly determine the least-squares 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onlinear Regression in MATLAB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form nonlinear regression in MATLAB, write a function that returns the sum of the squares of the estimate residuals for a fit and then use MATLAB’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to find the values of the coefficients where a minimum oc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guments to the function to compu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be the coefficients, the independent variables, and the dependent vari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onlinear Regression in MATLAB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dependent force data F for independent velocity data v, determine the coefficients for the fi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- write a function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SSR.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aining the following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unction f = fSSR(a, xm, ym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p = a(1)*xm.^a(2)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 = sum((ym-yp).^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, use fminsearch in the command window to obtain the values of a that minimiz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SS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= fminsearch(@fSSR, [1, 1], [], v, F)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[1, 1] is an initial guess for the [a0, a1] vector, [] is a placeholder for the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962520" y="2209680"/>
                <a:ext cx="11523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v</m:t>
                        </m:r>
                      </m:e>
                      <m: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onlinear Regression Resul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ing coefficients will produce the large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the data and may be different from the coefficients produced by a trans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384720"/>
            <a:ext cx="58676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implement polynomial re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implement multiple linear re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formulation of the general linear least-squares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the general linear least-squares model can be solved with MATLAB using either the normal equations or left di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to implement nonlinear regression with optimization techniq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olynomial Regress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952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st-squares procedure from Chapter 13 can be readily extended to fit data to a higher-order polynomial.  Again, the idea is to minimize the sum of the squares of the estimate res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ure shows the same data fit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irst order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ond order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33800" y="1295280"/>
            <a:ext cx="4210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rocess and Measures of Fi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econd order polynomial, the best fit would mean minimizing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this would mean minimizing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error for fitting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polynomi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 points is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polynomial ha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) coeffici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 of determin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till found using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162160" y="1878120"/>
                <a:ext cx="44528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61960" y="3048120"/>
                <a:ext cx="58532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b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244680" y="4267080"/>
                <a:ext cx="2286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665520" y="5867280"/>
                <a:ext cx="144468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ultiple Linear Regression 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useful extension of linear regression is the case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linear function of two or more independent variabl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, the best fit is obtained by minimizing the sum of the squares of the estimate residu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85800" y="5181480"/>
                <a:ext cx="49528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La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903240" y="3300480"/>
                <a:ext cx="34401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29200" y="1424160"/>
            <a:ext cx="411480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eneral Linear Least Squar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, polynomial, and multiple linear regression all belong to the general linear least-squares model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 set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sis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error of the 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s functions can be any function data b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ain any of the coeffici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743200" y="2987640"/>
                <a:ext cx="40863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olving General Linear Least Squares Coefficien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quation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re-written for each data point as a matrix equation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contains the dependent data,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contains the coefficients of the equation, 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contains the error at each point, and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is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ing the the value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asis function calculated a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743200" y="1676520"/>
                <a:ext cx="408636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657600" y="2514600"/>
                <a:ext cx="22654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Z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971800" y="3657600"/>
                <a:ext cx="320184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</m:e>
                            <m:e>
                              <m:r>
                                <m:t xml:space="preserve">O</m:t>
                              </m:r>
                            </m:e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L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olving General Linear Least Squares Coefficien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is not a square matrix, so simple inversion cannot be used to solve for {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.  Instead the sum of the squares of the estimate residuals is minimized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utcome of this minimization yiel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200400" y="3448080"/>
                <a:ext cx="29671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j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370320" y="4952880"/>
                <a:ext cx="26258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ta in columns, solve for the coefficients of the best fit line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 = [ones(size(x) x x.^2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 = (Z’*Z)\(Z’*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also that MATLAB’s left-divide will automatically include the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ms if the matrix is not square, s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= Z\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work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lculate measures of fi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 = sum((y-mean(y)).^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r = sum((y-Z*a).^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2 = 1-Sr/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x = sqrt(Sr/(length(x)-length(a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09:15Z</dcterms:modified>
  <cp:revision>35</cp:revision>
  <dc:subject/>
  <dc:title>Chapter 1</dc:title>
</cp:coreProperties>
</file>