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0508-B372-4C9F-81FB-8C0AA7FB5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10D6-0395-4E4B-9B9A-75B5F125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4966-40E8-463E-BAB4-C53CE3E4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36D0-C1A0-416D-B11B-3C8522166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0A2D-9CAC-4E30-BF9D-FBE3C901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880E-26C4-465C-9D9E-FB83EEEE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D9E4-582C-4FEB-92F0-D2BD64B1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8669-538F-48E6-977A-87A5F4B0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1129-6533-4FCC-A0E3-DA072F51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4E34-3F1C-49A5-AAC9-945FD7DB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109C-7C01-49BC-99EE-61A2AB49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DBAA-9DB3-4E9D-BF8B-49A7DB30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CFA0-B07B-4283-AF65-1AE35789E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86200" y="1523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art 3</a:t>
            </a:r>
            <a:br>
              <a:rPr sz="4400"/>
            </a:b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13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9880" y="3200400"/>
            <a:ext cx="5181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gen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52280" y="62485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s organized by Prof. Steve Chapra, Tufts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118240" y="6629400"/>
            <a:ext cx="552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images 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384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69360" y="579600"/>
            <a:ext cx="222588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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02280" y="307800"/>
            <a:ext cx="3862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44040" y="960480"/>
            <a:ext cx="4122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9360" y="898560"/>
            <a:ext cx="566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70080" y="307800"/>
            <a:ext cx="152280" cy="1230480"/>
          </a:xfrm>
          <a:custGeom>
            <a:avLst/>
            <a:gdLst>
              <a:gd name="textAreaLeft" fmla="*/ 44640 w 152280"/>
              <a:gd name="textAreaRight" fmla="*/ 152640 w 152280"/>
              <a:gd name="textAreaTop" fmla="*/ 51120 h 1230480"/>
              <a:gd name="textAreaBottom" fmla="*/ 1179360 h 123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089160" y="304920"/>
            <a:ext cx="152640" cy="1230120"/>
          </a:xfrm>
          <a:custGeom>
            <a:avLst/>
            <a:gdLst>
              <a:gd name="textAreaLeft" fmla="*/ 45000 w 152640"/>
              <a:gd name="textAreaRight" fmla="*/ 153360 w 152640"/>
              <a:gd name="textAreaTop" fmla="*/ 51120 h 1230120"/>
              <a:gd name="textAreaBottom" fmla="*/ 1179000 h 12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44360" y="606600"/>
            <a:ext cx="148032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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24160" y="334800"/>
            <a:ext cx="182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50720" y="987480"/>
            <a:ext cx="41220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56400" y="925560"/>
            <a:ext cx="566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668680" y="1722600"/>
            <a:ext cx="5399280" cy="1285200"/>
            <a:chOff x="2668680" y="1722600"/>
            <a:chExt cx="5399280" cy="1285200"/>
          </a:xfrm>
        </p:grpSpPr>
        <p:sp>
          <p:nvSpPr>
            <p:cNvPr id="122" name=""/>
            <p:cNvSpPr/>
            <p:nvPr/>
          </p:nvSpPr>
          <p:spPr>
            <a:xfrm>
              <a:off x="5238720" y="2049120"/>
              <a:ext cx="2829240" cy="55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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   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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90080" y="1777680"/>
              <a:ext cx="3862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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31840" y="2430360"/>
              <a:ext cx="412200" cy="55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37160" y="2368440"/>
              <a:ext cx="56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57880" y="1777680"/>
              <a:ext cx="152280" cy="123012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51120 h 1230120"/>
                <a:gd name="textAreaBottom" fmla="*/ 1179000 h 123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6276240" y="1774800"/>
              <a:ext cx="152280" cy="1229760"/>
            </a:xfrm>
            <a:custGeom>
              <a:avLst/>
              <a:gdLst>
                <a:gd name="textAreaLeft" fmla="*/ 44280 w 152280"/>
                <a:gd name="textAreaRight" fmla="*/ 152280 w 152280"/>
                <a:gd name="textAreaTop" fmla="*/ 51120 h 1229760"/>
                <a:gd name="textAreaBottom" fmla="*/ 1178640 h 122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76160" y="1993680"/>
              <a:ext cx="715320" cy="55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6440" y="17226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63000" y="2374560"/>
              <a:ext cx="412200" cy="55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68680" y="2312640"/>
              <a:ext cx="56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815040" y="3200400"/>
            <a:ext cx="6092640" cy="5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40 kg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200 N/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14480" y="3886200"/>
            <a:ext cx="5229360" cy="12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0 –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             5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(10 –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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5249880"/>
            <a:ext cx="8686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s now a homogeneous system where the eigenvalue represents the square of the fundamental frequenc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2760" y="2630520"/>
            <a:ext cx="859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the determinant to yield a poly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76320" y="76320"/>
            <a:ext cx="899136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Solution: The Polynomial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92160" y="1219320"/>
            <a:ext cx="5213520" cy="12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 – 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   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–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      10 – 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 2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22960" y="1176480"/>
            <a:ext cx="761760" cy="1253880"/>
          </a:xfrm>
          <a:prstGeom prst="bracePair">
            <a:avLst>
              <a:gd name="adj" fmla="val 8333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13560" y="1179360"/>
            <a:ext cx="762120" cy="1254240"/>
          </a:xfrm>
          <a:prstGeom prst="bracePair">
            <a:avLst>
              <a:gd name="adj" fmla="val 8333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97400" y="1521000"/>
            <a:ext cx="258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08200" y="1193760"/>
            <a:ext cx="217440" cy="1225440"/>
          </a:xfrm>
          <a:custGeom>
            <a:avLst/>
            <a:gdLst/>
            <a:ahLst/>
            <a:rect l="l" t="t" r="r" b="b"/>
            <a:pathLst>
              <a:path w="130" h="816">
                <a:moveTo>
                  <a:pt x="126" y="0"/>
                </a:moveTo>
                <a:lnTo>
                  <a:pt x="0" y="0"/>
                </a:lnTo>
                <a:lnTo>
                  <a:pt x="2" y="816"/>
                </a:lnTo>
                <a:lnTo>
                  <a:pt x="130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889520" y="1189080"/>
            <a:ext cx="217440" cy="1225440"/>
          </a:xfrm>
          <a:custGeom>
            <a:avLst/>
            <a:gdLst/>
            <a:ahLst/>
            <a:rect l="l" t="t" r="r" b="b"/>
            <a:pathLst>
              <a:path w="130" h="816">
                <a:moveTo>
                  <a:pt x="126" y="0"/>
                </a:moveTo>
                <a:lnTo>
                  <a:pt x="0" y="0"/>
                </a:lnTo>
                <a:lnTo>
                  <a:pt x="2" y="816"/>
                </a:lnTo>
                <a:lnTo>
                  <a:pt x="130" y="8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884160" y="3332160"/>
            <a:ext cx="7463880" cy="1224000"/>
            <a:chOff x="884160" y="3332160"/>
            <a:chExt cx="7463880" cy="1224000"/>
          </a:xfrm>
        </p:grpSpPr>
        <p:sp>
          <p:nvSpPr>
            <p:cNvPr id="144" name=""/>
            <p:cNvSpPr/>
            <p:nvPr/>
          </p:nvSpPr>
          <p:spPr>
            <a:xfrm>
              <a:off x="4377240" y="3649680"/>
              <a:ext cx="39708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= (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Times New Roman"/>
                </a:rPr>
                <a:t> 2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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Times New Roman"/>
                </a:rPr>
                <a:t> 2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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47240" y="3354480"/>
              <a:ext cx="314352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10 –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Times New Roman"/>
                </a:rPr>
                <a:t> 2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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   –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5      10 –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Times New Roman"/>
                </a:rPr>
                <a:t> 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84160" y="3332160"/>
              <a:ext cx="0" cy="12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54480" y="3332160"/>
              <a:ext cx="0" cy="12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5600" y="4635360"/>
            <a:ext cx="87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wo roots of this "characteristic polynomial" are the system's eigen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4560" y="5996160"/>
            <a:ext cx="885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31880" y="5672160"/>
            <a:ext cx="457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19240" y="5877000"/>
            <a:ext cx="906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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70320" y="5846760"/>
            <a:ext cx="6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13200" y="5659560"/>
            <a:ext cx="1677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873 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36 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5520" y="0"/>
            <a:ext cx="88376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INTERPR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8640" y="920880"/>
            <a:ext cx="349596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5 /s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2.236 /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/2.236 = 2.81 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44120" y="2271600"/>
            <a:ext cx="40730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10 –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             5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–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+ (10 –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1200" y="3233880"/>
            <a:ext cx="39157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10 –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             5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–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+ (10 –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68480" y="4264200"/>
            <a:ext cx="24411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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5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13680" y="5235480"/>
            <a:ext cx="948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332360" y="5896080"/>
            <a:ext cx="1910520" cy="792360"/>
            <a:chOff x="1332360" y="5896080"/>
            <a:chExt cx="1910520" cy="792360"/>
          </a:xfrm>
        </p:grpSpPr>
        <p:sp>
          <p:nvSpPr>
            <p:cNvPr id="161" name=""/>
            <p:cNvSpPr/>
            <p:nvPr/>
          </p:nvSpPr>
          <p:spPr>
            <a:xfrm>
              <a:off x="1332360" y="6099120"/>
              <a:ext cx="5083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V =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68200" y="5896080"/>
              <a:ext cx="107964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0.707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0.707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84320" y="5935680"/>
              <a:ext cx="61920" cy="728640"/>
            </a:xfrm>
            <a:custGeom>
              <a:avLst/>
              <a:gdLst>
                <a:gd name="textAreaLeft" fmla="*/ 18000 w 61920"/>
                <a:gd name="textAreaRight" fmla="*/ 62280 w 61920"/>
                <a:gd name="textAreaTop" fmla="*/ 30240 h 728640"/>
                <a:gd name="textAreaBottom" fmla="*/ 698400 h 72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180960" y="5916600"/>
              <a:ext cx="61920" cy="728640"/>
            </a:xfrm>
            <a:custGeom>
              <a:avLst/>
              <a:gdLst>
                <a:gd name="textAreaLeft" fmla="*/ 18360 w 61920"/>
                <a:gd name="textAreaRight" fmla="*/ 62640 w 61920"/>
                <a:gd name="textAreaTop" fmla="*/ 30240 h 728640"/>
                <a:gd name="textAreaBottom" fmla="*/ 698400 h 72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4823640" y="3233880"/>
            <a:ext cx="40816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10 – 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             5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 –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+ (10 – 1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23280" y="4262400"/>
            <a:ext cx="22748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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5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61480" y="5207040"/>
            <a:ext cx="1197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 –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915520" y="5896080"/>
            <a:ext cx="1888560" cy="792360"/>
            <a:chOff x="5915520" y="5896080"/>
            <a:chExt cx="1888560" cy="792360"/>
          </a:xfrm>
        </p:grpSpPr>
        <p:sp>
          <p:nvSpPr>
            <p:cNvPr id="169" name=""/>
            <p:cNvSpPr/>
            <p:nvPr/>
          </p:nvSpPr>
          <p:spPr>
            <a:xfrm>
              <a:off x="5915520" y="6099480"/>
              <a:ext cx="5083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600" spc="-1" strike="noStrike">
                  <a:solidFill>
                    <a:srgbClr val="000000"/>
                  </a:solidFill>
                  <a:latin typeface="Times New Roman"/>
                </a:rPr>
                <a:t>V =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40200" y="5896080"/>
              <a:ext cx="107964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0.707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0.707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56320" y="5936040"/>
              <a:ext cx="61920" cy="728640"/>
            </a:xfrm>
            <a:custGeom>
              <a:avLst/>
              <a:gdLst>
                <a:gd name="textAreaLeft" fmla="*/ 18000 w 61920"/>
                <a:gd name="textAreaRight" fmla="*/ 62280 w 61920"/>
                <a:gd name="textAreaTop" fmla="*/ 30240 h 728640"/>
                <a:gd name="textAreaBottom" fmla="*/ 698400 h 72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7742160" y="5916960"/>
              <a:ext cx="61920" cy="728640"/>
            </a:xfrm>
            <a:custGeom>
              <a:avLst/>
              <a:gdLst>
                <a:gd name="textAreaLeft" fmla="*/ 18360 w 61920"/>
                <a:gd name="textAreaRight" fmla="*/ 62640 w 61920"/>
                <a:gd name="textAreaTop" fmla="*/ 30240 h 728640"/>
                <a:gd name="textAreaBottom" fmla="*/ 698400 h 72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5289480" y="923760"/>
            <a:ext cx="358776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15 /s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= 3.873 /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/3.373 = 1.62 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0560" y="3233880"/>
            <a:ext cx="0" cy="34909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rinciple Modes of Vibr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77480" y="1139760"/>
            <a:ext cx="8780760" cy="5575320"/>
            <a:chOff x="177480" y="1139760"/>
            <a:chExt cx="8780760" cy="557532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610920" y="1139760"/>
              <a:ext cx="7972560" cy="557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177480" y="3406680"/>
              <a:ext cx="1116360" cy="745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= 1.6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841880" y="5057640"/>
              <a:ext cx="1116360" cy="745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= 2.8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71440" y="903240"/>
            <a:ext cx="859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rative method to compute the largest eigenvalue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ts associated eigenve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76320" y="76320"/>
            <a:ext cx="899136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The Power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03560" y="1595520"/>
            <a:ext cx="2929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]]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92000" y="2203560"/>
            <a:ext cx="2152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]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7840" y="2657520"/>
            <a:ext cx="87804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Algorith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funct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eval, evect] = powereig(A,es,max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=length(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vect=ones(n,1);eval=1;iter=0;ea=100; %initi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valold=eval;           %save old eigenvalu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vect=A*evect;          %determine eigenvector as [A]*{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val=max(abs(evect));   %determine new eigen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vect=evect./eval;      %normalize eigenvector to eigen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ter=iter+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val~=0, ea = abs((eval-evalold)/eval)*100;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a&lt;=es | iter &gt;= maxit,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brea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74520" y="0"/>
            <a:ext cx="899172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Example: The Power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749600" y="1766880"/>
            <a:ext cx="5757480" cy="1311840"/>
            <a:chOff x="1749600" y="1766880"/>
            <a:chExt cx="5757480" cy="1311840"/>
          </a:xfrm>
        </p:grpSpPr>
        <p:sp>
          <p:nvSpPr>
            <p:cNvPr id="187" name=""/>
            <p:cNvSpPr/>
            <p:nvPr/>
          </p:nvSpPr>
          <p:spPr>
            <a:xfrm>
              <a:off x="1773360" y="1812960"/>
              <a:ext cx="1896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   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   40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   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49600" y="1766880"/>
              <a:ext cx="272880" cy="1282680"/>
            </a:xfrm>
            <a:custGeom>
              <a:avLst/>
              <a:gdLst/>
              <a:ahLst/>
              <a:rect l="l" t="t" r="r" b="b"/>
              <a:pathLst>
                <a:path w="172" h="808">
                  <a:moveTo>
                    <a:pt x="142" y="0"/>
                  </a:moveTo>
                  <a:lnTo>
                    <a:pt x="0" y="0"/>
                  </a:lnTo>
                  <a:lnTo>
                    <a:pt x="7" y="801"/>
                  </a:lnTo>
                  <a:lnTo>
                    <a:pt x="172" y="80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473640" y="1776240"/>
              <a:ext cx="272880" cy="1282680"/>
            </a:xfrm>
            <a:custGeom>
              <a:avLst/>
              <a:gdLst/>
              <a:ahLst/>
              <a:rect l="l" t="t" r="r" b="b"/>
              <a:pathLst>
                <a:path w="172" h="808">
                  <a:moveTo>
                    <a:pt x="142" y="0"/>
                  </a:moveTo>
                  <a:lnTo>
                    <a:pt x="0" y="0"/>
                  </a:lnTo>
                  <a:lnTo>
                    <a:pt x="7" y="801"/>
                  </a:lnTo>
                  <a:lnTo>
                    <a:pt x="172" y="80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49840" y="1790640"/>
              <a:ext cx="225360" cy="1279440"/>
            </a:xfrm>
            <a:custGeom>
              <a:avLst/>
              <a:gdLst>
                <a:gd name="textAreaLeft" fmla="*/ 144000 w 225360"/>
                <a:gd name="textAreaRight" fmla="*/ 225720 w 225360"/>
                <a:gd name="textAreaTop" fmla="*/ 33120 h 1279440"/>
                <a:gd name="textAreaBottom" fmla="*/ 1246320 h 127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23000" y="1887480"/>
              <a:ext cx="349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4327560" y="1790640"/>
              <a:ext cx="225360" cy="1279440"/>
            </a:xfrm>
            <a:custGeom>
              <a:avLst/>
              <a:gdLst>
                <a:gd name="textAreaLeft" fmla="*/ 144360 w 225360"/>
                <a:gd name="textAreaRight" fmla="*/ 226080 w 225360"/>
                <a:gd name="textAreaTop" fmla="*/ 33120 h 1279440"/>
                <a:gd name="textAreaBottom" fmla="*/ 1246320 h 127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587840" y="21668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29120" y="1790640"/>
              <a:ext cx="225360" cy="1279440"/>
            </a:xfrm>
            <a:custGeom>
              <a:avLst/>
              <a:gdLst>
                <a:gd name="textAreaLeft" fmla="*/ 144000 w 225360"/>
                <a:gd name="textAreaRight" fmla="*/ 225720 w 225360"/>
                <a:gd name="textAreaTop" fmla="*/ 33120 h 1279440"/>
                <a:gd name="textAreaBottom" fmla="*/ 1246320 h 127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03000" y="1887480"/>
              <a:ext cx="519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529240" y="1790640"/>
              <a:ext cx="225360" cy="1279440"/>
            </a:xfrm>
            <a:custGeom>
              <a:avLst/>
              <a:gdLst>
                <a:gd name="textAreaLeft" fmla="*/ 144360 w 225360"/>
                <a:gd name="textAreaRight" fmla="*/ 226080 w 225360"/>
                <a:gd name="textAreaTop" fmla="*/ 33120 h 1279440"/>
                <a:gd name="textAreaBottom" fmla="*/ 1246320 h 127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51440" y="216360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81960" y="1787400"/>
              <a:ext cx="225360" cy="1279440"/>
            </a:xfrm>
            <a:custGeom>
              <a:avLst/>
              <a:gdLst>
                <a:gd name="textAreaLeft" fmla="*/ 144000 w 225360"/>
                <a:gd name="textAreaRight" fmla="*/ 225720 w 225360"/>
                <a:gd name="textAreaTop" fmla="*/ 33120 h 1279440"/>
                <a:gd name="textAreaBottom" fmla="*/ 1246320 h 127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39360" y="1884240"/>
              <a:ext cx="349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7281000" y="1787400"/>
              <a:ext cx="225720" cy="1279440"/>
            </a:xfrm>
            <a:custGeom>
              <a:avLst/>
              <a:gdLst>
                <a:gd name="textAreaLeft" fmla="*/ 144360 w 225720"/>
                <a:gd name="textAreaRight" fmla="*/ 226080 w 225720"/>
                <a:gd name="textAreaTop" fmla="*/ 33120 h 1279440"/>
                <a:gd name="textAreaBottom" fmla="*/ 1246320 h 127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417600" y="1071720"/>
            <a:ext cx="254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ite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62200" y="4040280"/>
            <a:ext cx="189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  40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 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38440" y="3994200"/>
            <a:ext cx="272880" cy="1282680"/>
          </a:xfrm>
          <a:custGeom>
            <a:avLst/>
            <a:gdLst/>
            <a:ahLst/>
            <a:rect l="l" t="t" r="r" b="b"/>
            <a:pathLst>
              <a:path w="172" h="808">
                <a:moveTo>
                  <a:pt x="142" y="0"/>
                </a:moveTo>
                <a:lnTo>
                  <a:pt x="0" y="0"/>
                </a:lnTo>
                <a:lnTo>
                  <a:pt x="7" y="801"/>
                </a:lnTo>
                <a:lnTo>
                  <a:pt x="172" y="80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462480" y="4003560"/>
            <a:ext cx="272880" cy="1282680"/>
          </a:xfrm>
          <a:custGeom>
            <a:avLst/>
            <a:gdLst/>
            <a:ahLst/>
            <a:rect l="l" t="t" r="r" b="b"/>
            <a:pathLst>
              <a:path w="172" h="808">
                <a:moveTo>
                  <a:pt x="142" y="0"/>
                </a:moveTo>
                <a:lnTo>
                  <a:pt x="0" y="0"/>
                </a:lnTo>
                <a:lnTo>
                  <a:pt x="7" y="801"/>
                </a:lnTo>
                <a:lnTo>
                  <a:pt x="172" y="80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38680" y="4017960"/>
            <a:ext cx="225360" cy="1279440"/>
          </a:xfrm>
          <a:custGeom>
            <a:avLst/>
            <a:gdLst>
              <a:gd name="textAreaLeft" fmla="*/ 144000 w 225360"/>
              <a:gd name="textAreaRight" fmla="*/ 225720 w 225360"/>
              <a:gd name="textAreaTop" fmla="*/ 33120 h 1279440"/>
              <a:gd name="textAreaBottom" fmla="*/ 1246320 h 127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11840" y="4114800"/>
            <a:ext cx="34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316400" y="4017960"/>
            <a:ext cx="225360" cy="1279440"/>
          </a:xfrm>
          <a:custGeom>
            <a:avLst/>
            <a:gdLst>
              <a:gd name="textAreaLeft" fmla="*/ 144360 w 225360"/>
              <a:gd name="textAreaRight" fmla="*/ 226080 w 225360"/>
              <a:gd name="textAreaTop" fmla="*/ 33120 h 1279440"/>
              <a:gd name="textAreaBottom" fmla="*/ 1246320 h 127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6680" y="43941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17960" y="4017960"/>
            <a:ext cx="225720" cy="1279440"/>
          </a:xfrm>
          <a:custGeom>
            <a:avLst/>
            <a:gdLst>
              <a:gd name="textAreaLeft" fmla="*/ 144360 w 225720"/>
              <a:gd name="textAreaRight" fmla="*/ 226080 w 225720"/>
              <a:gd name="textAreaTop" fmla="*/ 33120 h 1279440"/>
              <a:gd name="textAreaBottom" fmla="*/ 1246320 h 127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74920" y="4114800"/>
            <a:ext cx="62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629320" y="4017960"/>
            <a:ext cx="225360" cy="1279440"/>
          </a:xfrm>
          <a:custGeom>
            <a:avLst/>
            <a:gdLst>
              <a:gd name="textAreaLeft" fmla="*/ 144360 w 225360"/>
              <a:gd name="textAreaRight" fmla="*/ 226080 w 225360"/>
              <a:gd name="textAreaTop" fmla="*/ 33120 h 1279440"/>
              <a:gd name="textAreaBottom" fmla="*/ 1246320 h 127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873760" y="43909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703920" y="4014720"/>
            <a:ext cx="225360" cy="1279440"/>
          </a:xfrm>
          <a:custGeom>
            <a:avLst/>
            <a:gdLst>
              <a:gd name="textAreaLeft" fmla="*/ 144000 w 225360"/>
              <a:gd name="textAreaRight" fmla="*/ 225720 w 225360"/>
              <a:gd name="textAreaTop" fmla="*/ 33120 h 1279440"/>
              <a:gd name="textAreaBottom" fmla="*/ 1246320 h 127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911280" y="4111560"/>
            <a:ext cx="45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7304040" y="4014720"/>
            <a:ext cx="225360" cy="1279440"/>
          </a:xfrm>
          <a:custGeom>
            <a:avLst/>
            <a:gdLst>
              <a:gd name="textAreaLeft" fmla="*/ 144360 w 225360"/>
              <a:gd name="textAreaRight" fmla="*/ 226080 w 225360"/>
              <a:gd name="textAreaTop" fmla="*/ 33120 h 1279440"/>
              <a:gd name="textAreaBottom" fmla="*/ 1246320 h 127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06440" y="3298680"/>
            <a:ext cx="32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ite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367720" y="5688000"/>
            <a:ext cx="4447800" cy="831960"/>
            <a:chOff x="2367720" y="5688000"/>
            <a:chExt cx="4447800" cy="831960"/>
          </a:xfrm>
        </p:grpSpPr>
        <p:sp>
          <p:nvSpPr>
            <p:cNvPr id="218" name=""/>
            <p:cNvSpPr/>
            <p:nvPr/>
          </p:nvSpPr>
          <p:spPr>
            <a:xfrm>
              <a:off x="2367720" y="5867640"/>
              <a:ext cx="90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|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3147120" y="5688000"/>
              <a:ext cx="1315080" cy="831960"/>
              <a:chOff x="3147120" y="5688000"/>
              <a:chExt cx="1315080" cy="831960"/>
            </a:xfrm>
          </p:grpSpPr>
          <p:sp>
            <p:nvSpPr>
              <p:cNvPr id="220" name=""/>
              <p:cNvSpPr/>
              <p:nvPr/>
            </p:nvSpPr>
            <p:spPr>
              <a:xfrm>
                <a:off x="3147120" y="5694480"/>
                <a:ext cx="12826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0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3303360" y="6115320"/>
                <a:ext cx="1090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225600" y="5688000"/>
                <a:ext cx="0" cy="733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462200" y="5688000"/>
                <a:ext cx="0" cy="733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484520" y="5888160"/>
              <a:ext cx="23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% = 50%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74520" y="0"/>
            <a:ext cx="899172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Example: The Power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7600" y="804960"/>
            <a:ext cx="254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ite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201040" y="2929680"/>
            <a:ext cx="4739400" cy="832320"/>
            <a:chOff x="2201040" y="2929680"/>
            <a:chExt cx="4739400" cy="832320"/>
          </a:xfrm>
        </p:grpSpPr>
        <p:sp>
          <p:nvSpPr>
            <p:cNvPr id="228" name=""/>
            <p:cNvSpPr/>
            <p:nvPr/>
          </p:nvSpPr>
          <p:spPr>
            <a:xfrm>
              <a:off x="2201040" y="3109680"/>
              <a:ext cx="90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|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30040" y="2936520"/>
              <a:ext cx="138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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3214440" y="3357360"/>
              <a:ext cx="1090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014640" y="2929680"/>
              <a:ext cx="0" cy="73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62480" y="2929680"/>
              <a:ext cx="0" cy="73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40240" y="313020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% = 150%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390680" y="1479600"/>
            <a:ext cx="189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  40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 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366920" y="1433520"/>
            <a:ext cx="272880" cy="1282680"/>
          </a:xfrm>
          <a:custGeom>
            <a:avLst/>
            <a:gdLst/>
            <a:ahLst/>
            <a:rect l="l" t="t" r="r" b="b"/>
            <a:pathLst>
              <a:path w="172" h="808">
                <a:moveTo>
                  <a:pt x="142" y="0"/>
                </a:moveTo>
                <a:lnTo>
                  <a:pt x="0" y="0"/>
                </a:lnTo>
                <a:lnTo>
                  <a:pt x="7" y="801"/>
                </a:lnTo>
                <a:lnTo>
                  <a:pt x="172" y="80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090960" y="1442880"/>
            <a:ext cx="272880" cy="1282680"/>
          </a:xfrm>
          <a:custGeom>
            <a:avLst/>
            <a:gdLst/>
            <a:ahLst/>
            <a:rect l="l" t="t" r="r" b="b"/>
            <a:pathLst>
              <a:path w="172" h="808">
                <a:moveTo>
                  <a:pt x="142" y="0"/>
                </a:moveTo>
                <a:lnTo>
                  <a:pt x="0" y="0"/>
                </a:lnTo>
                <a:lnTo>
                  <a:pt x="7" y="801"/>
                </a:lnTo>
                <a:lnTo>
                  <a:pt x="172" y="80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27200" y="18334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623200" y="1825560"/>
            <a:ext cx="88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566040" y="1454040"/>
            <a:ext cx="1214280" cy="1283400"/>
            <a:chOff x="6566040" y="1454040"/>
            <a:chExt cx="1214280" cy="1283400"/>
          </a:xfrm>
        </p:grpSpPr>
        <p:sp>
          <p:nvSpPr>
            <p:cNvPr id="240" name=""/>
            <p:cNvSpPr/>
            <p:nvPr/>
          </p:nvSpPr>
          <p:spPr>
            <a:xfrm>
              <a:off x="6566040" y="1454040"/>
              <a:ext cx="225360" cy="1279800"/>
            </a:xfrm>
            <a:custGeom>
              <a:avLst/>
              <a:gdLst>
                <a:gd name="textAreaLeft" fmla="*/ 144000 w 225360"/>
                <a:gd name="textAreaRight" fmla="*/ 225720 w 225360"/>
                <a:gd name="textAreaTop" fmla="*/ 33120 h 1279800"/>
                <a:gd name="textAreaBottom" fmla="*/ 1246680 h 127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63680" y="1546200"/>
              <a:ext cx="875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7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.7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7554960" y="1454040"/>
              <a:ext cx="225360" cy="1279800"/>
            </a:xfrm>
            <a:custGeom>
              <a:avLst/>
              <a:gdLst>
                <a:gd name="textAreaLeft" fmla="*/ 144360 w 225360"/>
                <a:gd name="textAreaRight" fmla="*/ 226080 w 225360"/>
                <a:gd name="textAreaTop" fmla="*/ 33120 h 1279800"/>
                <a:gd name="textAreaBottom" fmla="*/ 1246680 h 127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506760" y="1420920"/>
            <a:ext cx="825480" cy="1288080"/>
            <a:chOff x="3506760" y="1420920"/>
            <a:chExt cx="825480" cy="1288080"/>
          </a:xfrm>
        </p:grpSpPr>
        <p:sp>
          <p:nvSpPr>
            <p:cNvPr id="244" name=""/>
            <p:cNvSpPr/>
            <p:nvPr/>
          </p:nvSpPr>
          <p:spPr>
            <a:xfrm>
              <a:off x="3506760" y="1420920"/>
              <a:ext cx="225360" cy="1279440"/>
            </a:xfrm>
            <a:custGeom>
              <a:avLst/>
              <a:gdLst>
                <a:gd name="textAreaLeft" fmla="*/ 144000 w 225360"/>
                <a:gd name="textAreaRight" fmla="*/ 225720 w 225360"/>
                <a:gd name="textAreaTop" fmla="*/ 33120 h 1279440"/>
                <a:gd name="textAreaBottom" fmla="*/ 1246320 h 127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14120" y="1517760"/>
              <a:ext cx="452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4106880" y="1420920"/>
              <a:ext cx="225360" cy="1279440"/>
            </a:xfrm>
            <a:custGeom>
              <a:avLst/>
              <a:gdLst>
                <a:gd name="textAreaLeft" fmla="*/ 144360 w 225360"/>
                <a:gd name="textAreaRight" fmla="*/ 226080 w 225360"/>
                <a:gd name="textAreaTop" fmla="*/ 33120 h 1279440"/>
                <a:gd name="textAreaBottom" fmla="*/ 1246320 h 127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654440" y="1413000"/>
            <a:ext cx="936720" cy="1288080"/>
            <a:chOff x="4654440" y="1413000"/>
            <a:chExt cx="936720" cy="1288080"/>
          </a:xfrm>
        </p:grpSpPr>
        <p:sp>
          <p:nvSpPr>
            <p:cNvPr id="248" name=""/>
            <p:cNvSpPr/>
            <p:nvPr/>
          </p:nvSpPr>
          <p:spPr>
            <a:xfrm>
              <a:off x="4654440" y="1413000"/>
              <a:ext cx="225720" cy="1279440"/>
            </a:xfrm>
            <a:custGeom>
              <a:avLst/>
              <a:gdLst>
                <a:gd name="textAreaLeft" fmla="*/ 144360 w 225720"/>
                <a:gd name="textAreaRight" fmla="*/ 226080 w 225720"/>
                <a:gd name="textAreaTop" fmla="*/ 33120 h 1279440"/>
                <a:gd name="textAreaBottom" fmla="*/ 1246320 h 127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11400" y="1509840"/>
              <a:ext cx="621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5365800" y="1413000"/>
              <a:ext cx="225360" cy="1279440"/>
            </a:xfrm>
            <a:custGeom>
              <a:avLst/>
              <a:gdLst>
                <a:gd name="textAreaLeft" fmla="*/ 144360 w 225360"/>
                <a:gd name="textAreaRight" fmla="*/ 226080 w 225360"/>
                <a:gd name="textAreaTop" fmla="*/ 33120 h 1279440"/>
                <a:gd name="textAreaBottom" fmla="*/ 1246320 h 127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474840" y="3781440"/>
            <a:ext cx="31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ite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069280" y="5973120"/>
            <a:ext cx="4983840" cy="832320"/>
            <a:chOff x="2069280" y="5973120"/>
            <a:chExt cx="4983840" cy="832320"/>
          </a:xfrm>
        </p:grpSpPr>
        <p:sp>
          <p:nvSpPr>
            <p:cNvPr id="253" name=""/>
            <p:cNvSpPr/>
            <p:nvPr/>
          </p:nvSpPr>
          <p:spPr>
            <a:xfrm>
              <a:off x="2069280" y="6153120"/>
              <a:ext cx="909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|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943360" y="5979960"/>
              <a:ext cx="1605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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3043080" y="6423120"/>
              <a:ext cx="1447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82960" y="5973120"/>
              <a:ext cx="0" cy="73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64080" y="5973120"/>
              <a:ext cx="0" cy="73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52920" y="617364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% = 214%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914400" y="4522680"/>
            <a:ext cx="189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  40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 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90640" y="4476600"/>
            <a:ext cx="272880" cy="1282680"/>
          </a:xfrm>
          <a:custGeom>
            <a:avLst/>
            <a:gdLst/>
            <a:ahLst/>
            <a:rect l="l" t="t" r="r" b="b"/>
            <a:pathLst>
              <a:path w="172" h="808">
                <a:moveTo>
                  <a:pt x="142" y="0"/>
                </a:moveTo>
                <a:lnTo>
                  <a:pt x="0" y="0"/>
                </a:lnTo>
                <a:lnTo>
                  <a:pt x="7" y="801"/>
                </a:lnTo>
                <a:lnTo>
                  <a:pt x="172" y="80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614680" y="4486320"/>
            <a:ext cx="272880" cy="1282680"/>
          </a:xfrm>
          <a:custGeom>
            <a:avLst/>
            <a:gdLst/>
            <a:ahLst/>
            <a:rect l="l" t="t" r="r" b="b"/>
            <a:pathLst>
              <a:path w="172" h="808">
                <a:moveTo>
                  <a:pt x="142" y="0"/>
                </a:moveTo>
                <a:lnTo>
                  <a:pt x="0" y="0"/>
                </a:lnTo>
                <a:lnTo>
                  <a:pt x="7" y="801"/>
                </a:lnTo>
                <a:lnTo>
                  <a:pt x="172" y="80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73560" y="48769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537160" y="4873680"/>
            <a:ext cx="78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311880" y="4497480"/>
            <a:ext cx="225360" cy="1279440"/>
          </a:xfrm>
          <a:custGeom>
            <a:avLst/>
            <a:gdLst>
              <a:gd name="textAreaLeft" fmla="*/ 144000 w 225360"/>
              <a:gd name="textAreaRight" fmla="*/ 225720 w 225360"/>
              <a:gd name="textAreaTop" fmla="*/ 33120 h 1279440"/>
              <a:gd name="textAreaBottom" fmla="*/ 1246320 h 127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69560" y="4589640"/>
            <a:ext cx="138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14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14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7812000" y="4497480"/>
            <a:ext cx="225360" cy="1279440"/>
          </a:xfrm>
          <a:custGeom>
            <a:avLst/>
            <a:gdLst>
              <a:gd name="textAreaLeft" fmla="*/ 144360 w 225360"/>
              <a:gd name="textAreaRight" fmla="*/ 226080 w 225360"/>
              <a:gd name="textAreaTop" fmla="*/ 33120 h 1279440"/>
              <a:gd name="textAreaBottom" fmla="*/ 1246320 h 127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00440" y="4456080"/>
            <a:ext cx="225720" cy="1279440"/>
          </a:xfrm>
          <a:custGeom>
            <a:avLst/>
            <a:gdLst>
              <a:gd name="textAreaLeft" fmla="*/ 144360 w 225720"/>
              <a:gd name="textAreaRight" fmla="*/ 226080 w 225720"/>
              <a:gd name="textAreaTop" fmla="*/ 33120 h 1279440"/>
              <a:gd name="textAreaBottom" fmla="*/ 1246320 h 127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57400" y="4548240"/>
            <a:ext cx="62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311800" y="4456080"/>
            <a:ext cx="225360" cy="1279440"/>
          </a:xfrm>
          <a:custGeom>
            <a:avLst/>
            <a:gdLst>
              <a:gd name="textAreaLeft" fmla="*/ 144360 w 225360"/>
              <a:gd name="textAreaRight" fmla="*/ 226080 w 225360"/>
              <a:gd name="textAreaTop" fmla="*/ 33120 h 1279440"/>
              <a:gd name="textAreaBottom" fmla="*/ 1246320 h 127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967120" y="4489560"/>
            <a:ext cx="225360" cy="1279440"/>
          </a:xfrm>
          <a:custGeom>
            <a:avLst/>
            <a:gdLst>
              <a:gd name="textAreaLeft" fmla="*/ 144000 w 225360"/>
              <a:gd name="textAreaRight" fmla="*/ 225720 w 225360"/>
              <a:gd name="textAreaTop" fmla="*/ 33120 h 1279440"/>
              <a:gd name="textAreaBottom" fmla="*/ 1246320 h 127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164760" y="4581360"/>
            <a:ext cx="87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3956040" y="4489560"/>
            <a:ext cx="225360" cy="1279440"/>
          </a:xfrm>
          <a:custGeom>
            <a:avLst/>
            <a:gdLst>
              <a:gd name="textAreaLeft" fmla="*/ 144360 w 225360"/>
              <a:gd name="textAreaRight" fmla="*/ 226080 w 225360"/>
              <a:gd name="textAreaTop" fmla="*/ 33120 h 1279440"/>
              <a:gd name="textAreaBottom" fmla="*/ 1246320 h 127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74520" y="0"/>
            <a:ext cx="899172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Example: The Power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17600" y="801720"/>
            <a:ext cx="25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it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987920" y="2924280"/>
            <a:ext cx="5123160" cy="766800"/>
            <a:chOff x="1987920" y="2924280"/>
            <a:chExt cx="5123160" cy="766800"/>
          </a:xfrm>
        </p:grpSpPr>
        <p:sp>
          <p:nvSpPr>
            <p:cNvPr id="276" name=""/>
            <p:cNvSpPr/>
            <p:nvPr/>
          </p:nvSpPr>
          <p:spPr>
            <a:xfrm>
              <a:off x="1987920" y="3105000"/>
              <a:ext cx="992880" cy="49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|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Arial Unicode MS"/>
                </a:rPr>
                <a:t>a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| =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16720" y="2987280"/>
              <a:ext cx="1847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68.51714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 7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flipV="1">
              <a:off x="3025800" y="3347640"/>
              <a:ext cx="175248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87560" y="2924280"/>
              <a:ext cx="0" cy="73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913280" y="2924280"/>
              <a:ext cx="0" cy="732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949280" y="3180960"/>
              <a:ext cx="21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100% = 2.08%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31640" y="1465200"/>
            <a:ext cx="8273880" cy="1293840"/>
            <a:chOff x="431640" y="1465200"/>
            <a:chExt cx="8273880" cy="1293840"/>
          </a:xfrm>
        </p:grpSpPr>
        <p:sp>
          <p:nvSpPr>
            <p:cNvPr id="283" name=""/>
            <p:cNvSpPr/>
            <p:nvPr/>
          </p:nvSpPr>
          <p:spPr>
            <a:xfrm>
              <a:off x="511200" y="1562040"/>
              <a:ext cx="1605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0 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    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   40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   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1640" y="1467000"/>
              <a:ext cx="272880" cy="1282680"/>
            </a:xfrm>
            <a:custGeom>
              <a:avLst/>
              <a:gdLst/>
              <a:ahLst/>
              <a:rect l="l" t="t" r="r" b="b"/>
              <a:pathLst>
                <a:path w="172" h="808">
                  <a:moveTo>
                    <a:pt x="142" y="0"/>
                  </a:moveTo>
                  <a:lnTo>
                    <a:pt x="0" y="0"/>
                  </a:lnTo>
                  <a:lnTo>
                    <a:pt x="7" y="801"/>
                  </a:lnTo>
                  <a:lnTo>
                    <a:pt x="172" y="80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977840" y="1476360"/>
              <a:ext cx="272880" cy="1282680"/>
            </a:xfrm>
            <a:custGeom>
              <a:avLst/>
              <a:gdLst/>
              <a:ahLst/>
              <a:rect l="l" t="t" r="r" b="b"/>
              <a:pathLst>
                <a:path w="172" h="808">
                  <a:moveTo>
                    <a:pt x="142" y="0"/>
                  </a:moveTo>
                  <a:lnTo>
                    <a:pt x="0" y="0"/>
                  </a:lnTo>
                  <a:lnTo>
                    <a:pt x="7" y="801"/>
                  </a:lnTo>
                  <a:lnTo>
                    <a:pt x="172" y="80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19960" y="191448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65040" y="1944720"/>
              <a:ext cx="146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68.5171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13320" y="1465200"/>
              <a:ext cx="225360" cy="1279800"/>
            </a:xfrm>
            <a:custGeom>
              <a:avLst/>
              <a:gdLst>
                <a:gd name="textAreaLeft" fmla="*/ 144000 w 225360"/>
                <a:gd name="textAreaRight" fmla="*/ 225720 w 225360"/>
                <a:gd name="textAreaTop" fmla="*/ 33120 h 1279800"/>
                <a:gd name="textAreaBottom" fmla="*/ 1246680 h 127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353360" y="1662120"/>
              <a:ext cx="1186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7142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7142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8480160" y="1476360"/>
              <a:ext cx="225360" cy="1279800"/>
            </a:xfrm>
            <a:custGeom>
              <a:avLst/>
              <a:gdLst>
                <a:gd name="textAreaLeft" fmla="*/ 144360 w 225360"/>
                <a:gd name="textAreaRight" fmla="*/ 226080 w 225360"/>
                <a:gd name="textAreaTop" fmla="*/ 33120 h 1279800"/>
                <a:gd name="textAreaBottom" fmla="*/ 1246680 h 127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11560" y="1468440"/>
              <a:ext cx="225360" cy="1279800"/>
            </a:xfrm>
            <a:custGeom>
              <a:avLst/>
              <a:gdLst>
                <a:gd name="textAreaLeft" fmla="*/ 144000 w 225360"/>
                <a:gd name="textAreaRight" fmla="*/ 225720 w 225360"/>
                <a:gd name="textAreaTop" fmla="*/ 33120 h 1279800"/>
                <a:gd name="textAreaBottom" fmla="*/ 1246680 h 127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254480" y="1587600"/>
              <a:ext cx="1328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8.5171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68.5171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8.5171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5522760" y="1479600"/>
              <a:ext cx="225360" cy="1279440"/>
            </a:xfrm>
            <a:custGeom>
              <a:avLst/>
              <a:gdLst>
                <a:gd name="textAreaLeft" fmla="*/ 144360 w 225360"/>
                <a:gd name="textAreaRight" fmla="*/ 226080 w 225360"/>
                <a:gd name="textAreaTop" fmla="*/ 33120 h 1279440"/>
                <a:gd name="textAreaBottom" fmla="*/ 1246320 h 127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92120" y="1476360"/>
              <a:ext cx="225360" cy="1279800"/>
            </a:xfrm>
            <a:custGeom>
              <a:avLst/>
              <a:gdLst>
                <a:gd name="textAreaLeft" fmla="*/ 144000 w 225360"/>
                <a:gd name="textAreaRight" fmla="*/ 225720 w 225360"/>
                <a:gd name="textAreaTop" fmla="*/ 33120 h 1279800"/>
                <a:gd name="textAreaBottom" fmla="*/ 1246680 h 127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471760" y="1617840"/>
              <a:ext cx="1186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7142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7142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3639960" y="1476360"/>
              <a:ext cx="225360" cy="1279800"/>
            </a:xfrm>
            <a:custGeom>
              <a:avLst/>
              <a:gdLst>
                <a:gd name="textAreaLeft" fmla="*/ 144360 w 225360"/>
                <a:gd name="textAreaRight" fmla="*/ 226080 w 225360"/>
                <a:gd name="textAreaTop" fmla="*/ 33120 h 1279800"/>
                <a:gd name="textAreaBottom" fmla="*/ 1246680 h 127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69000" y="5346720"/>
            <a:ext cx="839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the smallest eigenvalue and its associ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genvector can be determined by applying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method to the inverse of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304920" y="5273280"/>
            <a:ext cx="8448480" cy="126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" y="3870360"/>
            <a:ext cx="81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 can be continued to determine the lar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envalue (= 68.284) with the associated eigen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071  1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07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49400" y="282600"/>
            <a:ext cx="88372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Determining Eigenvalues &amp; Eigenvectors with MAT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634480" y="1755720"/>
            <a:ext cx="38689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Lucida Console"/>
              </a:rPr>
              <a:t>&gt;&gt; A = [10 -5;-5 10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Lucida Console"/>
              </a:rPr>
              <a:t>A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Lucida Console"/>
              </a:rPr>
              <a:t>10    -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Lucida Console"/>
              </a:rPr>
              <a:t>-5    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Lucida Console"/>
              </a:rPr>
              <a:t>&gt;&gt; [v,lambda] = eig(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Lucida Console"/>
              </a:rPr>
              <a:t>v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pt-BR" sz="2200" spc="-1" strike="noStrike">
                <a:solidFill>
                  <a:srgbClr val="000000"/>
                </a:solidFill>
                <a:latin typeface="Lucida Console"/>
              </a:rPr>
              <a:t>-0.7071   -0.707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pt-BR" sz="2200" spc="-1" strike="noStrike">
                <a:solidFill>
                  <a:srgbClr val="000000"/>
                </a:solidFill>
                <a:latin typeface="Lucida Console"/>
              </a:rPr>
              <a:t>-0.7071    0.707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Lucida Console"/>
              </a:rPr>
              <a:t>lambda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0" lang="pt-BR" sz="2200" spc="-1" strike="noStrike">
                <a:solidFill>
                  <a:srgbClr val="000000"/>
                </a:solidFill>
                <a:latin typeface="Lucida Console"/>
              </a:rPr>
              <a:t>5    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Lucida Console"/>
              </a:rPr>
              <a:t>     </a:t>
            </a:r>
            <a:r>
              <a:rPr b="0" lang="pt-BR" sz="2200" spc="-1" strike="noStrike">
                <a:solidFill>
                  <a:srgbClr val="000000"/>
                </a:solidFill>
                <a:latin typeface="Lucida Console"/>
              </a:rPr>
              <a:t>0    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1000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3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3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Dynamics of Three Story Building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614600" y="1523880"/>
            <a:ext cx="59148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the mathematical definition of eigenvalues and eigenve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the physical interpretation of eigenvalues and eigenvectors within the context of engineering systems that vibrate or oscil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how to implement the polynomial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how to implement the power method to evaluate the largest and smallest eigenvalues and their respective eigenve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how to use and interpret MATLAB’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i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rinciple Modes of Vibr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987480" y="1447920"/>
            <a:ext cx="7167600" cy="49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728d"/>
                </a:solidFill>
                <a:latin typeface="Arial"/>
              </a:rPr>
              <a:t>Dynamics of Three Coupled Bungee Jumpers in Time</a:t>
            </a:r>
            <a:endParaRPr b="0" lang="en-US" sz="40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08120" y="1382760"/>
            <a:ext cx="5923080" cy="4413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44800" y="6005520"/>
            <a:ext cx="689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there an underlying pattern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hematic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11760" y="1828800"/>
            <a:ext cx="3118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45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] {</a:t>
            </a:r>
            <a:r>
              <a:rPr b="0" i="1" lang="en-US" sz="4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} = {</a:t>
            </a:r>
            <a:r>
              <a:rPr b="0" i="1" lang="en-US" sz="45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86080" y="3429000"/>
            <a:ext cx="25700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45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] {</a:t>
            </a:r>
            <a:r>
              <a:rPr b="0" i="1" lang="en-US" sz="4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} = 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6520" y="1143000"/>
            <a:ext cx="70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 until now, heterogeneous sys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1840" y="2697120"/>
            <a:ext cx="66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homogeneous syst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1600" y="4267080"/>
            <a:ext cx="288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vial 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22760" y="4800600"/>
            <a:ext cx="169704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i="1" lang="en-US" sz="45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} = 0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5720" y="5715000"/>
            <a:ext cx="851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re another way of formulating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at the solution would be meaningful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hematic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9600" y="1752480"/>
            <a:ext cx="7805160" cy="19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+         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+         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+ (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+         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+         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+ (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33440" y="4114800"/>
            <a:ext cx="4793760" cy="929880"/>
            <a:chOff x="2233440" y="4114800"/>
            <a:chExt cx="4793760" cy="929880"/>
          </a:xfrm>
        </p:grpSpPr>
        <p:sp>
          <p:nvSpPr>
            <p:cNvPr id="62" name=""/>
            <p:cNvSpPr/>
            <p:nvPr/>
          </p:nvSpPr>
          <p:spPr>
            <a:xfrm>
              <a:off x="2340000" y="4257720"/>
              <a:ext cx="468720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000000"/>
                  </a:solidFill>
                  <a:latin typeface="Times New Roman"/>
                </a:rPr>
                <a:t>[</a:t>
              </a:r>
              <a:r>
                <a:rPr b="0" i="1" lang="en-US" sz="45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4500" spc="-1" strike="noStrike">
                  <a:solidFill>
                    <a:srgbClr val="000000"/>
                  </a:solidFill>
                  <a:latin typeface="Times New Roman"/>
                </a:rPr>
                <a:t>] – </a:t>
              </a:r>
              <a:r>
                <a:rPr b="0" i="1" lang="en-US" sz="4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</a:t>
              </a:r>
              <a:r>
                <a:rPr b="0" lang="en-US" sz="4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</a:t>
              </a:r>
              <a:r>
                <a:rPr b="0" i="1" lang="en-US" sz="4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</a:t>
              </a:r>
              <a:r>
                <a:rPr b="0" lang="en-US" sz="4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</a:t>
              </a:r>
              <a:r>
                <a:rPr b="0" i="1" lang="en-US" sz="4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45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r>
                <a:rPr b="0" i="1" lang="en-US" sz="45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4500" spc="-1" strike="noStrike">
                  <a:solidFill>
                    <a:srgbClr val="000000"/>
                  </a:solidFill>
                  <a:latin typeface="Times New Roman"/>
                </a:rPr>
                <a:t>} = 0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33440" y="4114800"/>
              <a:ext cx="303192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100" spc="-1" strike="noStrike">
                  <a:solidFill>
                    <a:srgbClr val="000000"/>
                  </a:solidFill>
                  <a:latin typeface="Times New Roman"/>
                </a:rPr>
                <a:t>[             ]</a:t>
              </a:r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03120" y="1066680"/>
            <a:ext cx="751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a homogeneous system li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365760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in matrix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9760" y="5257800"/>
            <a:ext cx="8510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is case, there could be a value o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the equations equal zero. This is 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igen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Graphical Depiction of Eigenvalu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839440" cy="44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728d"/>
                </a:solidFill>
                <a:latin typeface="Arial"/>
              </a:rPr>
              <a:t>Physical Background:</a:t>
            </a:r>
            <a:br>
              <a:rPr sz="4000"/>
            </a:br>
            <a:r>
              <a:rPr b="0" lang="en-US" sz="4000" spc="-1" strike="noStrike">
                <a:solidFill>
                  <a:srgbClr val="42728d"/>
                </a:solidFill>
                <a:latin typeface="Arial"/>
              </a:rPr>
              <a:t>Oscillations or </a:t>
            </a:r>
            <a:r>
              <a:rPr b="1" i="1" lang="en-US" sz="4000" spc="-1" strike="noStrike">
                <a:solidFill>
                  <a:srgbClr val="42728d"/>
                </a:solidFill>
                <a:latin typeface="Arial"/>
              </a:rPr>
              <a:t>Vibrations</a:t>
            </a:r>
            <a:r>
              <a:rPr b="0" lang="en-US" sz="4000" spc="-1" strike="noStrike">
                <a:solidFill>
                  <a:srgbClr val="42728d"/>
                </a:solidFill>
                <a:latin typeface="Arial"/>
              </a:rPr>
              <a:t> of Mass-Spring Systems</a:t>
            </a:r>
            <a:endParaRPr b="0" lang="en-US" sz="40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8880" y="2219400"/>
            <a:ext cx="76262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2343960" y="2655720"/>
            <a:ext cx="4377600" cy="979560"/>
            <a:chOff x="2343960" y="2655720"/>
            <a:chExt cx="4377600" cy="979560"/>
          </a:xfrm>
        </p:grpSpPr>
        <p:sp>
          <p:nvSpPr>
            <p:cNvPr id="72" name=""/>
            <p:cNvSpPr/>
            <p:nvPr/>
          </p:nvSpPr>
          <p:spPr>
            <a:xfrm>
              <a:off x="2884320" y="3166920"/>
              <a:ext cx="741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43960" y="2976480"/>
              <a:ext cx="3603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960640" y="2655720"/>
              <a:ext cx="59508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22200" y="3208320"/>
              <a:ext cx="4701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t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94200" y="2990880"/>
              <a:ext cx="27273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= – 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– 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–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k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286720" y="1606680"/>
            <a:ext cx="4488120" cy="979200"/>
            <a:chOff x="2286720" y="1606680"/>
            <a:chExt cx="4488120" cy="979200"/>
          </a:xfrm>
        </p:grpSpPr>
        <p:sp>
          <p:nvSpPr>
            <p:cNvPr id="78" name=""/>
            <p:cNvSpPr/>
            <p:nvPr/>
          </p:nvSpPr>
          <p:spPr>
            <a:xfrm>
              <a:off x="2827440" y="2117520"/>
              <a:ext cx="74124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86720" y="1927080"/>
              <a:ext cx="3603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903760" y="1606680"/>
              <a:ext cx="59508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965320" y="2158920"/>
              <a:ext cx="4701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t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37680" y="1941480"/>
              <a:ext cx="283716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= – k 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– 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580480" y="5802480"/>
            <a:ext cx="3971880" cy="979200"/>
            <a:chOff x="2580480" y="5802480"/>
            <a:chExt cx="3971880" cy="979200"/>
          </a:xfrm>
        </p:grpSpPr>
        <p:grpSp>
          <p:nvGrpSpPr>
            <p:cNvPr id="84" name=""/>
            <p:cNvGrpSpPr/>
            <p:nvPr/>
          </p:nvGrpSpPr>
          <p:grpSpPr>
            <a:xfrm>
              <a:off x="2580480" y="5802480"/>
              <a:ext cx="1281960" cy="979200"/>
              <a:chOff x="2580480" y="5802480"/>
              <a:chExt cx="1281960" cy="979200"/>
            </a:xfrm>
          </p:grpSpPr>
          <p:sp>
            <p:nvSpPr>
              <p:cNvPr id="85" name=""/>
              <p:cNvSpPr/>
              <p:nvPr/>
            </p:nvSpPr>
            <p:spPr>
              <a:xfrm>
                <a:off x="3121200" y="6313680"/>
                <a:ext cx="74124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580480" y="6122880"/>
                <a:ext cx="360360" cy="4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197160" y="5802480"/>
                <a:ext cx="595080" cy="4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 2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259080" y="6354720"/>
                <a:ext cx="4701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t 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4015440" y="6080040"/>
              <a:ext cx="253692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k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 –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0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427840" y="4737240"/>
            <a:ext cx="4173840" cy="979200"/>
            <a:chOff x="2427840" y="4737240"/>
            <a:chExt cx="4173840" cy="979200"/>
          </a:xfrm>
        </p:grpSpPr>
        <p:grpSp>
          <p:nvGrpSpPr>
            <p:cNvPr id="91" name=""/>
            <p:cNvGrpSpPr/>
            <p:nvPr/>
          </p:nvGrpSpPr>
          <p:grpSpPr>
            <a:xfrm>
              <a:off x="2427840" y="4737240"/>
              <a:ext cx="1281960" cy="979200"/>
              <a:chOff x="2427840" y="4737240"/>
              <a:chExt cx="1281960" cy="979200"/>
            </a:xfrm>
          </p:grpSpPr>
          <p:sp>
            <p:nvSpPr>
              <p:cNvPr id="92" name=""/>
              <p:cNvSpPr/>
              <p:nvPr/>
            </p:nvSpPr>
            <p:spPr>
              <a:xfrm>
                <a:off x="2968560" y="5248440"/>
                <a:ext cx="741240" cy="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427840" y="5057640"/>
                <a:ext cx="360360" cy="4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044880" y="4737240"/>
                <a:ext cx="595080" cy="48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 2</a:t>
                </a: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106440" y="5289480"/>
                <a:ext cx="47016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t </a:t>
                </a:r>
                <a:r>
                  <a:rPr b="0" lang="en-US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3864960" y="5010120"/>
              <a:ext cx="273672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k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+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= 0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79440" y="3944880"/>
            <a:ext cx="839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76320" y="76320"/>
            <a:ext cx="8991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728d"/>
                </a:solidFill>
                <a:latin typeface="Arial"/>
              </a:rPr>
              <a:t>Model With Force Balances</a:t>
            </a:r>
            <a:br>
              <a:rPr sz="4000"/>
            </a:br>
            <a:r>
              <a:rPr b="0" lang="en-US" sz="4000" spc="-1" strike="noStrike">
                <a:solidFill>
                  <a:srgbClr val="42728d"/>
                </a:solidFill>
                <a:latin typeface="Arial"/>
              </a:rPr>
              <a:t>(AKA: </a:t>
            </a:r>
            <a:r>
              <a:rPr b="0" i="1" lang="en-US" sz="4400" spc="-1" strike="noStrike">
                <a:solidFill>
                  <a:srgbClr val="42728d"/>
                </a:solidFill>
                <a:latin typeface="Times New Roman"/>
              </a:rPr>
              <a:t>F = ma</a:t>
            </a:r>
            <a:r>
              <a:rPr b="0" lang="en-US" sz="4000" spc="-1" strike="noStrike">
                <a:solidFill>
                  <a:srgbClr val="42728d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999000" y="1549440"/>
            <a:ext cx="7075800" cy="1901520"/>
            <a:chOff x="999000" y="1549440"/>
            <a:chExt cx="7075800" cy="1901520"/>
          </a:xfrm>
        </p:grpSpPr>
        <p:sp>
          <p:nvSpPr>
            <p:cNvPr id="100" name=""/>
            <p:cNvSpPr/>
            <p:nvPr/>
          </p:nvSpPr>
          <p:spPr>
            <a:xfrm>
              <a:off x="999000" y="1854360"/>
              <a:ext cx="2850120" cy="6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sin (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</a:t>
              </a: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568760" y="1549440"/>
              <a:ext cx="3506040" cy="1901520"/>
              <a:chOff x="4568760" y="1549440"/>
              <a:chExt cx="3506040" cy="1901520"/>
            </a:xfrm>
          </p:grpSpPr>
          <p:sp>
            <p:nvSpPr>
              <p:cNvPr id="102" name=""/>
              <p:cNvSpPr/>
              <p:nvPr/>
            </p:nvSpPr>
            <p:spPr>
              <a:xfrm>
                <a:off x="4568760" y="1870200"/>
                <a:ext cx="157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wher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494760" y="1820880"/>
                <a:ext cx="906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</a:t>
                </a: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537680" y="1549440"/>
                <a:ext cx="48096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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577640" y="2202120"/>
                <a:ext cx="387720" cy="124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i="1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508520" y="2140200"/>
                <a:ext cx="56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"/>
          <p:cNvSpPr/>
          <p:nvPr/>
        </p:nvSpPr>
        <p:spPr>
          <a:xfrm>
            <a:off x="428760" y="3156120"/>
            <a:ext cx="839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ferentiate twic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48240" y="4187880"/>
            <a:ext cx="403020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–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sin (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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8760" y="5351400"/>
            <a:ext cx="839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bstitute back into system and collect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76320" y="76320"/>
            <a:ext cx="8991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Assume a Sinusoidal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7:37:24Z</dcterms:created>
  <dc:creator>Duke University</dc:creator>
  <dc:description/>
  <dc:language>en-US</dc:language>
  <cp:lastModifiedBy>schapr01</cp:lastModifiedBy>
  <dcterms:modified xsi:type="dcterms:W3CDTF">2011-04-13T14:48:32Z</dcterms:modified>
  <cp:revision>45</cp:revision>
  <dc:subject/>
  <dc:title>Chapter 1</dc:title>
</cp:coreProperties>
</file>