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578-7C89-465A-8E75-6CF5047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EBC0-A18C-434F-A21F-99D935B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CF6-8436-40B8-B391-A13751AD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D6D-B9E4-4D57-B843-71EE7908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392-CB85-4021-86E4-688CFFB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D57-0260-4CB4-B107-A994F31D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261-B9ED-4A3D-9DCB-762120F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9384-82D5-4B74-8A8E-950C2DB3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2BB-3A15-4913-BED4-87573F1B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7C4-3881-46BF-9350-A63659A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AC8-7B8E-42E3-A9C7-5090BFF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8EB-218B-4421-A01C-3AA0D51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FC90-6A93-4191-923F-9D52DB24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3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2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Raphs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linear systems may also be solved using the Newton-Raphson method for multipl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wo-variable system, the Taylor series approximation and resulting Newton-Raphson equation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533520" y="3657600"/>
                <a:ext cx="8001000" cy="27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num>
                            <m:den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  <m:f>
                            <m:num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¶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−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i</m:t>
                                  </m:r>
                                </m:sub>
                              </m:sSub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num>
                            <m:den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f>
                                <m:num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,</m:t>
                                      </m:r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¶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Progra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209680" y="1038240"/>
            <a:ext cx="51055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the difference between the Gauss-Seidel and Jacobi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how to assess diagonal dominance and knowing what it me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ing how relaxation can be used to improve convergence of iterative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how to solve systems of nonlinear equations with successive substitution and Newton-Raph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auss-Seidel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uss-Seidel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ost commonly used iterative method for solving linear algebraic equations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={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solves each equation in a system for a particular variable, and then uses that value in later equations to solve later variables.  For a 3x3 system with nonzero elements along the diagonal, for example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values are found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3200400" y="4487760"/>
                <a:ext cx="2617920" cy="23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Jacobi Ite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acobi it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imilar to the Gauss-Seidel method, except the j-1th information is used to update all variables in the jth ite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uss-Se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ig1201"/>
          <p:cNvPicPr/>
          <p:nvPr/>
        </p:nvPicPr>
        <p:blipFill>
          <a:blip r:embed="rId1"/>
          <a:stretch/>
        </p:blipFill>
        <p:spPr>
          <a:xfrm>
            <a:off x="3948120" y="2987640"/>
            <a:ext cx="4662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nverg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vergence of an iterative method can be calculated by determining the relative percent change of each element in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.  For example, for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 in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eration,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hod is ended when all elements have converged to a set toler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3335400" y="3657600"/>
                <a:ext cx="2760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agonal Domina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uss-Seidel method may diverge, but if the syste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gonally domin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will definitely conve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onal dominance me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886200" y="3505320"/>
                <a:ext cx="13795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¹</m:t>
                    </m:r>
                    <m:r>
                      <m:t xml:space="preserve">i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Program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1" name="Picture 4" descr="fig1202"/>
          <p:cNvPicPr/>
          <p:nvPr/>
        </p:nvPicPr>
        <p:blipFill>
          <a:blip r:embed="rId1"/>
          <a:stretch/>
        </p:blipFill>
        <p:spPr>
          <a:xfrm>
            <a:off x="1981080" y="1066680"/>
            <a:ext cx="50547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elax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hance convergence, an iterative program can introduc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lax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the value at a particular iteration is made up of a combination of the old value and the newly calculated value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weighting factor that is assigned a value between 0 and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1: under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: no 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&lt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≤2: overrel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3048120" y="3124080"/>
                <a:ext cx="2860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λ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b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e>
                    </m:d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onlinear Syst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linear systems can also be solved using the same strategy as the Gauss-Seidel method - solve each system for one of the unknowns and update each unknown using information from the previous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ccessive substit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8:41Z</dcterms:modified>
  <cp:revision>32</cp:revision>
  <dc:subject/>
  <dc:title>Chapter 1</dc:title>
</cp:coreProperties>
</file>