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C15-37FF-43CB-B942-27DADA06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72C-0588-45FC-A2D1-F143873D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E2F-0483-4CC9-85C0-6D105B32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D820-113E-48A6-A03A-A4EE97B1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D606-13CC-4FAF-8892-22F85A0A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491-9071-4B09-BA29-692000C9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68F-CB6D-4742-B7A8-436D760A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6684-562F-4B4F-B606-DA31C1E2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221-C19C-4F5B-803E-8060AE69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AC65-0D20-4846-B628-3FFFB6F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A38-2CC9-4CED-82FB-D3C44B04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9F7-42E9-417A-A987-EBF2CDBA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BE5-E1F8-4017-9DAE-C9BC940C9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3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 Inverse and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built-in functions to compute both norms and condition numb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m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rm of vect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y number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fro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the Euclidean n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m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a norm of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1, 2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‘fro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the Frobenius nor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condition number of vect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matrix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the norm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determine the matrix inverse in an efficient manner based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matrix inverse can be used to assess stimulus-response characteristics of engineering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meaning of matrix and vector norms and how they are comp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norms to compute the matrix condition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he magnitude of the condition number can be used to estimate the precision of solutions of linear algebraic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Invers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if a matrix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square, there is another matrix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lled the inverse of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, for which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=[I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verse can be computed in a column by column fashion by generating solutions with unit vectors as the right-hand-side const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827360" y="4867200"/>
                <a:ext cx="56401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=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m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0</m:t>
                                        </m:r>
                                      </m:e>
                                    </m:mr>
                                    <m:mr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</m:mr>
                                  </m:m>
                                </m:e>
                              </m:d>
                            </m:e>
                          </m:mr>
                        </m:m>
                      </m:e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e1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Inverse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all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ctorization can be used to efficiently evaluate a system for multiple right-hand-side vectors - thus, it is ideal for evaluating the multiple unit vectors needed to compute the in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40384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timulus-Response Comput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ystems can be modeled as a linear combination of equations, and thus written as a matrix equa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response can thus be found using the matrix in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90920" y="3200400"/>
                <a:ext cx="4387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Interactions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sponse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timul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 and Matrix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real-valued function that provides a measure of the size or “length” of multi-component mathematical entities such as vectors and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norms and matrix norms may be computed differ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vector {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of siz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rm 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examples of vect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rm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1397160"/>
            <a:ext cx="685800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123920" y="3886200"/>
                <a:ext cx="6800760" cy="23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:sum of the absolute values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:Euclidian norm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ength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</m:nary>
                            </m:e>
                          </m:rad>
                        </m:e>
                      </m:mr>
                      <m:mr>
                        <m:e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=¥</m:t>
                          </m:r>
                          <m:r>
                            <m:rPr>
                              <m:lit/>
                              <m:nor/>
                            </m:rPr>
                            <m:t xml:space="preserve">:maximum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magnitude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¥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1905120"/>
                <a:ext cx="22669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Nor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atrix norms for a matrix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include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eigenvalue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38160" y="1828800"/>
                <a:ext cx="5248440" cy="32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column-sum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j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Frobenius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</m:e>
                                  </m:nary>
                                </m:e>
                              </m:nary>
                            </m:e>
                          </m:rad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row-sum norm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¥</m:t>
                              </m:r>
                            </m:sub>
                          </m:sSub>
                          <m:r>
                            <m:t xml:space="preserve">=</m:t>
                          </m:r>
                          <m:limLow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x</m:t>
                              </m:r>
                            </m:e>
                            <m:lim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  <m:r>
                                <m:t xml:space="preserve">≤</m:t>
                              </m:r>
                              <m:r>
                                <m:t xml:space="preserve">n</m:t>
                              </m:r>
                            </m:lim>
                          </m:limLow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j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nary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spectral norm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2 norm</m:t>
                          </m:r>
                          <m:r>
                            <m:t xml:space="preserve">)</m:t>
                          </m:r>
                        </m:e>
                        <m:e>
                          <m:sSub>
                            <m:e>
                              <m:d>
                                <m:dPr>
                                  <m:begChr m:val="‖"/>
                                  <m:endChr m:val="‖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ax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x Condition Numbe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rix condition numb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is obtained by calculating 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=|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·|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an be shown that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error of the norm of the computed solution can be as large as the relative error of the norm of the coefficients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multiplied by the condition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oefficients of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are know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git precision, the solution 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may be valid to only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d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 dig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276720" y="2781360"/>
                <a:ext cx="26049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DX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Cond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</m:e>
                    </m:d>
                    <m:f>
                      <m:num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DA</m:t>
                            </m:r>
                          </m:e>
                        </m:d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8:30Z</dcterms:modified>
  <cp:revision>31</cp:revision>
  <dc:subject/>
  <dc:title>Chapter 1</dc:title>
</cp:coreProperties>
</file>